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BB0-268D-4CB1-88AF-F41012D2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1B1-579C-453C-8070-A01963E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CB2-A516-4075-B716-DBEE1B52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887-254A-434A-B243-D2F966FD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D4A-688B-4E1D-8A57-06998784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497-C09B-4A95-92B0-F78704E3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EAC-B569-422D-8B1B-5CB39C0D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CE6-A615-4AA6-9E28-75661C1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1F9-8F4B-412C-8F73-AC9EBD06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548-6CB7-469F-BECC-FEE08C6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8AD-470C-4501-96CB-4AD3846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681-D91C-4C69-9CB8-EE2F2B6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C485-5383-498F-9FC4-D66900D9004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8760" y="1219320"/>
          <a:ext cx="8286480" cy="5121000"/>
        </p:xfrm>
        <a:graphic>
          <a:graphicData uri="http://schemas.openxmlformats.org/drawingml/2006/table">
            <a:tbl>
              <a:tblPr/>
              <a:tblGrid>
                <a:gridCol w="4829040"/>
                <a:gridCol w="442800"/>
                <a:gridCol w="804960"/>
                <a:gridCol w="1363680"/>
                <a:gridCol w="846000"/>
              </a:tblGrid>
              <a:tr h="182520"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исслед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й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ные  исследования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химико-микроскоп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ат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лог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ая иммунология (исследования наличия антигенов и антител к ПБ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би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актериологические исследования на туберкулез (культивирование, идентификация, чувстви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ределение лекарственной чувствительности микобактерий туберкулеза на питательных сред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генет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ределение лекарственной чувствительности микобактерий туберкулеза по генетическим маркер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молекулярно-генетических исследований с целью выявления ДНК-туберкулё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55800" rIns="558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токсикологические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Прямоугольник 10"/>
          <p:cNvSpPr/>
          <p:nvPr/>
        </p:nvSpPr>
        <p:spPr>
          <a:xfrm>
            <a:off x="647640" y="609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300 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боратор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4480" y="1523880"/>
          <a:ext cx="8915400" cy="5121360"/>
        </p:xfrm>
        <a:graphic>
          <a:graphicData uri="http://schemas.openxmlformats.org/drawingml/2006/table">
            <a:tbl>
              <a:tblPr/>
              <a:tblGrid>
                <a:gridCol w="5116320"/>
                <a:gridCol w="496800"/>
                <a:gridCol w="989280"/>
                <a:gridCol w="988920"/>
                <a:gridCol w="132408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химические автоматические анализ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6) - с модулем определения электрол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нефелометры для определения специфических бел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электролитов - ионселекти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кислотно-щелочного состояния (КЩ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9) - с модулем определения электрол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глюкозы и(или) лактата энзиматические ампероме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гликированного гемоглоб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для 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2) – с функцией иммуно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2) – системы капиллярного электрофо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шетные фотометры (ридеры)  для иммуноферментного анализа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для 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4) – «открытые системы» для стандартных имунологических  планш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иммунохемилюминесцентные анализ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лификаторы (термоциклеры) для полимеразной цепной реакции (ПЦР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26) – амплификаторы в режиме «real-time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иллюминат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для секвенирования нуклеиновых кислот (секвенатор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10"/>
          <p:cNvSpPr/>
          <p:nvPr/>
        </p:nvSpPr>
        <p:spPr>
          <a:xfrm>
            <a:off x="64764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0920" y="1523880"/>
          <a:ext cx="8642160" cy="4937400"/>
        </p:xfrm>
        <a:graphic>
          <a:graphicData uri="http://schemas.openxmlformats.org/drawingml/2006/table">
            <a:tbl>
              <a:tblPr/>
              <a:tblGrid>
                <a:gridCol w="4964040"/>
                <a:gridCol w="496800"/>
                <a:gridCol w="988920"/>
                <a:gridCol w="989280"/>
                <a:gridCol w="120312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выделения автоматического нуклеиновых кисл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бактериологические для идентификации микроорганизмов и определения их чувствительности к антибактериальным препара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бактериологические для гемокультур (типа BACTE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для анаэробного культив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средова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ксы биологической 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компонентные отражательные фотометры для анализа мочи с ручной загруз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 мочи с программируемой загрузкой проб и тест-полос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анализаторы осадка мо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оидные осм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тографы жидкостные и га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омно-адсорбционные спектр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пектр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е и полуавтоматические устройства для приготовления и(или) окраски маз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и для деионизаци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10"/>
          <p:cNvSpPr/>
          <p:nvPr/>
        </p:nvSpPr>
        <p:spPr>
          <a:xfrm>
            <a:off x="647640" y="685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274680"/>
          <a:ext cx="8305560" cy="6451560"/>
        </p:xfrm>
        <a:graphic>
          <a:graphicData uri="http://schemas.openxmlformats.org/drawingml/2006/table">
            <a:tbl>
              <a:tblPr/>
              <a:tblGrid>
                <a:gridCol w="761760"/>
                <a:gridCol w="1524240"/>
                <a:gridCol w="1747800"/>
                <a:gridCol w="1068480"/>
                <a:gridCol w="1601640"/>
                <a:gridCol w="1601640"/>
              </a:tblGrid>
              <a:tr h="39204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оки т.5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вида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абораторное исследование (Л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 выполнения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стема учета статистических единиц (формула расче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ЧАНИЕ 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шифро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истических един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0600"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= 1.1+1.2+1.3+1.4+1.5+1.6+1.7+1.8+1.9+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1720">
                <a:tc rowSpan="21"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21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МИКРОСКОПИЧЕСКИЕ (Общеклинически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линический) анализ моч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10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10/11 (по числу определяемых параметров на приборе)=10/1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Общие свойства (цвет,        прозрач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тносительная плот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Обнаружение бел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Обнаружение глюкоз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Определение кетоновых т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Определение кров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пределение уробилинои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Определе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лируб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Определение лейкоцитов, в т.ч. Микроскопия осад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белка в моч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глюкозы в моч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по Нечипор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по Зимницк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рение относит. плотности и кол-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8=8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= 1 порция мочи из 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 проста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рмогра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5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/ Микроско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4=4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консистенция, запах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р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Вязкост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Микроскоп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ашенный 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:  по запросу клиници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rowSpan="8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8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яемое мочеполовых орган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окализац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арат, окрашенный по Грам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патогенные гри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(клинический) анализ к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4"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9=9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консистенция, запа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Реакция на скрытую кров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Реакция на стеркобил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Реакция на билиру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2400" marR="32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57200" y="1143000"/>
          <a:ext cx="8058240" cy="4730760"/>
        </p:xfrm>
        <a:graphic>
          <a:graphicData uri="http://schemas.openxmlformats.org/drawingml/2006/table">
            <a:tbl>
              <a:tblPr/>
              <a:tblGrid>
                <a:gridCol w="603360"/>
                <a:gridCol w="1479600"/>
                <a:gridCol w="1830240"/>
                <a:gridCol w="1036800"/>
                <a:gridCol w="1554120"/>
                <a:gridCol w="1554120"/>
              </a:tblGrid>
              <a:tr h="303120">
                <a:tc rowSpan="11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1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Микроскопия нативного препа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Микроскопия с суданом и метиленовым син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Микроскопия с Люгол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бнаружение яиц гельми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Обнаружение простей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к 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льминтов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в кале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коб на энтеробио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нгилоидо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клещ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rowSpan="9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9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ий (клинический) анализ мокро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5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4=4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консистенц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Натив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Окрашенный препа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Исследование на эластичные волок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4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ыявление КУМ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сидер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спинномозговой жидкости/выпотных жидко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3=3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Общие свойства (объем, цвет, примес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Химическое исследование (рН, белок, кров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Микроскоп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3080" y="104760"/>
          <a:ext cx="8458200" cy="675180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1898640"/>
                <a:gridCol w="1087560"/>
                <a:gridCol w="1631880"/>
                <a:gridCol w="1630440"/>
              </a:tblGrid>
              <a:tr h="130320">
                <a:tc rowSpan="15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5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МА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(клинический) анализ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матологические анализаторы (ГА) на 16-23 и более параметр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проба×7=7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Гемогло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Эритр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Лейк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Тромбоциты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се расчетные показ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Лейкоцитарная форму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СОЭ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икулоци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анализаторе или окраска в пробир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оглоб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матокри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й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показа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 измеряемые (не на Г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маляри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×2=2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Толстая капл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Мазок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кле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елогра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Т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 или жидкостная цитоло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стекло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rowSpan="5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5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химия крови и мочи, гормоны, гликированный гемоглоб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 не учитываются (исключены из отчета)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зы и рН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яемый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ные показатели не учитываются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карственный мониторин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/ хроматограф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яемый тест (точка)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апиллярной крови на анализатор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роведении глюкозотолерантного теста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 rowSpan="4"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4"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агулология, факторы гемостаза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дим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протромбина с МНО 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лчаночный антикоагулян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 свертывания в капиллярной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мет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емя кровотечения в капиллярной кров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чной мет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02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комаркеры, специфические белки, аллергены, аутоантитела, иммуногематология,  иммунный стат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ОННАЯ ИММУНОЛОГИЯ</a:t>
                      </a:r>
                      <a:r>
                        <a:rPr b="0" lang="ru-RU" sz="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ции, серолог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04920" y="34920"/>
          <a:ext cx="8534160" cy="6840720"/>
        </p:xfrm>
        <a:graphic>
          <a:graphicData uri="http://schemas.openxmlformats.org/drawingml/2006/table">
            <a:tbl>
              <a:tblPr/>
              <a:tblGrid>
                <a:gridCol w="380880"/>
                <a:gridCol w="1219320"/>
                <a:gridCol w="2243160"/>
                <a:gridCol w="1172880"/>
                <a:gridCol w="1758960"/>
                <a:gridCol w="1758960"/>
              </a:tblGrid>
              <a:tr h="479520">
                <a:tc rowSpan="15"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15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КРОБИОЛОГИЧЕСКИЕ</a:t>
                      </a:r>
                      <a:r>
                        <a:rPr b="1" lang="ru-RU" sz="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но-патогенные аэробные и факультативно анаэробные микроорганиз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игатно-анаэробные микроорганиз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огенные гри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наружение микроорганизмов   в   нативных/окрашенных препарат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оба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7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отдельных видов условно-патогенных микроорганизмов (гемофилы, менингококки, листерии и т.д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ое дополнительное исследование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тогенные эшерихии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геллы и сальмонеллы в кал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оса на возбудителя дифтер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зева на бактерии коклюша и паракоклю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.спинномозговой жидкости на менингокок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 на дисбактериоз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ЛИ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енное исследование биологических жидко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-спектрометр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культур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на бактериологическом анализатор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отдельно определяем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-систем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мунохроматографическое исслед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-система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3240">
                <a:tc rowSpan="6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6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чувствительности к антибиотикам, сульфаниламидам, дезинфектантам и другим химиотерапевтическим препара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ко-диффузионным метод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чашка Петри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т – систе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 разведения в бульоне или плотной питательной сред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препарат=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концентрации антибиотиков в биологической жидк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чувствительности микроорганизмов к бактериофаг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готип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3400" marR="23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66760" y="228600"/>
          <a:ext cx="8610480" cy="6400800"/>
        </p:xfrm>
        <a:graphic>
          <a:graphicData uri="http://schemas.openxmlformats.org/drawingml/2006/table">
            <a:tbl>
              <a:tblPr/>
              <a:tblGrid>
                <a:gridCol w="723960"/>
                <a:gridCol w="1447560"/>
                <a:gridCol w="1670040"/>
                <a:gridCol w="1192320"/>
                <a:gridCol w="1789200"/>
                <a:gridCol w="1787400"/>
              </a:tblGrid>
              <a:tr h="523800">
                <a:tc rowSpan="7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7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нитарно-микробиологические исследования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ду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риал и инструментарий на стериль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е микробной обсемененности предметов внешней сред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в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ологический контроль операционного поля и рук хирур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санитарно-бактериологические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Л – тес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73360">
                <a:tc rowSpan="3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ГЕНЕТ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биологические исследования (инфекционных агенто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Ц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 (1показатель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7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ярно-биологические исследования (неинфекционных агенто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ические иссле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тест (1показатель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КО-ТОКСИКОЛОГИЧЕСК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котические и психотропные веще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аторы/ ручные методы (иммунохроматограф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измерение теста (1показателя)=1 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95360" y="614520"/>
            <a:ext cx="815328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одной пробе исследуются яйца гельминтов и простейшие, количество ЛИ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Для лабораторий, выполняющих микроскопию КУМ в рамках химико-микроскопических (общеклинических) исследований, считать это исследования к «микробиологическим исследованиям» в строку 1.8 и выносить количество КУМ в таблицу 5301 в строку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Для микробиологических лабораторий или отделов микроскопия КУМ, в том числе люминесцентная, учитывается в «микробиологические исследования в строку 1.8 и выносится отдельно в таблицу 5301 в строку 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счетные показатели в биохимических и других исследованиях ИСКЛЮЧЕНЫ из отчета и НЕ УЧИТЫВ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итывать число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ифил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формировании отчета и заполнении таблицы 5301 формы 30 РОССТАТ следующим образ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пециф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ы (строка 6) учитывать только нетрепонемные тесты – РМП, РП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фическ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сты (строка 7) учитывать трепонемные тесты – ИФА (IgM, IgG, суммарные ат), РПГА, РИФ, РИБТ, иммунобл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ные ссыл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Инструкция о порядке учета микробиологических исследований в клинико-диагностических (бактериологических) лабораториях лечебно- профилактических учреждений" от 1988 г. N 06- 14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каз Роспотребнадзора от 5 декабря 2005 г. N 787 «Об утверждении инструкций к формам статистической отчетности» (Приложение №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ная ссылк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каз МЗ РФ от 9 июня 2003 г. № 231 «Об утверждении Отраслевого стандарта «Протокол ведения больных. Дисбактериоз кишечни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ЧАНИЕ ОБЩЕ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личество выполненных исследовани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КЛЮЧАЮТСЯ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либровки, контроли, перестановки, пересчеты, пересмотры, раститровки, обработка кров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0"/>
          <p:cNvSpPr/>
          <p:nvPr/>
        </p:nvSpPr>
        <p:spPr>
          <a:xfrm>
            <a:off x="5335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исследований таблицы 53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752480"/>
          <a:ext cx="8839440" cy="4019760"/>
        </p:xfrm>
        <a:graphic>
          <a:graphicData uri="http://schemas.openxmlformats.org/drawingml/2006/table">
            <a:tbl>
              <a:tblPr/>
              <a:tblGrid>
                <a:gridCol w="5896080"/>
                <a:gridCol w="504720"/>
                <a:gridCol w="914400"/>
                <a:gridCol w="1524240"/>
              </a:tblGrid>
              <a:tr h="76212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положительными результа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анализов (табл. 5300, гр. 3) 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:  на  фенилкетонурию (из стр. 1.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й гипотиреоз (из стр. 1.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Ч-инфекцию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е гепатиты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наркотических и психотропных веществ (из стр. 1.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ецифические тесты на сифилис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фические тесты на сифилис (из стр. 1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ярно-биологические исследования (из стр. 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9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я на кислотоустойчивые микроорганизмы (КУМ) (из стр. 1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вы на туберкулез (из стр. 1.8.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0"/>
          <p:cNvSpPr/>
          <p:nvPr/>
        </p:nvSpPr>
        <p:spPr>
          <a:xfrm>
            <a:off x="647640" y="6858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302 «Оснащение лаборатории оборудование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0440" y="1447920"/>
          <a:ext cx="8763120" cy="4754520"/>
        </p:xfrm>
        <a:graphic>
          <a:graphicData uri="http://schemas.openxmlformats.org/drawingml/2006/table">
            <a:tbl>
              <a:tblPr/>
              <a:tblGrid>
                <a:gridCol w="5000760"/>
                <a:gridCol w="507960"/>
                <a:gridCol w="1012680"/>
                <a:gridCol w="1011240"/>
                <a:gridCol w="1230480"/>
              </a:tblGrid>
              <a:tr h="36540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 аппаратов и оборудования - 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йству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моноку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бинокуля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люминесцен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тереоскоп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инверт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глобинометры фотоэлек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риметры фотоэлек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ктрофото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 анализаторы для подсчета форменных элемент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дифференцировки по 5 популя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подсчета ретикул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9) с модулем для приготовления мазков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чные цитофлуориме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агулометры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агулогические анализаторы с автоматически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ы агрегации тромбоц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эласт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руемые биохимические фотометры с ручным доз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15) - многокан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Anantoly Kochetov</cp:lastModifiedBy>
  <dcterms:modified xsi:type="dcterms:W3CDTF">2017-11-26T14:23:11Z</dcterms:modified>
  <cp:revision>6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