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F8C8-3510-4647-8B17-32D382D19A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A2C7-91E1-40F4-882E-1CC96F79E6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52720" y="9375840"/>
            <a:ext cx="294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87BD40-81C5-48DF-98BA-B7A769DAF9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5040" y="774720"/>
            <a:ext cx="4995720" cy="37479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07920" y="4743360"/>
            <a:ext cx="49816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EA4B-06C3-4EC3-AEC3-374B1C23BA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5C04-BBAA-495B-AA4C-10DDCFBE37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1CD2-9369-489C-A05B-7E2B7382D8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5B9-9E94-4A02-9B56-6E824A8F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BB2B-71C5-4CF3-A5DE-C5074850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44AB-78CE-4691-9F7C-000CFA98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1FE0-5E85-40E0-A2C2-506D5EEFD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B5A3-7633-43B6-963A-98196293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F49D-F3DF-4727-B660-540A94FA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A768-C879-4D32-909F-48136EC2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ED99-C672-4695-A426-B891FC11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FC2F-CE6A-4F5D-A156-C21BCBFD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E7F4-56E1-4B95-9EF4-D7B58123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633D-9CAB-4A9E-96BD-87C098EF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155D-CD49-456E-9309-136187D2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6390-F675-40EC-A6D0-9E9DDF7D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D5C0-BB29-4D71-B599-B917475D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D26A-103B-44AB-BE3C-22E4E12B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8E95-DBE9-4367-AC3E-6FBEC161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1459-708B-4EAD-AB5B-C2FA8927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3A0A-EF8E-4DAE-AA59-3F14337E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B580-29C4-4C2A-BF6D-F5920251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6280-B7BD-4A76-A5C4-4500DCBE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A44E-0BAE-4E7A-9F5C-C55BC4E9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88FB-CF21-4FC4-9740-6A2BB57F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F3A6-0ABC-4114-ABE0-B14AFAF2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0D70-9B2E-45A5-BB06-7E1B9E16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1DD8-8386-47E8-B234-D135A67DDD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63BA-DF71-46B5-BDFC-1F01311FD2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сведений о работе скорой медицинской помощи в форме федерального статистического наблюдения № 30 «Сведения о медицинской организации» за 2017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бригадами скорой медицинской помощи при выездах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медицинская помощь при выездах по возрастам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бригад скорой медицинской помощ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помощь общепрофильными фельдшерскими бригадами – медицинская эвакуация, из них сельских жителей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7120" y="121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, из них сельских жителей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ездов бригад скорой медицинской помощи по времени доезда и затраченному на один выезд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57120" y="121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 «Число станций (отделений) скорой медицинской помощи, оснащенных автоматизированной системой управления приема и обработки вызовов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5345280"/>
            <a:ext cx="80154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3 показывается число станций (отделений) скорой медицинской помощи по числу выездов в год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1280" y="1628640"/>
          <a:ext cx="7561080" cy="3786480"/>
        </p:xfrm>
        <a:graphic>
          <a:graphicData uri="http://schemas.openxmlformats.org/drawingml/2006/table">
            <a:tbl>
              <a:tblPr/>
              <a:tblGrid>
                <a:gridCol w="4054320"/>
                <a:gridCol w="1389240"/>
                <a:gridCol w="211752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– 1, нет - 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ездов в год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Заголовок 1"/>
          <p:cNvSpPr/>
          <p:nvPr/>
        </p:nvSpPr>
        <p:spPr>
          <a:xfrm>
            <a:off x="755640" y="47628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. Категорийность станции (отделения) скорой медицинской помощ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. Категорийность станции (отделения) скорой медицинской помощ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60 заполняют станции скорой медицинской помощи и медицинские организации, имеющие в своем составе отделения скорой медицинской помощи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 (межформенный контроль)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30 табл. 1060 стр.1 гр.3 + стр. 2 гр. 3 + стр.3 гр. 3 + стр. 4 гр. 3 + стр. 5 гр. 3 + стр. 6 гр. 3 + стр. 7 гр. 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форма 47 табл.0400 стр.1 гр. 3 + стр.1 гр.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. Должности и физические лица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8360" y="1500120"/>
          <a:ext cx="8462880" cy="4773600"/>
        </p:xfrm>
        <a:graphic>
          <a:graphicData uri="http://schemas.openxmlformats.org/drawingml/2006/table">
            <a:tbl>
              <a:tblPr/>
              <a:tblGrid>
                <a:gridCol w="1603440"/>
                <a:gridCol w="857160"/>
                <a:gridCol w="1000080"/>
                <a:gridCol w="1251000"/>
                <a:gridCol w="1249200"/>
                <a:gridCol w="1251000"/>
                <a:gridCol w="1251000"/>
              </a:tblGrid>
              <a:tr h="315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но-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. Должности и физические лица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214280"/>
            <a:ext cx="83581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Прочий персонал станции (отделения) скорой медицинской помощи – это водители и прочий персона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чий персонал включают фармацевтов, провизоров, специалистов с немедицинским образование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), так и целыми числа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. Должности и физические лица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760" y="15001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05 + 30.1105.1.06 + 30.1105.1.07. Число штатных должносте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05 + 30.1105.2.06 + 30.1105.2.07. Число занятых должносте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05 + 30.1105.3.06 + 30.1105.3.07. Число физических лиц основных работников на занятых должностях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. Медицинская помощь, оказанная бригадами скорой медицинской помощи при выезда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14200" y="1214280"/>
          <a:ext cx="8642520" cy="5526360"/>
        </p:xfrm>
        <a:graphic>
          <a:graphicData uri="http://schemas.openxmlformats.org/drawingml/2006/table">
            <a:tbl>
              <a:tblPr/>
              <a:tblGrid>
                <a:gridCol w="2160720"/>
                <a:gridCol w="506520"/>
                <a:gridCol w="663480"/>
                <a:gridCol w="885960"/>
                <a:gridCol w="819000"/>
                <a:gridCol w="714240"/>
                <a:gridCol w="500040"/>
                <a:gridCol w="714600"/>
                <a:gridCol w="857160"/>
                <a:gridCol w="820800"/>
              </a:tblGrid>
              <a:tr h="22716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-зированн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08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езд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медицинская помощь при выезда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в возрасте 55 лет и старш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в возрасте 60 лет и старш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№ 388н  от 20 июня 2013 г.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00040" y="642960"/>
            <a:ext cx="82868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Федеральной службы государственной статистики (Росстата) № 866 от 27 декабря 2016  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статистического инструментария для организации Министерством здравоохранения Российской Федерации федерального статистического наблюдения в сфере охраны здоровья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. Медицинская помощь, оказанная бригадами скорой медицинской помощи при выезд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28760" y="1999800"/>
            <a:ext cx="82296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ездов бригадами скорой медицинской помощи (стр. 1 гр. 3) не включаются безрезультатные выезд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. Медицинская помощь, оказанная бригадами скорой медицинской помощи при выездах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8760" y="21430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ездов к детям (форма 30 табл. 2120 стр. 2 гр. 3) не должно быть больше числа детей, которым оказана медицинская помощь при выездах (форма 30 табл. 2121    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. Медицинская помощь, оказанная бригадами скорой медицинской помощи при выездах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21430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ездов по поводу госпитализации (форма 30 табл. 2120 стр. 1 гр. 10) не должно быть больше числа госпитализированных лиц (форма 30 табл. 2120 стр. 3 гр. 10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. Медицинская помощь, оказанная бригадами скорой медицинской помощи при выездах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28760" y="21430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ездов в связи с медицинской эвакуации (форма 30 табл. 2120 стр. 1 гр. 7) = форма 47 табл. 0400 стр. 1 гр. 8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. Медицинская помощь, оказанная бригадами скорой медицинской помощи при выездах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28400" y="2143080"/>
            <a:ext cx="835812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госпитализированных лиц бригадами скорой медицинской помощи (форма 30 табл. 2120 стр. 3 гр. 10) = форма 47 табл. 0400 стр. 1 гр. 10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при выездах, всего  1 _________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(55 лет и старше)  5 ______________, мужчины (60 лет и старше)  6 _______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5280" y="1341360"/>
            <a:ext cx="8424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при выездах всего (форма 30 табл. 2121 стр. 1 гр. 1) =  форма 30 табл. 2121 стр. 1 гр. 3 + форма 30 табл. 2121 стр. 1 гр. 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при выездах, всего (форма 30 табл. 2121 стр. 1 гр. 1) =  форма 30 табл. 2120 стр. 3 гр. 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9280" y="1413000"/>
          <a:ext cx="8715600" cy="5256000"/>
        </p:xfrm>
        <a:graphic>
          <a:graphicData uri="http://schemas.openxmlformats.org/drawingml/2006/table">
            <a:tbl>
              <a:tblPr/>
              <a:tblGrid>
                <a:gridCol w="4429080"/>
                <a:gridCol w="509760"/>
                <a:gridCol w="1017720"/>
                <a:gridCol w="1306440"/>
                <a:gridCol w="1452600"/>
              </a:tblGrid>
              <a:tr h="9144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лосуточ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помощь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000080" y="357120"/>
            <a:ext cx="778680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№ 388н от 20 июня 2013  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приказа Министерства здравоохранения Российской Федерации № 33н от 22 января 2016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0920" y="285480"/>
            <a:ext cx="82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3640" y="1500120"/>
            <a:ext cx="833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50012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571400"/>
            <a:ext cx="840744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4200" y="16426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78920" y="1571400"/>
            <a:ext cx="847908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78920" y="1571400"/>
            <a:ext cx="847908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скорой медицинской помощи (форма 30 табл. 2200 стр. 1 гр. 5 + стр. 2 гр. 5 + стр. 3 гр. 5 +   стр. 4 гр. 5) =  форма 30 табл. 2120 стр. 3 гр. 3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185724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бригады скорой медицинской помощ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.1.03. + 30.2200.1.2.03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.1.04. + 30.2200.1.2.0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.1.05. + 30.2200.1.2.05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500120"/>
            <a:ext cx="83012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3. = 30.2200.2.1.03. + 30.2200.2.2.03. + 30.2200.2.3.03. + 30.2200.2.4.03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4. = 30.2200.2.1.04. + 30.2200.2.2.04. + 30.2200.2.3.04. + 30.2200.2.4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5. = 30.2200.2.1.05. + 30.2200.2.2.05. + 30.2200.2.3.05. + 30.2200.2.4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1500120"/>
            <a:ext cx="83012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экстренные консультатив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3.03. = 30.2200.3.1.03. + 30.2200.3.2.03. + 30.2200.3.3.03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3.04. = 30.2200.3.1.04. + 30.2200.3.2.04. + 30.2200.3.3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3.05. = 30.2200.3.1.05. + 30.2200.3.2.05. + 30.2200.3.3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28760" y="42840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лиц, которым оказана помощь общепрофильными фельдшерскими бригадами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медицинская эвакуация пациентов 1 ______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 амбулаторных условиях 1 ___________, из них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их жителей  2 ____________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амбулаторная медицинская помощь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амбулаторно и при выездах (форма 47 табл. 0400 стр.1 гр. 9) = форма 30 табл. 2120 стр. 3 гр. 3 + табл. 2202 стр.1 гр.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. Число выездов бригад скорой медицинской помощи по времени доезда и затраченному на один выезд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71680" y="1714680"/>
          <a:ext cx="8143560" cy="451152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404720"/>
                <a:gridCol w="140652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ездов бригад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один выез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ыз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рожно-транспортное происше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один выезд на вызо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. Число выездов бригад скорой медицинской помощи по времени доезда и затраченному на один выезд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28760" y="17146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ов бригад скорой медицинской помощи по времени доезда (табл. 2300 сумма строк гр. 3 и гр. 4) = число выездов бригад скорой медицинской помощи, затраченному на один выезд (табл. 2300 сумма строк    гр. 5 и гр.6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ов бригад скорой медицинской помощи по времени доезда (табл. 2300 сумма строк по гр. 3 и гр. 4) = число выполненных выездов (табл.2120 стр. 1 гр. 3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ов бригад скорой медицинской помощи, затраченному на один выезд (табл. 2300 сумма строк гр. 5 и гр.6) = число выполненных выездов (табл.2120 стр. 1 гр. 3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14200" y="571680"/>
          <a:ext cx="8643960" cy="59212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785880"/>
                <a:gridCol w="10713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 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е скор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ы в региональные сосудистые 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первичные сосудистые отд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 смерть наступила в автомобиле скорой  медицинск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ы в региональные сосудистые 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первичные сосудистые отд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ездов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за необоснованностью выз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ередано в другие медицинские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ездов бригад скорой медицинской помощи к пациентам, пострадавших в ДТП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в ДТП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:  со смертельным исходом до приезд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втомобиле 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ы в травмоцентры 1 и 2 уров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ездов по медицинскому обеспечению спортивных и других массовых мероприятий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 медицинской орган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85880" y="1752480"/>
            <a:ext cx="781848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9036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медицинскими работниками выездных бригад скорой медицинской помощи по месту вызова бригады, а также в транспортном средстве при медицинской эвакуац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82520" indent="-90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500120"/>
            <a:ext cx="8262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результатные выезд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лучаи, когд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а не оказалось на мест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ов был ложным (по данному адресу скорую медицинскую помощь не вызывали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йден адрес, указанный при вызов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казался практически здоровым и не нуждался в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умер до приезда бригады скорой медицинской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увезён до прибытия бригады скорой медицинской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бслужен врачом поликлиники до прибытия бригады скорой медицинской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тказался от помощи (осмотра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ов отменё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3440" y="2071800"/>
            <a:ext cx="826308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ано за необоснованностью вызов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переадресация непрофильных вызовов в другую медицинскую организац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500120"/>
            <a:ext cx="8301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ереданных в другие медицинские организации необоснованные вызова (строка 4.1. графа 3 и 4) следует расшифровать и предоставить в пояснительной записк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ов бригад скорой медицинской помощи к пациентам, пострадавшим в дорожно-транспортных происшествиях, ед. (строка 5 графа 3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00.5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341000"/>
            <a:ext cx="8301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1.03. = 30.5450.1.1.04. + 30.5450.1.1.05. + 30.5450.1.1.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2.03. = 30.5450.1.2.04. + 30.5450.1.2.05. + 30.5450.1.2.0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С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3.03. = 30.5450.1.3.04. + 30.5450.1.3.05. + 30.5450.1.3.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С для новорожденных и детей раннего возрас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3.1.03. = 30.5450.1.3.1.04.+30.5450.1.3.1.05.+ 30.5450.1.3.1.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4.03. = 30.5450.1.4.04. + 30.5450.1.4.05. + 30.5450.1.4.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23640" y="1341000"/>
            <a:ext cx="833436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1.03. + 30.5450.1.2.03. + 30.5450.1.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.1.04. + 30.5450.1.2.04. + 30.5450.1.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.1.05. + 30.5450.1.2.05. + 30.5450.1.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.1.06. + 30.5450.1.2.06. + 30.5450.1.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17 г. по сравнению с 2016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№ 752 от 1 декабря 2005 г.             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для транспортировки или санитарные автомобили оснащены аппаратом искусственной вентиляции легких, кислородным ингалятором, тележкой-каталкой со съемными кресельными носилками, приемным устройством для безопасной погрузки-выгрузки пациента, комплектом шин транспортных складных, фельдшерским набор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499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14240" y="1773360"/>
            <a:ext cx="794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скорая, в том числе скорая специализированная, медицинская помощь пациентам, которым не требуется круглосуточного медицинского наблюдения и леч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экстренной медицинской помощи или автомобили скорой медицинской помощи, предназначенные для проведения лечебных мероприятий скорой медицинской помощи силами общепрофильной врачебной (фельдшерской) бригады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С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реанимобили или автомобили скорой медицинской помощи, предназначенные для проведения лечебных мероприятий скорой медицинской помощи силами реанимационной или специализированной бригады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28760" y="42840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автоматизированной системой управления приема и обработки вызовов   1____________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1028"/>
          <p:cNvSpPr txBox="1"/>
          <p:nvPr/>
        </p:nvSpPr>
        <p:spPr>
          <a:xfrm rot="65400">
            <a:off x="1066680" y="1752480"/>
            <a:ext cx="7620120" cy="41148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Благодарю за внимание !</a:t>
            </a:r>
            <a:endParaRPr b="1" lang="en-US" sz="7200" spc="1" strike="noStrike">
              <a:ln w="0">
                <a:noFill/>
              </a:ln>
              <a:solidFill>
                <a:srgbClr val="ff3300">
                  <a:alpha val="50000"/>
                </a:srgbClr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l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ая отделением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499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14240" y="1773360"/>
            <a:ext cx="794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 осуществляется медицинскими работниками стационарного отделения скорой медицинской помощи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56800" y="213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28400" y="1142640"/>
            <a:ext cx="8235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ступлении пациента в медицинскую организацию для оказания скорой медицинской помощи в стационарных условиях в стационарном отделении скорой медицинской помощи осуществляется уточнение диагноза, диагностика, динамическое наблюдение и проведение лечебно-диагностических мероприятий на койках скорой медицинской помощи суточного пребывания и, при наличии медицинских показаний, краткосрочное лечение длительностью не более 3 суто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5280" y="171432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Vaio</cp:lastModifiedBy>
  <dcterms:modified xsi:type="dcterms:W3CDTF">2017-12-11T22:01:43Z</dcterms:modified>
  <cp:revision>244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