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ADA22-75E1-4117-8359-8E28FB07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31EBF-E9F2-4C85-B7A4-2E9BC3F4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94E2F-03B7-4174-9D19-D2F876F3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56133-99D7-4CCF-921D-C0832E3F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843E-6641-413E-A0B5-ECFE9CDF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AEC6-A8A5-4600-8140-94D5BB27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A57B-2D42-49DD-99EC-52BF494A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AF54-491A-4B59-9A34-0BB24F54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B630-A1CB-41C6-A0DD-FB53C72E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43EB-25F2-4F01-B7FC-C943E604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2152-AD51-4EEA-91B9-0CA96199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2BDB-8FDB-479F-A02C-2FA338AF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112F-7F13-4B25-8A4C-E7CCDE7A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BC66-2DEE-4483-A905-B579B73E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70DF-2814-4435-83CA-3EE21534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20C2-EAB8-430F-9458-B527DEB9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84D6-83DB-465C-87B8-5DDDC8C6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D8D32-6A4C-4340-A254-F7C48B6B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62154-15A4-4AFF-91DB-68E15AC9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50B57-8FE4-4190-82C2-73167F31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A04FE-84FB-4DB0-89C9-F40F0B0A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1125-9127-4626-81FC-2111DD33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F1091-326F-4FEA-910D-31929A81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5A72E-80F5-4CDE-82A4-53D59837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ADA7-F8DB-48FA-8EB6-E8F5D4B7EE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3BF2-27FE-4F16-BF1A-D150413FD7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ase.garant.ru/12178397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ase.garant.ru/12178397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80880" y="4419720"/>
            <a:ext cx="87631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ДЕЯТЕЛЬНОСТЬ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ДИЦИНСК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АЦИ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ОКАЗАНИ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ДИЦИНСКО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ОМОЩИ 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МБУЛАТОРНЫ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УСЛОВ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троке 1 указываются посещения среднего медицинского персонала на самостоятельном приеме во врачебных амбулаторно-поликлинических учреждениях, на врачебных и фельдшерских здравпунктах, ФАПах и фельдшерских пунктах, включая передви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я к среднему медицинскому персоналу учитываются при условии осуществления самостоятельного амбулаторного приема: фельдшерами, акушерками, в смотровых кабинетах, в кабинетах доврачебного приема, кабинетах неотложной помощи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унктах неотложной помощи на д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учитываются как  «посещение» среднего медперсонала лабораторий, рентгеновских, физиотерапевтических, лечебно-физкультурных и других вспомогательных отделений (кабинетов), где учету подлежит число отпущенных процедур (сделанных анализов, исследований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я к зубным врачам и гигиенистам стоматологическими в таблиц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1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920" y="990720"/>
          <a:ext cx="8458200" cy="91440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врачами пунктов (кабинетов) неотложной медицинской помощи на дому (из гр. 9 таблицы 2100):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(18 лет и старше) 1___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(0-17 лет) 2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70"/>
          <p:cNvSpPr/>
          <p:nvPr/>
        </p:nvSpPr>
        <p:spPr>
          <a:xfrm>
            <a:off x="152280" y="2286000"/>
            <a:ext cx="8839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 врачами пунктов (кабинетов) неотложной медицинской помощи, включая пункты на дому, в том случае, если пункт (кабинет) неотложной помощи организован в медицинской организации в соответствии с требованиями нормативных 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нкт  (кабинет) неотложной помощи  является структурным подразделением поликлиники и организован для оказания медицинской помощи при внезапных острых заболеваниях, обострении хронических заболеваний, неопасных для жизни и не требующих экстренной медицинской  помощ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татная численность персонала и режим работы пункта (кабинета) неотложной помощи устанавливается руководителем медицинской организации в соответствии с положением о работе пункта (кабинета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отложная помощь осуществляется в течение не более 2 часов после поступления обращения больного или иного лица об оказании неотложной медицинской помощи на дому либо от работника станции скорой медицинской помощ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10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1066680"/>
          <a:ext cx="8458200" cy="2073240"/>
        </p:xfrm>
        <a:graphic>
          <a:graphicData uri="http://schemas.openxmlformats.org/drawingml/2006/table">
            <a:tbl>
              <a:tblPr/>
              <a:tblGrid>
                <a:gridCol w="3352680"/>
                <a:gridCol w="838440"/>
                <a:gridCol w="914400"/>
                <a:gridCol w="1218960"/>
                <a:gridCol w="990720"/>
                <a:gridCol w="1143000"/>
              </a:tblGrid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к врачам центров здоровья и комплексные обсле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7 лет (из гр. 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 (из гр. 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(из табл. 2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мплексных обслед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Rectangle 214"/>
          <p:cNvSpPr/>
          <p:nvPr/>
        </p:nvSpPr>
        <p:spPr>
          <a:xfrm>
            <a:off x="380880" y="3581280"/>
            <a:ext cx="83822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ведения, указанные в строке 1 таблицы не должны превышать данные по строке 1 таблицы 2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ведения, указанные в 1-ой и 2-ой строке таблице, должны соответствовать отчету по форме №68 «Сведения о деятельности центров здоровья» за г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10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04920" y="1143000"/>
          <a:ext cx="8229600" cy="2332080"/>
        </p:xfrm>
        <a:graphic>
          <a:graphicData uri="http://schemas.openxmlformats.org/drawingml/2006/table">
            <a:tbl>
              <a:tblPr/>
              <a:tblGrid>
                <a:gridCol w="5751360"/>
                <a:gridCol w="1062000"/>
                <a:gridCol w="1416240"/>
              </a:tblGrid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сделано лицами старше трудоспособного возраста (из табл. 2100, стр.1, гр. 3)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по поводу заболеваний (из табл. 2100, стр.1, гр.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й врачами на дому всего (из табл. 2100, стр.1, гр. 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поводу заболеваний (из табл. 2100, стр.1, гр. 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158"/>
          <p:cNvSpPr/>
          <p:nvPr/>
        </p:nvSpPr>
        <p:spPr>
          <a:xfrm>
            <a:off x="380880" y="3886200"/>
            <a:ext cx="838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ведения, указанные в таблице не должны превышать данные по строке 1 таблицы 2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итываются посещения лиц старше трудоспособного возраста, то есть посещения женщин в возрасте 55 лет и старше и мужчин в возрасте 60 лет и старш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10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52280" y="838080"/>
          <a:ext cx="8763120" cy="53056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: амбулатор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696"/>
          <p:cNvSpPr/>
          <p:nvPr/>
        </p:nvSpPr>
        <p:spPr>
          <a:xfrm>
            <a:off x="4495680" y="3733920"/>
            <a:ext cx="441972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трока 1 должна быть больше суммы строк 2+3+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трока 5 должна быть равна сумме строк с 6 по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97"/>
          <p:cNvSpPr/>
          <p:nvPr/>
        </p:nvSpPr>
        <p:spPr>
          <a:xfrm>
            <a:off x="4495680" y="1676520"/>
            <a:ext cx="449604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под посещениями сельских жителей следует понимать посещения контингентов, постоянно проживающих в сельских поселениях сельских муниципальных образований, а также сельских населенных пунктов, входящие в состав городских поселений или городских округов, обратившихся к врачам данной организации для получения помощи в амбулаторных условиях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03"/>
          <p:cNvSpPr/>
          <p:nvPr/>
        </p:nvSpPr>
        <p:spPr>
          <a:xfrm>
            <a:off x="4495680" y="4343400"/>
            <a:ext cx="44197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сещения, выполненные передвижными подразделениями, указываются из общего числа посещений (по заболеваниям и с профилактическими и иными целям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04"/>
          <p:cNvSpPr/>
          <p:nvPr/>
        </p:nvSpPr>
        <p:spPr>
          <a:xfrm>
            <a:off x="7291800" y="3808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09"/>
          <p:cNvSpPr/>
          <p:nvPr/>
        </p:nvSpPr>
        <p:spPr>
          <a:xfrm>
            <a:off x="152280" y="6095880"/>
            <a:ext cx="876312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 графе 3 строка 1 должна быть равна сумме граф 7+8+11 по строке 1 таблицы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 графе 3 сумма строк 1+5 должна быть равна сумме граф 3+9 по строке 1 таблицы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11"/>
          <p:cNvSpPr/>
          <p:nvPr/>
        </p:nvSpPr>
        <p:spPr>
          <a:xfrm>
            <a:off x="4495680" y="5334120"/>
            <a:ext cx="4419720" cy="76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в таблицу включаются все посещения, выполненные к врачам стоматологам, указанные в таблице 2100 по строкам с 86 по 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2 «в неотложной форме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сещение по неотложной помощи – оказание неотложной медицинской помощи лицам, обратившимся с признаками неотложных состояний (при внезапных острых заболеваниях, состояниях, обострении хронических заболеваний, не опасных для жизни и не требующих экстренной медицинской помощи) в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ункт, отделение (кабинет) неотложной медицинской помощи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являющегося структурным подразделением поликлиники (врачебной амбулатории, центра общей врачебной практики (семейной медицины), а также на дому при вызове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3 «активных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сещение на дому считается активным, если оно проводится по инициативе врача. Как правило, активно наблюдаются пациенты с высокой температурой, гипертоническим кризом, больные со злокачественными новообразованиями, инфекционными заболеваниями, лица пожилого и старческого возраста, инвалиды с тяжелыми заболеваниями. Данный показатель должен составлять 15–20% от общего числа посещений на дому, что зависит от таких факторов, как соотношение первичных и повторных посещений больного; динамика и сезонность заболеваний; возможность госпитализаци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4 «по диспансерному наблюдению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испансерное наблюдение представляет собой динамическое наблюдение, в том числе необходимое обследование, за состоянием здоровья лиц, страдающих хроническими заболеваниями, функциональными расстройствами, иными состояниями, в целях своевременного выявления, предупреждения осложнений, обострений заболеваний, иных патологических состояний, их профилактики и осуществления медицинской реабилитации указанных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6 «медицинский осмотр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порядке целевого профилактического о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евые профилактические медицинские осмотры — медицинские осмотры (обследования), предпринятые с целью выявления определенных заболеваний на ранней стадии (новообразования, туберкулез, глаукома, сахарный диабет, сердечно-сосудистые заболевания и др.), охватывают различные группы организованного и неорганизованного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7 «диспансеризация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ать количество посещений, выполненных в ходе диспансеризации определенных групп населения(взрослые, дети – сироты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дения строки 6 в строку 7 не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8 «комплексный медицинский осмотр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центрах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плексные осмотры ВОВ (углубленная диспансеризация В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9 «паллиативная помощь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рамках оказания паллиативной помощи в амбулаторных условиях. К ним относятся посещения с кодом по МКБ-1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51.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«Паллиативная помощ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ок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паллиативная помощь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полняется, если в организации организован кабинет (отделение) по оказанию паллиативной помо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я врача кабинета противоболевой терапии в данную строку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10 «патронаж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рачом на дому для проведения профилактических, оздоровительных и санитарно-просветительных меро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тронаж — форма работы медицинской организации, основными целями которой являются проведение на дому оздоровительных и профилактических мероприятий, внедрение правил личной гигиены и улучшение санитарно-гигиенических условий в быту. Особенно широко используется в учреждениях охраны материнства и детства, некоторых диспансерах. Осуществляется врачами: участковыми (патронажными), диспансеров. Особой формой патронажа является уход за одинокими и престарелыми бо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11 «прочие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рачом с профилактическими целями, не указанными выше. Например, посещения контактных пациентов, обследования социальных условий проживания семьи, «подворовые» обходы в сельской местност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52280" y="47242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 посещениям по поводу заболе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ледует относить посещения, когда у пациента выявлены заболевания, классифицируемые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лассах МКБ-10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00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 посещениям с профилактической цель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тносятся состояния, классифицируемые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X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лассе МКБ-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Z00-Z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рач-эпидемио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ятельность врача-эпидемиолога, как амбулаторное посещение (прием) не учит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приказ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Министерства здравоохранения и социального развития РФ от 23 июля 2010 г. N 541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одит необходимые санитарно-гигиенические и противоэпидемические мероприятия, используя современные методы анализа санитарно-эпидемиологической ситуации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оводит ежедневный анализ регистрации и учета инфекционной заболеваем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;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нализирует информационные материалы о состоянии инфекционной заболеваемости и проведении в очагах особо опасных инфекционных заболева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Проводит оперативный и ретроспективный анализ заболеваемости, контроль за осуществлением комплекса противоэпидемических мероприятий. Проводит экспертизы, расследования, обследования, исследования и иные виды оценок. Принимает участие в расследовании случаев инфекционной заболеваемости с целью установления причинно-следственных связей между состоянием здоровья и средой обитания человека. Проводит анализ выполнения плана профилактических прививок. Осуществляет зоолого-энтомологический мониторинг объектов возможного завоза особо опасных инфек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bject 8"/>
          <p:cNvSpPr/>
          <p:nvPr/>
        </p:nvSpPr>
        <p:spPr>
          <a:xfrm>
            <a:off x="457200" y="457200"/>
            <a:ext cx="8120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8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ДОСТАТКИ ОРГАНИЗАЦИИ АКТИВНЫХ ПОСЕЩЕНИЙ И МЕРЫ ПО ИХ УСТРАН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bject 9"/>
          <p:cNvSpPr/>
          <p:nvPr/>
        </p:nvSpPr>
        <p:spPr>
          <a:xfrm>
            <a:off x="228600" y="1219320"/>
            <a:ext cx="3456000" cy="230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bject 11"/>
          <p:cNvSpPr/>
          <p:nvPr/>
        </p:nvSpPr>
        <p:spPr>
          <a:xfrm>
            <a:off x="1523880" y="3733920"/>
            <a:ext cx="719280" cy="720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bject 13"/>
          <p:cNvSpPr/>
          <p:nvPr/>
        </p:nvSpPr>
        <p:spPr>
          <a:xfrm>
            <a:off x="4114800" y="1447920"/>
            <a:ext cx="4495680" cy="4038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ной из ключевых составляющих первичной медико-санитарной помощи является медицинская помощь на дому, в частности </a:t>
            </a:r>
            <a:r>
              <a:rPr b="1" lang="en-US" sz="1800" spc="-1" strike="noStrike">
                <a:solidFill>
                  <a:srgbClr val="9dc2d7"/>
                </a:solidFill>
                <a:latin typeface="Arial"/>
              </a:rPr>
              <a:t>активные посеще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которые способствуют уменьшению непрофильной нагрузки на учреждения скорой и специализирован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ской помощи. Активные посещения ведут к предупреждению, раннему выявлению социально значимых заболеваний и борьбе с ни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bject 21"/>
          <p:cNvSpPr/>
          <p:nvPr/>
        </p:nvSpPr>
        <p:spPr>
          <a:xfrm>
            <a:off x="3809880" y="1295280"/>
            <a:ext cx="5029200" cy="411480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4175125" h="1327150">
                <a:moveTo>
                  <a:pt x="0" y="221106"/>
                </a:moveTo>
                <a:lnTo>
                  <a:pt x="6422" y="167952"/>
                </a:lnTo>
                <a:lnTo>
                  <a:pt x="24668" y="119469"/>
                </a:lnTo>
                <a:lnTo>
                  <a:pt x="53204" y="77188"/>
                </a:lnTo>
                <a:lnTo>
                  <a:pt x="90498" y="42643"/>
                </a:lnTo>
                <a:lnTo>
                  <a:pt x="135016" y="17367"/>
                </a:lnTo>
                <a:lnTo>
                  <a:pt x="185227" y="2892"/>
                </a:lnTo>
                <a:lnTo>
                  <a:pt x="221107" y="0"/>
                </a:lnTo>
                <a:lnTo>
                  <a:pt x="3953891" y="0"/>
                </a:lnTo>
                <a:lnTo>
                  <a:pt x="3972034" y="732"/>
                </a:lnTo>
                <a:lnTo>
                  <a:pt x="3989773" y="2892"/>
                </a:lnTo>
                <a:lnTo>
                  <a:pt x="4040000" y="17367"/>
                </a:lnTo>
                <a:lnTo>
                  <a:pt x="4084544" y="42643"/>
                </a:lnTo>
                <a:lnTo>
                  <a:pt x="4121866" y="77188"/>
                </a:lnTo>
                <a:lnTo>
                  <a:pt x="4150429" y="119469"/>
                </a:lnTo>
                <a:lnTo>
                  <a:pt x="4168694" y="167952"/>
                </a:lnTo>
                <a:lnTo>
                  <a:pt x="4175125" y="221106"/>
                </a:lnTo>
                <a:lnTo>
                  <a:pt x="4175125" y="1105916"/>
                </a:lnTo>
                <a:lnTo>
                  <a:pt x="4174391" y="1124058"/>
                </a:lnTo>
                <a:lnTo>
                  <a:pt x="4172229" y="1141795"/>
                </a:lnTo>
                <a:lnTo>
                  <a:pt x="4157737" y="1192006"/>
                </a:lnTo>
                <a:lnTo>
                  <a:pt x="4132436" y="1236524"/>
                </a:lnTo>
                <a:lnTo>
                  <a:pt x="4097863" y="1273818"/>
                </a:lnTo>
                <a:lnTo>
                  <a:pt x="4055556" y="1302354"/>
                </a:lnTo>
                <a:lnTo>
                  <a:pt x="4007052" y="1320600"/>
                </a:lnTo>
                <a:lnTo>
                  <a:pt x="3953891" y="1327023"/>
                </a:lnTo>
                <a:lnTo>
                  <a:pt x="221107" y="1327023"/>
                </a:lnTo>
                <a:lnTo>
                  <a:pt x="202964" y="1326290"/>
                </a:lnTo>
                <a:lnTo>
                  <a:pt x="185227" y="1324130"/>
                </a:lnTo>
                <a:lnTo>
                  <a:pt x="135016" y="1309655"/>
                </a:lnTo>
                <a:lnTo>
                  <a:pt x="90498" y="1284379"/>
                </a:lnTo>
                <a:lnTo>
                  <a:pt x="53204" y="1249834"/>
                </a:lnTo>
                <a:lnTo>
                  <a:pt x="24668" y="1207553"/>
                </a:lnTo>
                <a:lnTo>
                  <a:pt x="6422" y="1159070"/>
                </a:lnTo>
                <a:lnTo>
                  <a:pt x="0" y="1105916"/>
                </a:lnTo>
                <a:lnTo>
                  <a:pt x="0" y="221106"/>
                </a:lnTo>
                <a:close/>
              </a:path>
            </a:pathLst>
          </a:custGeom>
          <a:noFill/>
          <a:ln w="38160">
            <a:solidFill>
              <a:srgbClr val="001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bject 46"/>
          <p:cNvSpPr/>
          <p:nvPr/>
        </p:nvSpPr>
        <p:spPr>
          <a:xfrm>
            <a:off x="228600" y="4648320"/>
            <a:ext cx="3429000" cy="149220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447925" h="1491614">
                <a:moveTo>
                  <a:pt x="2447925" y="0"/>
                </a:moveTo>
                <a:lnTo>
                  <a:pt x="0" y="0"/>
                </a:lnTo>
                <a:lnTo>
                  <a:pt x="0" y="1411351"/>
                </a:lnTo>
                <a:lnTo>
                  <a:pt x="174711" y="1445425"/>
                </a:lnTo>
                <a:lnTo>
                  <a:pt x="332900" y="1469526"/>
                </a:lnTo>
                <a:lnTo>
                  <a:pt x="476403" y="1484545"/>
                </a:lnTo>
                <a:lnTo>
                  <a:pt x="607054" y="1491369"/>
                </a:lnTo>
                <a:lnTo>
                  <a:pt x="726692" y="1490888"/>
                </a:lnTo>
                <a:lnTo>
                  <a:pt x="837150" y="1483993"/>
                </a:lnTo>
                <a:lnTo>
                  <a:pt x="940265" y="1471572"/>
                </a:lnTo>
                <a:lnTo>
                  <a:pt x="1037874" y="1454514"/>
                </a:lnTo>
                <a:lnTo>
                  <a:pt x="1131812" y="1433710"/>
                </a:lnTo>
                <a:lnTo>
                  <a:pt x="1223914" y="1410049"/>
                </a:lnTo>
                <a:lnTo>
                  <a:pt x="1507572" y="1330815"/>
                </a:lnTo>
                <a:lnTo>
                  <a:pt x="1610694" y="1304619"/>
                </a:lnTo>
                <a:lnTo>
                  <a:pt x="1721161" y="1280013"/>
                </a:lnTo>
                <a:lnTo>
                  <a:pt x="1840809" y="1257886"/>
                </a:lnTo>
                <a:lnTo>
                  <a:pt x="1971473" y="1239128"/>
                </a:lnTo>
                <a:lnTo>
                  <a:pt x="2114990" y="1224628"/>
                </a:lnTo>
                <a:lnTo>
                  <a:pt x="2273195" y="1215276"/>
                </a:lnTo>
                <a:lnTo>
                  <a:pt x="2447925" y="1211961"/>
                </a:lnTo>
                <a:lnTo>
                  <a:pt x="2447925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533520" y="4876920"/>
            <a:ext cx="28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ктивные посещения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ещения на дом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инициативе врач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разде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Деятельность медицинской организации по оказанию медицинской помощи в амбулаторных условиях» ФФСН №30 следует иметь в вид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 федерального статистического наблюдения № 30 составляется всеми медицинскими организациями, входящими в номенклатуру медицинских организаций (приказ Минздрава России от 06.08.2013 № 529н, зарегистрирован в Министерстве юстиции Российской Федерации 13.09.2013 № 29950). Клиники ВУЗов и НИИ также заполняют фор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сельской местностью  понимаются сельские поселения, расположенные в сельских муниципальных образованиях, а также сельские населенные пункты, входящие в состав городских поселений или городских округ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чень (Реестр административно-территориальных единиц субъекта Российской Федерации) таких сельских населенных пунктов на территории субъекта Российской Федерации определяется и утверждается высшим исполнительным органом государственной власти субъекта Российской Федерации. Указанный Реестр можно найти на официальных сайтах органов исполнительной власти субъект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сельскими жителями следует понимать контингенты населения, постоянно проживающие в сельских населенных пунктах или сельских поселениях, расположенных в сельских муниципальных образованиях, а также сельские населенные пункты, входящие в состав городских поселений или городских округ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bject 8"/>
          <p:cNvSpPr/>
          <p:nvPr/>
        </p:nvSpPr>
        <p:spPr>
          <a:xfrm>
            <a:off x="457200" y="45720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8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ДОСТАТКИ ОРГАНИЗАЦИИ АКТИВНЫХ ПОСЕЩ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bject 21"/>
          <p:cNvSpPr/>
          <p:nvPr/>
        </p:nvSpPr>
        <p:spPr>
          <a:xfrm>
            <a:off x="304920" y="1371600"/>
            <a:ext cx="8610480" cy="5105520"/>
          </a:xfrm>
          <a:custGeom>
            <a:avLst/>
            <a:gdLst>
              <a:gd name="textAreaLeft" fmla="*/ 0 w 8610480"/>
              <a:gd name="textAreaRight" fmla="*/ 8610840 w 861048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4175125" h="1327150">
                <a:moveTo>
                  <a:pt x="0" y="221106"/>
                </a:moveTo>
                <a:lnTo>
                  <a:pt x="6422" y="167952"/>
                </a:lnTo>
                <a:lnTo>
                  <a:pt x="24668" y="119469"/>
                </a:lnTo>
                <a:lnTo>
                  <a:pt x="53204" y="77188"/>
                </a:lnTo>
                <a:lnTo>
                  <a:pt x="90498" y="42643"/>
                </a:lnTo>
                <a:lnTo>
                  <a:pt x="135016" y="17367"/>
                </a:lnTo>
                <a:lnTo>
                  <a:pt x="185227" y="2892"/>
                </a:lnTo>
                <a:lnTo>
                  <a:pt x="221107" y="0"/>
                </a:lnTo>
                <a:lnTo>
                  <a:pt x="3953891" y="0"/>
                </a:lnTo>
                <a:lnTo>
                  <a:pt x="3972034" y="732"/>
                </a:lnTo>
                <a:lnTo>
                  <a:pt x="3989773" y="2892"/>
                </a:lnTo>
                <a:lnTo>
                  <a:pt x="4040000" y="17367"/>
                </a:lnTo>
                <a:lnTo>
                  <a:pt x="4084544" y="42643"/>
                </a:lnTo>
                <a:lnTo>
                  <a:pt x="4121866" y="77188"/>
                </a:lnTo>
                <a:lnTo>
                  <a:pt x="4150429" y="119469"/>
                </a:lnTo>
                <a:lnTo>
                  <a:pt x="4168694" y="167952"/>
                </a:lnTo>
                <a:lnTo>
                  <a:pt x="4175125" y="221106"/>
                </a:lnTo>
                <a:lnTo>
                  <a:pt x="4175125" y="1105916"/>
                </a:lnTo>
                <a:lnTo>
                  <a:pt x="4174391" y="1124058"/>
                </a:lnTo>
                <a:lnTo>
                  <a:pt x="4172229" y="1141795"/>
                </a:lnTo>
                <a:lnTo>
                  <a:pt x="4157737" y="1192006"/>
                </a:lnTo>
                <a:lnTo>
                  <a:pt x="4132436" y="1236524"/>
                </a:lnTo>
                <a:lnTo>
                  <a:pt x="4097863" y="1273818"/>
                </a:lnTo>
                <a:lnTo>
                  <a:pt x="4055556" y="1302354"/>
                </a:lnTo>
                <a:lnTo>
                  <a:pt x="4007052" y="1320600"/>
                </a:lnTo>
                <a:lnTo>
                  <a:pt x="3953891" y="1327023"/>
                </a:lnTo>
                <a:lnTo>
                  <a:pt x="221107" y="1327023"/>
                </a:lnTo>
                <a:lnTo>
                  <a:pt x="202964" y="1326290"/>
                </a:lnTo>
                <a:lnTo>
                  <a:pt x="185227" y="1324130"/>
                </a:lnTo>
                <a:lnTo>
                  <a:pt x="135016" y="1309655"/>
                </a:lnTo>
                <a:lnTo>
                  <a:pt x="90498" y="1284379"/>
                </a:lnTo>
                <a:lnTo>
                  <a:pt x="53204" y="1249834"/>
                </a:lnTo>
                <a:lnTo>
                  <a:pt x="24668" y="1207553"/>
                </a:lnTo>
                <a:lnTo>
                  <a:pt x="6422" y="1159070"/>
                </a:lnTo>
                <a:lnTo>
                  <a:pt x="0" y="1105916"/>
                </a:lnTo>
                <a:lnTo>
                  <a:pt x="0" y="221106"/>
                </a:lnTo>
                <a:close/>
              </a:path>
            </a:pathLst>
          </a:custGeom>
          <a:noFill/>
          <a:ln w="38160">
            <a:solidFill>
              <a:srgbClr val="001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bject 18"/>
          <p:cNvSpPr/>
          <p:nvPr/>
        </p:nvSpPr>
        <p:spPr>
          <a:xfrm>
            <a:off x="609480" y="1523880"/>
            <a:ext cx="800100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fc0"/>
                </a:solidFill>
                <a:latin typeface="Wingdings 3"/>
                <a:ea typeface="Wingdings 3"/>
              </a:rPr>
              <a:t>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нные отчетов поликлиник об активных посещениях не учитываются в форме № 031/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1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fc0"/>
                </a:solidFill>
                <a:latin typeface="Wingdings 3"/>
                <a:ea typeface="Wingdings 3"/>
              </a:rPr>
              <a:t>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ых посещений, зафиксированных в учетной форме № 031/у, не подтверждены записями в картах пациента, получающего медицинскую помощь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1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fc0"/>
                </a:solidFill>
                <a:latin typeface="Wingdings 3"/>
                <a:ea typeface="Wingdings 3"/>
              </a:rPr>
              <a:t>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равильное заполнение учетной формы № 031/у. Самой частой ошибкой является отсутствие записей об отнесении вызова к первичному, повторному или активному посещ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1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fc0"/>
                </a:solidFill>
                <a:latin typeface="Wingdings 3"/>
                <a:ea typeface="Wingdings 3"/>
              </a:rPr>
              <a:t>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енний контроль оказания медицинской помощи на дому, включая активные посещения, в поликлиниках проводится формальн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1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fc0"/>
                </a:solidFill>
                <a:latin typeface="Wingdings 3"/>
                <a:ea typeface="Wingdings 3"/>
              </a:rPr>
              <a:t>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белы знаний по вопросам организации активных посещ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1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неправильно относят к активным посещениям активные вызовы, любой визит врача на дом, не знают, что для организации активных посещений нужен план активных посещений, не знают,  что учетной формой активных посещений является форма № 031/у, не знают правила заполнения формы № 031/у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жемесячный анализ врачами-терапевтами списков лиц, длительно не посещавших М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значение ответственных из числа руководства поликлиники за выполнением активных посещ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ведение инструктажа врачей-терапевтов по вопросам организации активных посещений, включая выбор контингента, нуждающегося в активных посещениях, способствовало бы искоренению данного деф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пользование показателя «процент активных посещений» для оценки эффективности деятельности врача-терапевта положительно сказывается на выполнении активных посещений (не менее 15% от общего числа посещен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учение врачей-специалистов правильности ведения учетной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bject 8"/>
          <p:cNvSpPr/>
          <p:nvPr/>
        </p:nvSpPr>
        <p:spPr>
          <a:xfrm>
            <a:off x="30492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8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РЫ ПО ИХ УСТРАНЕН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bject 21"/>
          <p:cNvSpPr/>
          <p:nvPr/>
        </p:nvSpPr>
        <p:spPr>
          <a:xfrm>
            <a:off x="228600" y="914400"/>
            <a:ext cx="8610480" cy="5791320"/>
          </a:xfrm>
          <a:custGeom>
            <a:avLst/>
            <a:gdLst>
              <a:gd name="textAreaLeft" fmla="*/ 0 w 8610480"/>
              <a:gd name="textAreaRight" fmla="*/ 8610840 w 861048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4175125" h="1327150">
                <a:moveTo>
                  <a:pt x="0" y="221106"/>
                </a:moveTo>
                <a:lnTo>
                  <a:pt x="6422" y="167952"/>
                </a:lnTo>
                <a:lnTo>
                  <a:pt x="24668" y="119469"/>
                </a:lnTo>
                <a:lnTo>
                  <a:pt x="53204" y="77188"/>
                </a:lnTo>
                <a:lnTo>
                  <a:pt x="90498" y="42643"/>
                </a:lnTo>
                <a:lnTo>
                  <a:pt x="135016" y="17367"/>
                </a:lnTo>
                <a:lnTo>
                  <a:pt x="185227" y="2892"/>
                </a:lnTo>
                <a:lnTo>
                  <a:pt x="221107" y="0"/>
                </a:lnTo>
                <a:lnTo>
                  <a:pt x="3953891" y="0"/>
                </a:lnTo>
                <a:lnTo>
                  <a:pt x="3972034" y="732"/>
                </a:lnTo>
                <a:lnTo>
                  <a:pt x="3989773" y="2892"/>
                </a:lnTo>
                <a:lnTo>
                  <a:pt x="4040000" y="17367"/>
                </a:lnTo>
                <a:lnTo>
                  <a:pt x="4084544" y="42643"/>
                </a:lnTo>
                <a:lnTo>
                  <a:pt x="4121866" y="77188"/>
                </a:lnTo>
                <a:lnTo>
                  <a:pt x="4150429" y="119469"/>
                </a:lnTo>
                <a:lnTo>
                  <a:pt x="4168694" y="167952"/>
                </a:lnTo>
                <a:lnTo>
                  <a:pt x="4175125" y="221106"/>
                </a:lnTo>
                <a:lnTo>
                  <a:pt x="4175125" y="1105916"/>
                </a:lnTo>
                <a:lnTo>
                  <a:pt x="4174391" y="1124058"/>
                </a:lnTo>
                <a:lnTo>
                  <a:pt x="4172229" y="1141795"/>
                </a:lnTo>
                <a:lnTo>
                  <a:pt x="4157737" y="1192006"/>
                </a:lnTo>
                <a:lnTo>
                  <a:pt x="4132436" y="1236524"/>
                </a:lnTo>
                <a:lnTo>
                  <a:pt x="4097863" y="1273818"/>
                </a:lnTo>
                <a:lnTo>
                  <a:pt x="4055556" y="1302354"/>
                </a:lnTo>
                <a:lnTo>
                  <a:pt x="4007052" y="1320600"/>
                </a:lnTo>
                <a:lnTo>
                  <a:pt x="3953891" y="1327023"/>
                </a:lnTo>
                <a:lnTo>
                  <a:pt x="221107" y="1327023"/>
                </a:lnTo>
                <a:lnTo>
                  <a:pt x="202964" y="1326290"/>
                </a:lnTo>
                <a:lnTo>
                  <a:pt x="185227" y="1324130"/>
                </a:lnTo>
                <a:lnTo>
                  <a:pt x="135016" y="1309655"/>
                </a:lnTo>
                <a:lnTo>
                  <a:pt x="90498" y="1284379"/>
                </a:lnTo>
                <a:lnTo>
                  <a:pt x="53204" y="1249834"/>
                </a:lnTo>
                <a:lnTo>
                  <a:pt x="24668" y="1207553"/>
                </a:lnTo>
                <a:lnTo>
                  <a:pt x="6422" y="1159070"/>
                </a:lnTo>
                <a:lnTo>
                  <a:pt x="0" y="1105916"/>
                </a:lnTo>
                <a:lnTo>
                  <a:pt x="0" y="221106"/>
                </a:lnTo>
                <a:close/>
              </a:path>
            </a:pathLst>
          </a:custGeom>
          <a:noFill/>
          <a:ln w="38160">
            <a:solidFill>
              <a:srgbClr val="001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10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3520" y="1066680"/>
          <a:ext cx="8381880" cy="140184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по поводу заболеваний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1 __, из них: сельских жителей  2 __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7 лет (из стр. 1) 3 _____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 (из стр.3) 4__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174"/>
          <p:cNvSpPr/>
          <p:nvPr/>
        </p:nvSpPr>
        <p:spPr>
          <a:xfrm>
            <a:off x="228600" y="2743200"/>
            <a:ext cx="8686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ращение включает в себя одно или несколько посещений пациента, в результате которых цель обращения достигну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зависимости от цели обращения подразделяются н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обращения по поводу заболеваний, травм, отравлений и некоторых друг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следствий воздействия внешних причин (коды A00 - T98 МКБ-10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обращения с профилактической целью (коды Z00 - Z99 МКБ-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ведения, указанные в таблице 2106, должны быть меньше, чем данные указанные в таблице 2100 по строке 1 в соответствующих граф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bject 36"/>
          <p:cNvSpPr/>
          <p:nvPr/>
        </p:nvSpPr>
        <p:spPr>
          <a:xfrm>
            <a:off x="685800" y="5410080"/>
            <a:ext cx="22575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ично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ещение  </a:t>
            </a:r>
            <a:r>
              <a:rPr b="0" lang="ru-RU" sz="2100" spc="-1" strike="noStrike" baseline="32000">
                <a:solidFill>
                  <a:srgbClr val="000000"/>
                </a:solidFill>
                <a:latin typeface="Arial"/>
              </a:rPr>
              <a:t>+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ещ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bject 39"/>
          <p:cNvSpPr/>
          <p:nvPr/>
        </p:nvSpPr>
        <p:spPr>
          <a:xfrm>
            <a:off x="3124080" y="548640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bject 37"/>
          <p:cNvSpPr/>
          <p:nvPr/>
        </p:nvSpPr>
        <p:spPr>
          <a:xfrm>
            <a:off x="3352680" y="5410080"/>
            <a:ext cx="1082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сещ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bject 32"/>
          <p:cNvSpPr/>
          <p:nvPr/>
        </p:nvSpPr>
        <p:spPr>
          <a:xfrm>
            <a:off x="4495680" y="5562720"/>
            <a:ext cx="106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bject 41"/>
          <p:cNvSpPr/>
          <p:nvPr/>
        </p:nvSpPr>
        <p:spPr>
          <a:xfrm>
            <a:off x="5181480" y="5410080"/>
            <a:ext cx="576360" cy="432000"/>
          </a:xfrm>
          <a:custGeom>
            <a:avLst/>
            <a:gdLst>
              <a:gd name="textAreaLeft" fmla="*/ 0 w 576360"/>
              <a:gd name="textAreaRight" fmla="*/ 576720 w 576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576579" h="431800">
                <a:moveTo>
                  <a:pt x="360172" y="0"/>
                </a:moveTo>
                <a:lnTo>
                  <a:pt x="360172" y="107950"/>
                </a:lnTo>
                <a:lnTo>
                  <a:pt x="0" y="107950"/>
                </a:lnTo>
                <a:lnTo>
                  <a:pt x="108076" y="215900"/>
                </a:lnTo>
                <a:lnTo>
                  <a:pt x="0" y="323850"/>
                </a:lnTo>
                <a:lnTo>
                  <a:pt x="360172" y="323850"/>
                </a:lnTo>
                <a:lnTo>
                  <a:pt x="360172" y="431800"/>
                </a:lnTo>
                <a:lnTo>
                  <a:pt x="576326" y="215900"/>
                </a:lnTo>
                <a:lnTo>
                  <a:pt x="360172" y="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bject 38"/>
          <p:cNvSpPr/>
          <p:nvPr/>
        </p:nvSpPr>
        <p:spPr>
          <a:xfrm>
            <a:off x="6095880" y="5410080"/>
            <a:ext cx="2035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012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Ь ОБРАЩЕНИЯ ДОСТИГНУ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Овал 6"/>
          <p:cNvSpPr/>
          <p:nvPr/>
        </p:nvSpPr>
        <p:spPr>
          <a:xfrm>
            <a:off x="228600" y="5105520"/>
            <a:ext cx="8381880" cy="1143000"/>
          </a:xfrm>
          <a:prstGeom prst="ellipse">
            <a:avLst/>
          </a:prstGeom>
          <a:noFill/>
          <a:ln w="316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9"/>
          <p:cNvSpPr/>
          <p:nvPr/>
        </p:nvSpPr>
        <p:spPr>
          <a:xfrm>
            <a:off x="457200" y="4572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4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52280" y="914400"/>
          <a:ext cx="8763120" cy="4145040"/>
        </p:xfrm>
        <a:graphic>
          <a:graphicData uri="http://schemas.openxmlformats.org/drawingml/2006/table">
            <a:tbl>
              <a:tblPr/>
              <a:tblGrid>
                <a:gridCol w="3267360"/>
                <a:gridCol w="615960"/>
                <a:gridCol w="615600"/>
                <a:gridCol w="792360"/>
                <a:gridCol w="833400"/>
                <a:gridCol w="879480"/>
                <a:gridCol w="879480"/>
                <a:gridCol w="879480"/>
              </a:tblGrid>
              <a:tr h="213480">
                <a:tc rowSpan="4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3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н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ебно-медицинск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и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рас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7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рас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ы, умершие на дому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 де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6440" rIns="46440" tIns="0" bIns="0" anchor="t">
                      <a:noAutofit/>
                    </a:bodyPr>
                    <a:p>
                      <a:pPr marL="158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возрасте до 1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способного возраста*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е трудоспособного возраста*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умерших на дому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ы трудоспособного возраста*         умерли от: острых цереброваскулярных           заболеваний (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6440" rIns="4644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ого инфаркта миокард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I2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Rectangle 2"/>
          <p:cNvSpPr/>
          <p:nvPr/>
        </p:nvSpPr>
        <p:spPr>
          <a:xfrm>
            <a:off x="152280" y="5180040"/>
            <a:ext cx="4343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мужчины от 18 до 59 лет включительно,  женщины от 18 до 54 лет включительн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мужчины 60 лет и старше,  женщины 55 лет и старш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4419720" y="3343680"/>
            <a:ext cx="4572000" cy="2770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заполнения строк 6 и 7 по графе 3 используют «Медицинские свидетельства о смерти» (учетная форма № 106/у-08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трые нарушения мозгового кровообращения (коды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0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4) и инфаркты миокарда (коды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1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2) включают в таблицу 2402 только, если они выбраны в качестве первоначальной причины смер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дицинская организация отчитывается только по свидетельствам о смерти, выданным данной медицинской организаци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9"/>
          <p:cNvSpPr/>
          <p:nvPr/>
        </p:nvSpPr>
        <p:spPr>
          <a:xfrm>
            <a:off x="457200" y="3808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510. Профилактические осмотры и диспансеризация, проведенные медицинской организаци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52280" y="1066680"/>
          <a:ext cx="8839440" cy="4152960"/>
        </p:xfrm>
        <a:graphic>
          <a:graphicData uri="http://schemas.openxmlformats.org/drawingml/2006/table">
            <a:tbl>
              <a:tblPr/>
              <a:tblGrid>
                <a:gridCol w="2568600"/>
                <a:gridCol w="447840"/>
                <a:gridCol w="717480"/>
                <a:gridCol w="685800"/>
                <a:gridCol w="838080"/>
                <a:gridCol w="762120"/>
                <a:gridCol w="304920"/>
                <a:gridCol w="304560"/>
                <a:gridCol w="381240"/>
                <a:gridCol w="533160"/>
                <a:gridCol w="457200"/>
                <a:gridCol w="492120"/>
                <a:gridCol w="346320"/>
              </a:tblGrid>
              <a:tr h="459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лежало осмотр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осмотренных (гр. 5): определены группы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в возрасте 0-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ети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в возрасте 15-17 лет включительн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детей 15-17 лет (стр.3) - юнош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 взрослого населения (18 лет и старше)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испансеризация определенных групп взрослого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 (сумма строк 1, 3, 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"/>
          <p:cNvSpPr/>
          <p:nvPr/>
        </p:nvSpPr>
        <p:spPr>
          <a:xfrm>
            <a:off x="152280" y="5332320"/>
            <a:ext cx="8686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ведения о подлежащих и осмотренных при профосмотрах включают по категориям: дети 0-14 лет включительно (из них: до 1 года), дети 15-17 лет включительно и взрослое население (18 лет и старше), осмотренное в порядке периодических (приказ Минздравсоцразвития России от 12 апреля 2011 г. № 302н, зарегистрирован в Министерстве юстиции Российской Федерации 21.10.2011 № 22111) и других медицинских осмотр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9"/>
          <p:cNvSpPr/>
          <p:nvPr/>
        </p:nvSpPr>
        <p:spPr>
          <a:xfrm>
            <a:off x="457200" y="3808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510. Профилактические осмотры и диспансеризация, проведенные медицинской организаци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80880" y="166212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аблицу заполняют только те медицинские организации, которые организуют осмотр соответствующих контингентов и отвечают за его проведение, и не заполняют специализированные (кожно-венерологические, противотуберкулезные и др.) организации, которые могут принимать участие в этой рабо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В число подлежащих осмотру и осмотренных включают физических лиц только один раз в году, независимо от того, сколько раз в году они подлежали осмотру и были осмотрен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лановые цифры подлежащих осмотрам по категориям утверждаются приказом руководителя медицинской организации и корректируются на конец отчетного период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Число осмотренных должно равняться числу подлежащих осмотру или быть меньше этого числ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5"/>
          <p:cNvSpPr/>
          <p:nvPr/>
        </p:nvSpPr>
        <p:spPr>
          <a:xfrm>
            <a:off x="685800" y="6094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6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295280"/>
          <a:ext cx="7924680" cy="15843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етей, достигших в отчетном году 1 года, всего  1_______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ходились на грудном вскармливани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 до 6 месяцев   2 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 месяцев до 1 года  3 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Rectangle 2"/>
          <p:cNvSpPr/>
          <p:nvPr/>
        </p:nvSpPr>
        <p:spPr>
          <a:xfrm>
            <a:off x="228600" y="3281040"/>
            <a:ext cx="85345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читываются дети, прикрепленные к текущей медицинской организации на конец отчетного период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пункте 2 «от 3 до 6 месяцев» указывается численность только тех детей, которые находились на грудном вскармливании от 3 до 6 месяцев. Дети в возрасте 6 месяцев в таблицу не включаю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пункте 3 «от 6 месяцев до 1 года» указывается численность детей, которые находились на грудном вскармливании от 6 месяцев до 1 год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Если ребенок в возрасте до 1 года находился на грудном вскармливании от 7, 8, 9 месяцев, то в пункт 2 он попадать не должен, он должен учитываться в пункте 3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700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бота стоматологического кабин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280" y="1143000"/>
          <a:ext cx="8763120" cy="4092480"/>
        </p:xfrm>
        <a:graphic>
          <a:graphicData uri="http://schemas.openxmlformats.org/drawingml/2006/table">
            <a:tbl>
              <a:tblPr/>
              <a:tblGrid>
                <a:gridCol w="3810240"/>
                <a:gridCol w="609480"/>
                <a:gridCol w="1008000"/>
                <a:gridCol w="1241640"/>
                <a:gridCol w="2093760"/>
              </a:tblGrid>
              <a:tr h="580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зубных врачей и  гигиенистов стоматологическ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х 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 ц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 дети до 14 лет 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353"/>
          <p:cNvSpPr/>
          <p:nvPr/>
        </p:nvSpPr>
        <p:spPr>
          <a:xfrm>
            <a:off x="228600" y="6019920"/>
            <a:ext cx="8686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)  Первичным считается первое посещение за стоматологической помощью в отчетном году по любому пов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55"/>
          <p:cNvSpPr/>
          <p:nvPr/>
        </p:nvSpPr>
        <p:spPr>
          <a:xfrm>
            <a:off x="4572000" y="2971800"/>
            <a:ext cx="4267080" cy="2362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таблицу включаются и сведения о деятельности гигиенистов стоматологических и зубных врачей, в том числе зубных врачей здравпунктов, стоматологических кабинетов учебных заведений и предприятий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если они состоят в штате медицинской организац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59"/>
          <p:cNvSpPr/>
          <p:nvPr/>
        </p:nvSpPr>
        <p:spPr>
          <a:xfrm>
            <a:off x="7368120" y="6858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60"/>
          <p:cNvSpPr/>
          <p:nvPr/>
        </p:nvSpPr>
        <p:spPr>
          <a:xfrm>
            <a:off x="4572000" y="5410080"/>
            <a:ext cx="441972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1 должна быть равна сумме строк 2+3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700 (продолжение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52280" y="838080"/>
          <a:ext cx="8763120" cy="4000680"/>
        </p:xfrm>
        <a:graphic>
          <a:graphicData uri="http://schemas.openxmlformats.org/drawingml/2006/table">
            <a:tbl>
              <a:tblPr/>
              <a:tblGrid>
                <a:gridCol w="1133640"/>
                <a:gridCol w="460440"/>
                <a:gridCol w="608040"/>
                <a:gridCol w="560160"/>
                <a:gridCol w="789120"/>
                <a:gridCol w="623880"/>
                <a:gridCol w="625320"/>
                <a:gridCol w="608040"/>
                <a:gridCol w="790560"/>
                <a:gridCol w="608040"/>
                <a:gridCol w="574920"/>
                <a:gridCol w="591840"/>
                <a:gridCol w="789120"/>
              </a:tblGrid>
              <a:tr h="3740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 курс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 объем работы в УЕТ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в порядке плановой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 нуждались в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3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1520"/>
          <p:cNvSpPr/>
          <p:nvPr/>
        </p:nvSpPr>
        <p:spPr>
          <a:xfrm>
            <a:off x="1676520" y="3124080"/>
            <a:ext cx="7238880" cy="1524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графе 11 показывается общее число санированных, как по обращаемости, так и во время профилактической рабо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графе 16 указывается общий объем выполненной работы, выраженный в условных единицах трудоемкости (УЕТ). Выполненный объем работы в УЕТах указывае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абсолютных единиц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521"/>
          <p:cNvSpPr/>
          <p:nvPr/>
        </p:nvSpPr>
        <p:spPr>
          <a:xfrm>
            <a:off x="1676520" y="4876920"/>
            <a:ext cx="72388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зница между графами 11 и 14 по всем строкам должна быть на санированных при обращении пациента за медицинской помощ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24"/>
          <p:cNvSpPr/>
          <p:nvPr/>
        </p:nvSpPr>
        <p:spPr>
          <a:xfrm>
            <a:off x="1676520" y="5638680"/>
            <a:ext cx="72388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бъем выполненных работ гигиенистами стоматологическим в УЕТах (графа 16) указыв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701 Из числа получивших зубные прот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04920" y="914400"/>
          <a:ext cx="8534160" cy="1676520"/>
        </p:xfrm>
        <a:graphic>
          <a:graphicData uri="http://schemas.openxmlformats.org/drawingml/2006/table">
            <a:tbl>
              <a:tblPr/>
              <a:tblGrid>
                <a:gridCol w="5756040"/>
                <a:gridCol w="1530360"/>
                <a:gridCol w="124776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зубные протезы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о проте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10"/>
          <p:cNvSpPr/>
          <p:nvPr/>
        </p:nvSpPr>
        <p:spPr>
          <a:xfrm>
            <a:off x="228600" y="2819520"/>
            <a:ext cx="861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702   Из числа лиц, получивших ортодонтическое л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80880" y="3276720"/>
          <a:ext cx="8305920" cy="1692000"/>
        </p:xfrm>
        <a:graphic>
          <a:graphicData uri="http://schemas.openxmlformats.org/drawingml/2006/table">
            <a:tbl>
              <a:tblPr/>
              <a:tblGrid>
                <a:gridCol w="5769000"/>
                <a:gridCol w="1322640"/>
                <a:gridCol w="1214280"/>
              </a:tblGrid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ортодонтическое лечени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 до 14 лет (включитель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 (включитель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Rectangle 348"/>
          <p:cNvSpPr/>
          <p:nvPr/>
        </p:nvSpPr>
        <p:spPr>
          <a:xfrm>
            <a:off x="228600" y="53341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70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Число лиц, получивших профилактическое лечение у гигиениста 1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аблицы раздела включают сведения о работе врачей осуществляющих прием пациентов в амбулаторных условиях и на дому, а также консультативный пр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ем врачей отделений (кабинетов) платных услуг включаются во все таблицы раздела соответственно занимаемым долж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ем среднего медицинского персонала на самостоятельном приеме отделений (кабинетов) платных услуг включаются в таблицы раздела соответственно занимаемым долж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ет деятельности специалистов  вспомогательных отделений (кабинетов), лабораторий и других вышеуказанных подразделений соответствует требованиям  Общероссийскому классификатору единиц измерения (ОКЕИ), показывается один раз в соответствующих таблицах и учитывается в «единицах», «человеках», «исследованиях», «процедурах» и т.д. Двойной учет одного вида деятельности в разных таблицах не допуст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щероссийский классификатору единиц измерения (ОКЕИ) утвержден Постановлением Госстандарта России от 26.12.1994 N 366 (ред. от 28.03.2014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5530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710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бота врачей-стоматол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"/>
          <p:cNvSpPr/>
          <p:nvPr/>
        </p:nvSpPr>
        <p:spPr>
          <a:xfrm>
            <a:off x="22860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)  Первичным считается первое посещение за стоматологической помощью в отчетном году по любому пов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2"/>
          <p:cNvSpPr/>
          <p:nvPr/>
        </p:nvSpPr>
        <p:spPr>
          <a:xfrm>
            <a:off x="7368120" y="6858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2280" y="1143000"/>
          <a:ext cx="8534520" cy="3833640"/>
        </p:xfrm>
        <a:graphic>
          <a:graphicData uri="http://schemas.openxmlformats.org/drawingml/2006/table">
            <a:tbl>
              <a:tblPr/>
              <a:tblGrid>
                <a:gridCol w="3408480"/>
                <a:gridCol w="655560"/>
                <a:gridCol w="930240"/>
                <a:gridCol w="1101960"/>
                <a:gridCol w="672840"/>
                <a:gridCol w="874800"/>
                <a:gridCol w="89064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Число посещений врачей-стоматолог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(из т. 2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вичных 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дети до 1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Rectangle 583"/>
          <p:cNvSpPr/>
          <p:nvPr/>
        </p:nvSpPr>
        <p:spPr>
          <a:xfrm>
            <a:off x="4114800" y="3048120"/>
            <a:ext cx="464832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1 по графе 3 должна быть равна сумме посещений, указанных в таблице 2100 по сумме строк 86+87+89+90 и сумме граф 3+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85"/>
          <p:cNvSpPr/>
          <p:nvPr/>
        </p:nvSpPr>
        <p:spPr>
          <a:xfrm>
            <a:off x="4114800" y="5105520"/>
            <a:ext cx="464832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6 по графе 3 должна быть равна сумме посещений, указанных в таблице 2100 по сумме строк 86+87+89+90 и сумме граф 4+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586"/>
          <p:cNvSpPr/>
          <p:nvPr/>
        </p:nvSpPr>
        <p:spPr>
          <a:xfrm>
            <a:off x="4114800" y="3962520"/>
            <a:ext cx="464832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умма строк 4+5 по графе 3 должна быть равна сумме посещений, указанных в таблице 2100 по сумме строк 86+87+89+90 и сумме граф 5+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сещение – это контакт пациента с врачом медицинской организации или подразделения, оказывающего медицинскую помощь в амбулаторных условиях по любому поводу с последующей записью в «Медицинской карте пациента, получающего медицинскую помощь в амбулаторных условиях» (ф. № 025/у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ключающей жалобы, анамнез, объективные данные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становку диагноз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основного, фонового, конкурирующего и сопутствующих заболеваний, травм, отравлений с кодами их по МКБ-10, группу здоровья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ное  лечени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обследование, а также результаты обследования и  динамического наблю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ращение – это повод визита пациента в поликлинику. Цель – по поводу заболевания (диспансерное наблюдение, неотложное состояние и т.д.), с профилактической целью (медицинский осмотр, диспансеризация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ращение может состоять из одного или нескольких посещений пациента, в результате которых цель обращения достигну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ту подлежат следующие посещ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  любых  специальностей,  ведущих прием в амбулаторных условиях,  в том числе  консультативный  прием  (терапевтов,  педиатров,  хирургов, акушеров-гинекологов, урологов и т.д., включая заведующих отделениями) в медицинских организациях и вне медицинских организаций  с ведением медицинской карты пациента, получающего медицинскую помощь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 пунктов (отделений) неотложной медицинской помощи на д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 здравпунктов, цеховых терапевтов, акушеров-гинекологов и других, ведущих прием в амбулаторных условиях на  здравпунктах в часы, специально выделенные для амбулаторного при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,  оказывающих   медицинскую   помощь   в   специально выделенные  дни для  приема 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,  оказывающих   медицинскую   помощь при выездах в другие медицинские организации (районные больницы, участковые больницы, амбулатории, фельдшерско-акушерские пунк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чей-психотерапевтов  при  проведении  групповых  занятий  (число посещений учитывается по числу пациентов, занимающихся в групп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чей-стоматологов ,осуществляющих прием в стоматологических кабинетах в больничных организациях (госпитали, диспансеры, психиатрические и психоневрологические больницы, фтизиопульмонологические центры), а также санат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врачей-инфекционистов, проводящих подворные обходы  во  время вспышки  инфекционных  заболеваний,  осмотры  контактных  в  очаге (семье) инфекционного забол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рофилактические осмотры детей в детских дошкольных учреждениях, школах, профилактические осмотры  населения, включая периодические осмотры рабочих промышленных предприятий, работников других предприятий (учреждений), независимо от того, проведены ли они в стенах подразделения, оказывающего медицинскую помощь в амбулаторных условиях или непосредственно на предприятия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в учреждениях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 врачам призывных комисс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сещения учитываются только при наличии соответствующей записи в медицинской карте пациента, получающего медицинскую помощь в амбулаторных условиях и заполненного талона пациента, получающего медицинскую помощь в амбулаторных услов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амбулато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6320" y="1066680"/>
          <a:ext cx="8839080" cy="5608800"/>
        </p:xfrm>
        <a:graphic>
          <a:graphicData uri="http://schemas.openxmlformats.org/drawingml/2006/table">
            <a:tbl>
              <a:tblPr/>
              <a:tblGrid>
                <a:gridCol w="1166760"/>
                <a:gridCol w="385560"/>
                <a:gridCol w="712800"/>
                <a:gridCol w="782640"/>
                <a:gridCol w="609840"/>
                <a:gridCol w="533160"/>
                <a:gridCol w="574920"/>
                <a:gridCol w="519120"/>
                <a:gridCol w="658800"/>
                <a:gridCol w="685800"/>
                <a:gridCol w="761760"/>
                <a:gridCol w="685800"/>
                <a:gridCol w="76212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старш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 дет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-ортопе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-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-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1694"/>
          <p:cNvSpPr/>
          <p:nvPr/>
        </p:nvSpPr>
        <p:spPr>
          <a:xfrm>
            <a:off x="1676520" y="3048120"/>
            <a:ext cx="73152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у врачей-стоматологов, включая деятельность врачей-стоматологов передвижных установок и кабинетов в образовательных учреждениях, а также в санаторно-курортных организациях и в организациях, оказывающих медицинскую помощь только в стационарных условиях, показывают в таблице 2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троках с 86 по 90 соответственно занятым должностя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697"/>
          <p:cNvSpPr/>
          <p:nvPr/>
        </p:nvSpPr>
        <p:spPr>
          <a:xfrm>
            <a:off x="7368120" y="53352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698"/>
          <p:cNvSpPr/>
          <p:nvPr/>
        </p:nvSpPr>
        <p:spPr>
          <a:xfrm>
            <a:off x="1676520" y="4876920"/>
            <a:ext cx="723888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ращения к врачам вспомогательных отделений и кабинетов (физиотерапевтического, лечебной физкультуры, эндоскопии, функциональной диагностики и др.) в таблице 2100 не учитывают. Работу вспомогательных отделений и кабинетов показывают в соответствующих таблицах фор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рач-эпидемио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ятельность врача-эпидемиолога, как амбулаторное посещение (прием) не учит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приказ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Министерства здравоохранения и социального развития РФ от 23 июля 2010 г. N 541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одит необходимые санитарно-гигиенические и противоэпидемические мероприятия, используя современные методы анализа санитарно-эпидемиологической ситуации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оводит ежедневный анализ регистрации и учета инфекционной заболеваем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;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нализирует информационные материалы о состоянии инфекционной заболеваемости и проведении в очагах особо опасных инфекционных заболева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Проводит оперативный и ретроспективный анализ заболеваемости, контроль за осуществлением комплекса противоэпидемических мероприятий. Проводит экспертизы, расследования, обследования, исследования и иные виды оценок. Принимает участие в расследовании случаев инфекционной заболеваемости с целью установления причинно-следственных связей между состоянием здоровья и средой обитания человека. Проводит анализ выполнения плана профилактических прививок. Осуществляет зоолого-энтомологический мониторинг объектов возможного завоза особо опасных инфек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63248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1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280" y="914400"/>
          <a:ext cx="8763120" cy="3932280"/>
        </p:xfrm>
        <a:graphic>
          <a:graphicData uri="http://schemas.openxmlformats.org/drawingml/2006/table">
            <a:tbl>
              <a:tblPr/>
              <a:tblGrid>
                <a:gridCol w="6248520"/>
                <a:gridCol w="878040"/>
                <a:gridCol w="16365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к среднему медицинскому персоналу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на ФАПах (включая посещения на дом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фельдшерских пунк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унктах (кабинетах) неотложной медицинской помощи на до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ому населению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ому насел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му насел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625"/>
          <p:cNvSpPr/>
          <p:nvPr/>
        </p:nvSpPr>
        <p:spPr>
          <a:xfrm>
            <a:off x="152280" y="4952880"/>
            <a:ext cx="8763120" cy="1600200"/>
          </a:xfrm>
          <a:prstGeom prst="rect">
            <a:avLst/>
          </a:prstGeom>
          <a:solidFill>
            <a:srgbClr val="cccc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з общего числа посещений к среднему медицинскому персоналу (стр. 1), в строке 4 указываются посещения среднего медицинского персонала пунктов (кабинетов) неотложной медицинской помощи, включая пункты на дом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з строки 4 выделяется число посещений, выполненных сельскими жител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з строки 4 указываются посещения выполненные к взрослому населению, детскому насел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26"/>
          <p:cNvSpPr/>
          <p:nvPr/>
        </p:nvSpPr>
        <p:spPr>
          <a:xfrm>
            <a:off x="713952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28"/>
          <p:cNvSpPr/>
          <p:nvPr/>
        </p:nvSpPr>
        <p:spPr>
          <a:xfrm>
            <a:off x="7391520" y="3048120"/>
            <a:ext cx="1523880" cy="1676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етск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население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это население 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озрасте 17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 месяцев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н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v.zolotova</cp:lastModifiedBy>
  <dcterms:modified xsi:type="dcterms:W3CDTF">2017-11-30T14:19:42Z</dcterms:modified>
  <cp:revision>5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