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c0000"/>
                </a:solidFill>
                <a:latin typeface="Dinme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Dinmed"/>
              </a:rPr>
              <a:t>&lt;date/time&gt;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c0000"/>
                </a:solidFill>
                <a:latin typeface="Dinme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B3F7-E6F2-4F4D-9B08-701E84E23844}" type="slidenum">
              <a:rPr b="1" lang="ru-RU" sz="1200" spc="-1" strike="noStrike">
                <a:solidFill>
                  <a:srgbClr val="cc0000"/>
                </a:solidFill>
                <a:latin typeface="Dinmed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FC05-D4C1-4310-9EEA-40A1A59A54F5}" type="slidenum">
              <a:rPr b="1" lang="ru-RU" sz="1200" spc="-1" strike="noStrike">
                <a:solidFill>
                  <a:srgbClr val="cc0000"/>
                </a:solidFill>
                <a:latin typeface="Dinmed"/>
                <a:ea typeface="굴림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C0C8-612B-4436-A373-C914A87296DC}" type="slidenum">
              <a:rPr b="1" lang="ru-RU" sz="1200" spc="-1" strike="noStrike">
                <a:solidFill>
                  <a:srgbClr val="cc0000"/>
                </a:solidFill>
                <a:latin typeface="Dinmed"/>
                <a:ea typeface="굴림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3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66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grpSp>
        <p:nvGrpSpPr>
          <p:cNvPr id="1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2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POWER POINT TEMPLATE</a:t>
              </a:r>
              <a:endParaRPr b="1" lang="en-US" sz="1100" spc="-1" strike="noStrike">
                <a:solidFill>
                  <a:srgbClr val="cc0000"/>
                </a:solidFill>
                <a:latin typeface="Dinmed"/>
              </a:endParaRPr>
            </a:p>
          </p:txBody>
        </p:sp>
        <p:sp>
          <p:nvSpPr>
            <p:cNvPr id="3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cc0000"/>
                </a:solidFill>
                <a:latin typeface="Dinme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cc0000"/>
                </a:solidFill>
                <a:latin typeface="Dinmed"/>
              </a:endParaRPr>
            </a:p>
          </p:txBody>
        </p:sp>
      </p:grpSp>
      <p:sp>
        <p:nvSpPr>
          <p:cNvPr id="4" name="Rectangle 9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5" name="Rectangle 100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d8d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mkb-10.com/index.php?pid=4003" TargetMode="External"/><Relationship Id="rId2" Type="http://schemas.openxmlformats.org/officeDocument/2006/relationships/hyperlink" Target="http://mkb-10.com/index.php?pid=4015" TargetMode="Externa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10mkb.ru/articles.php-path=base-block16-block1-block1.htm" TargetMode="External"/><Relationship Id="rId2" Type="http://schemas.openxmlformats.org/officeDocument/2006/relationships/hyperlink" Target="http://10mkb.ru/articles.php-path=base-block16-block1-block2.htm" TargetMode="External"/><Relationship Id="rId3" Type="http://schemas.openxmlformats.org/officeDocument/2006/relationships/hyperlink" Target="http://10mkb.ru/articles.php-path=base-block16-block1-block3.htm" TargetMode="External"/><Relationship Id="rId4" Type="http://schemas.openxmlformats.org/officeDocument/2006/relationships/hyperlink" Target="http://10mkb.ru/articles.php-path=base-block16-block1-block4.htm" TargetMode="External"/><Relationship Id="rId5" Type="http://schemas.openxmlformats.org/officeDocument/2006/relationships/hyperlink" Target="http://10mkb.ru/articles.php-path=base-block16-block1-block5.htm" TargetMode="External"/><Relationship Id="rId6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Иванович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Оськов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80500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ноября 2017 года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Москв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611280" y="1052640"/>
            <a:ext cx="82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ВЕДЕНИЯ О </a:t>
            </a:r>
            <a:endParaRPr b="1" lang="en-US" sz="40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БОЛЕВАЕМОСТИ</a:t>
            </a:r>
            <a:br>
              <a:rPr sz="4000"/>
            </a:br>
            <a:endParaRPr b="1" lang="en-US" sz="40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838080" y="304920"/>
            <a:ext cx="7275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79320" y="1143000"/>
            <a:ext cx="77709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831960" y="1752480"/>
            <a:ext cx="7770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 – заболеваемость всего населения субъекта РФ;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 – заболеваемость сельского населения субъекта РФ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 flipV="1">
            <a:off x="6378480" y="3610800"/>
            <a:ext cx="982800" cy="320760"/>
          </a:xfrm>
          <a:prstGeom prst="rect">
            <a:avLst/>
          </a:prstGeom>
          <a:solidFill>
            <a:srgbClr val="f2f2f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905120" y="549360"/>
          <a:ext cx="5333760" cy="287280"/>
        </p:xfrm>
        <a:graphic>
          <a:graphicData uri="http://schemas.openxmlformats.org/drawingml/2006/table">
            <a:tbl>
              <a:tblPr/>
              <a:tblGrid>
                <a:gridCol w="5333760"/>
              </a:tblGrid>
              <a:tr h="287280">
                <a:tc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Е СТАТИСТИЧЕСКОЕ НАБЛЮДЕНИЕ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33840" marR="338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905120" y="907920"/>
          <a:ext cx="5333760" cy="287640"/>
        </p:xfrm>
        <a:graphic>
          <a:graphicData uri="http://schemas.openxmlformats.org/drawingml/2006/table">
            <a:tbl>
              <a:tblPr/>
              <a:tblGrid>
                <a:gridCol w="5333760"/>
              </a:tblGrid>
              <a:tr h="287640">
                <a:tc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33840" marR="338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703520" y="1055520"/>
          <a:ext cx="5738760" cy="1006560"/>
        </p:xfrm>
        <a:graphic>
          <a:graphicData uri="http://schemas.openxmlformats.org/drawingml/2006/table">
            <a:tbl>
              <a:tblPr/>
              <a:tblGrid>
                <a:gridCol w="5738760"/>
              </a:tblGrid>
              <a:tr h="100656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12.2001 № 195-ФЗ, а также статьей 3 Закона Российской Федерации от 13.05.1992 № 2761-1 “Об ответственности за нарушение порядка представления государственной статистической отчетности”</a:t>
                      </a:r>
                      <a:endParaRPr b="1" lang="en-US" sz="11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120" marR="51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3" name="Rectangle 1"/>
          <p:cNvSpPr/>
          <p:nvPr/>
        </p:nvSpPr>
        <p:spPr>
          <a:xfrm>
            <a:off x="0" y="-33480"/>
            <a:ext cx="1843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905120" y="2060640"/>
          <a:ext cx="5333760" cy="287280"/>
        </p:xfrm>
        <a:graphic>
          <a:graphicData uri="http://schemas.openxmlformats.org/drawingml/2006/table">
            <a:tbl>
              <a:tblPr/>
              <a:tblGrid>
                <a:gridCol w="5333760"/>
              </a:tblGrid>
              <a:tr h="287280">
                <a:tc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 ПРЕДОСТАВЛЕНИЕ В ЭЛЕКТРОННОМ ВИДЕ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33840" marR="338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523880" y="2349360"/>
          <a:ext cx="6096240" cy="576360"/>
        </p:xfrm>
        <a:graphic>
          <a:graphicData uri="http://schemas.openxmlformats.org/drawingml/2006/table">
            <a:tbl>
              <a:tblPr/>
              <a:tblGrid>
                <a:gridCol w="1146240"/>
                <a:gridCol w="3981600"/>
                <a:gridCol w="968400"/>
              </a:tblGrid>
              <a:tr h="576360"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30240" marR="3024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 ЧИСЛЕ ЗАБОЛЕВАНИЙ, ЗАРЕГИСТРИРОВАННЫХ У ПАЦИЕНТОВ, ПРОЖИВАЮЩИХ В РАЙОНЕ ОБСЛУЖИВАНИЯ МЕДИЦИНСКОЙ ОРГАНИЗАЦИИ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 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30240" marR="302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30240" marR="3024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512720" y="2924280"/>
          <a:ext cx="6096240" cy="2354040"/>
        </p:xfrm>
        <a:graphic>
          <a:graphicData uri="http://schemas.openxmlformats.org/drawingml/2006/table">
            <a:tbl>
              <a:tblPr/>
              <a:tblGrid>
                <a:gridCol w="3248640"/>
                <a:gridCol w="1301400"/>
                <a:gridCol w="95040"/>
                <a:gridCol w="1451160"/>
              </a:tblGrid>
              <a:tr h="137520"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: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редоставления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№ 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652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- медицинские организации, оказывающие медицинскую помощь в амбулаторных условиях и медицинские организации, имеющие подразделения, оказывающие медицинскую помощь в амбулаторных условиях: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у местного самоуправления, осуществляющему полномочия  в сфере охраны здоровья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местного самоуправления, осуществляющие полномочия  в сфере охраны здоровья: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у исполнительной власти субъекта Российской Федерации, осуществляющему  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мочия  в сфере охраны здоровья 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исполнительной власти субъекта Российской Федерации, осуществляющие полномочия в сфере охраны здоровья: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инистерству здравоохранения Российской Федерации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ерриториальному органу Росстата в субъекте Российской Федерации по установленному им адресу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января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20 февраля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марта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марта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Росстата: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тверждении формы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1.07.2016 № 355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внесении изменений (при наличии)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__________ № ___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__________ № ___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257480" y="5133960"/>
          <a:ext cx="6549840" cy="1612800"/>
        </p:xfrm>
        <a:graphic>
          <a:graphicData uri="http://schemas.openxmlformats.org/drawingml/2006/table">
            <a:tbl>
              <a:tblPr/>
              <a:tblGrid>
                <a:gridCol w="706320"/>
                <a:gridCol w="1947960"/>
                <a:gridCol w="1947600"/>
                <a:gridCol w="1947960"/>
              </a:tblGrid>
              <a:tr h="203040">
                <a:tc gridSpan="4"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тчитывающейся организаци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4"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овый адрес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___________________________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УД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тывающейся организации 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ПО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0934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838080" y="304920"/>
            <a:ext cx="7275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79320" y="1143000"/>
            <a:ext cx="77709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831960" y="509760"/>
            <a:ext cx="7770600" cy="58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формируется по 6 разделам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0-14 лет включительно) - 1000, 1001, 1002, 1100;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ервого года жизни - 1500, 1600, 1650, 1700, 1800, 1900;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00, 2001, 2100;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8 лет и более - 3000, 3002, 3100;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 старше  трудоспособного  возраста  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 55 лет  у женщин и 60 лет у мужчин) - 4000, 4001, 4100;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- 5000, 5100.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3640" y="1558440"/>
            <a:ext cx="85690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665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ы - 1000, 1001, 1002, 1100, 1700,   1800, 1900, 2000, 2001, 2100, 3000, 3002,3100, 4000, 4001, 4100, 5000, 5100 собираются         сведения о пациентах с 01 января по 31          декабря 2017 года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4665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ы 1500, 1600, 1650 собираются     сведения о пациентах, которые родились с 01 января по 31 декабря 2016 года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466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34880" y="1447920"/>
          <a:ext cx="8344080" cy="4733640"/>
        </p:xfrm>
        <a:graphic>
          <a:graphicData uri="http://schemas.openxmlformats.org/drawingml/2006/table">
            <a:tbl>
              <a:tblPr/>
              <a:tblGrid>
                <a:gridCol w="2251080"/>
                <a:gridCol w="550800"/>
                <a:gridCol w="709920"/>
                <a:gridCol w="471240"/>
                <a:gridCol w="473040"/>
                <a:gridCol w="551160"/>
                <a:gridCol w="550800"/>
                <a:gridCol w="550800"/>
                <a:gridCol w="550800"/>
                <a:gridCol w="541440"/>
                <a:gridCol w="512640"/>
                <a:gridCol w="630360"/>
              </a:tblGrid>
              <a:tr h="250560"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-раст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4 год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9 лет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44640" rIns="4464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44640" rIns="4464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"/>
          <p:cNvSpPr/>
          <p:nvPr/>
        </p:nvSpPr>
        <p:spPr>
          <a:xfrm flipV="1" rot="10800000">
            <a:off x="0" y="567000"/>
            <a:ext cx="91440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0-14 лет включительно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00) </a:t>
            </a:r>
            <a:r>
              <a:rPr b="1" lang="ru-RU" sz="1200" spc="-1" strike="noStrike">
                <a:solidFill>
                  <a:srgbClr val="000000"/>
                </a:solidFill>
                <a:latin typeface="Dinmed"/>
                <a:ea typeface="Times New Roman"/>
              </a:rPr>
              <a:t>  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ctr"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0000"/>
                </a:solidFill>
                <a:latin typeface="Dinmed"/>
                <a:ea typeface="Times New Roman"/>
              </a:rPr>
              <a:t>                                                                                 </a:t>
            </a:r>
            <a:endParaRPr b="1" lang="en-US" sz="10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53920" y="3070080"/>
          <a:ext cx="7845480" cy="1219320"/>
        </p:xfrm>
        <a:graphic>
          <a:graphicData uri="http://schemas.openxmlformats.org/drawingml/2006/table">
            <a:tbl>
              <a:tblPr/>
              <a:tblGrid>
                <a:gridCol w="3621240"/>
                <a:gridCol w="4224240"/>
              </a:tblGrid>
              <a:tr h="121932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2)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конец отчетного года (из стр. 1.0 гр. 15) детей  в возрасте: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4 года   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__________,       5-9 лет    2  _________.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879480" y="1449360"/>
          <a:ext cx="7827840" cy="1650960"/>
        </p:xfrm>
        <a:graphic>
          <a:graphicData uri="http://schemas.openxmlformats.org/drawingml/2006/table">
            <a:tbl>
              <a:tblPr/>
              <a:tblGrid>
                <a:gridCol w="3697200"/>
                <a:gridCol w="4130640"/>
              </a:tblGrid>
              <a:tr h="990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1)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зарегистрированных пациентов – всего  1____________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из них с диагнозом, установленным впервые в жизни  2 _______,  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0240">
                <a:tc grid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конец отчетного года (из гр. 13, стр. 1.0)  3_________.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503280" y="1268280"/>
          <a:ext cx="8264520" cy="5193000"/>
        </p:xfrm>
        <a:graphic>
          <a:graphicData uri="http://schemas.openxmlformats.org/drawingml/2006/table">
            <a:tbl>
              <a:tblPr/>
              <a:tblGrid>
                <a:gridCol w="2415960"/>
                <a:gridCol w="459000"/>
                <a:gridCol w="614160"/>
                <a:gridCol w="535320"/>
                <a:gridCol w="534960"/>
                <a:gridCol w="595080"/>
                <a:gridCol w="725400"/>
                <a:gridCol w="729000"/>
                <a:gridCol w="566640"/>
                <a:gridCol w="488880"/>
                <a:gridCol w="600120"/>
              </a:tblGrid>
              <a:tr h="182880"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мес.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24480" rIns="2448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5-P96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Прямоугольник 2"/>
          <p:cNvSpPr/>
          <p:nvPr/>
        </p:nvSpPr>
        <p:spPr>
          <a:xfrm>
            <a:off x="517680" y="549360"/>
            <a:ext cx="82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ти первого года жизни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00) 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116000" y="221940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анная таблица не сравнивается с  другими  таблицами  формы 12 и </a:t>
            </a:r>
            <a:endParaRPr b="1" lang="en-US" sz="3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ругими формами годового отчета</a:t>
            </a:r>
            <a:endParaRPr b="1" lang="en-US" sz="36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0" y="17078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Calibri"/>
              </a:rPr>
              <a:t>на начало года по всем строкам 0</a:t>
            </a:r>
            <a:endParaRPr b="1" lang="en-US" sz="3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Calibri"/>
              </a:rPr>
              <a:t>графа 4 = графе 9</a:t>
            </a:r>
            <a:endParaRPr b="1" lang="en-US" sz="3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Calibri"/>
              </a:rPr>
              <a:t>графа 8 = графе 10</a:t>
            </a:r>
            <a:endParaRPr b="1" lang="en-US" sz="36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8036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br>
              <a:rPr sz="2800"/>
            </a:br>
            <a:br>
              <a:rPr sz="2800"/>
            </a:b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5 таблицы 1500 представляется информация о заболеваниях детей первого месяца жизни из графы 4  (заболевания детей первого года жизни-всего). 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 графе 14 представляется информация о выздоро-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вших и умерших. </a:t>
            </a:r>
            <a:br>
              <a:rPr sz="2600"/>
            </a:br>
            <a:r>
              <a:rPr b="1" lang="ru-RU" sz="2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Выехавшие дети в данной графе не учитываются.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 графе 15 представляется информация о детях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щих под диспансерном  наблюдением по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-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и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47280"/>
            <a:ext cx="835164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болеваемость – важнейший показатель состояния общественного здоровья, характеризующи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ространенность, структуру и динамику зарегистрированных врачами болезн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реди населения в целом или в отдельных его группах     (возрастных, половых, территориальных, профессиональных и др.) 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ужащий   одним из критериев оценки рабо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рача, медицинско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чреждения, органа здравоохран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е посещени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татистическая единица учета, соответствующая   одному посещению здоровым (больным) врача или одному посещению  врачом     здорового (больного) на дому в зависимости от цели обращ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Термин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ращение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обобщающий характер, объединяя изложенные в письменной или устной форме предложения, заявления, ходатайства или жалобы  гражданина. Другими словам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циента в учрежде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это просьба об оказании ему медицинско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и по проблемам, связанным со здоровьем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учай заболевания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колько посещений в амбулаторно-поликли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ское учреждение, объединенные одним диагнозом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ращени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42336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ервого года жизни   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, влияющие на состояние здоровья населения и обращения в медицинские организации 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600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03200" y="1557360"/>
          <a:ext cx="8294760" cy="4535640"/>
        </p:xfrm>
        <a:graphic>
          <a:graphicData uri="http://schemas.openxmlformats.org/drawingml/2006/table">
            <a:tbl>
              <a:tblPr/>
              <a:tblGrid>
                <a:gridCol w="4643640"/>
                <a:gridCol w="780840"/>
                <a:gridCol w="1087560"/>
                <a:gridCol w="892080"/>
                <a:gridCol w="890640"/>
              </a:tblGrid>
              <a:tr h="168120"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вторны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00-Z9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для медицинского осмотра и обследования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00-Z13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инфекционными болезням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20-Z2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в связи с необходимостью проведения специфических процедур и получения медицинской помощ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40-Z5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, включающая использова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билитационных процедур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5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5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социально-экономическими и психосоциальными обстоятельствам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55-Z6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 с личным или семейным анамнезом и определенными обстоятельствами, влияющими на здоровь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80-Z9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болевания в семейном анамнез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80-Z8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глухота и потеря слух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1.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Прямоугольник 6"/>
          <p:cNvSpPr/>
          <p:nvPr/>
        </p:nvSpPr>
        <p:spPr>
          <a:xfrm>
            <a:off x="380880" y="6093000"/>
            <a:ext cx="8251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Dinmed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Dinmed"/>
              </a:rPr>
              <a:t>1650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Dinmed"/>
              </a:rPr>
              <a:t>Из стр. 1.7.1.1. таблицы 1600: обследовано на выявление кондуктивной и нейросенсорной потери слуха   1 ___________. 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1116000" y="2009160"/>
            <a:ext cx="770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В таблицы 1500, 1600, 1650 вносится 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информация о детях, которым в 2017 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году исполнился один год.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Соответственно родились они 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с 01.01.2016 по 31.12.2016 года.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855720" y="1379520"/>
          <a:ext cx="7813440" cy="4003560"/>
        </p:xfrm>
        <a:graphic>
          <a:graphicData uri="http://schemas.openxmlformats.org/drawingml/2006/table">
            <a:tbl>
              <a:tblPr/>
              <a:tblGrid>
                <a:gridCol w="4013280"/>
                <a:gridCol w="1101600"/>
                <a:gridCol w="1068480"/>
                <a:gridCol w="977760"/>
                <a:gridCol w="652320"/>
              </a:tblGrid>
              <a:tr h="1228680">
                <a:tc rowSpan="2">
                  <a:txBody>
                    <a:bodyPr lIns="7200" rIns="720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ис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ано заболеваний ф.31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ис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ано заболеваний ф.31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 всего ф.12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ужская область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312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706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083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46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ерская область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20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609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 679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9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964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нинградская область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858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020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152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1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 Санкт – Петербург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 889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 179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 752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180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гоградская область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005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 918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714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55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нбургская область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873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826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104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5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964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арская область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898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318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 307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3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ганская область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518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102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973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46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Саха (Якутия)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958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918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330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13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855720" y="2305080"/>
            <a:ext cx="7893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о 10 декабря 2017 года представить письменно 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бъяснения о росте заболеваемости среди детей первого года жизни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4"/>
          <p:cNvSpPr/>
          <p:nvPr/>
        </p:nvSpPr>
        <p:spPr>
          <a:xfrm>
            <a:off x="512640" y="620640"/>
            <a:ext cx="8205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Dinmed"/>
              </a:rPr>
              <a:t>(1700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Dinmed"/>
              </a:rPr>
              <a:t>Число новорожденных, поступивших под наблюдение данной организации   – всего  1  _________ </a:t>
            </a:r>
            <a:r>
              <a:rPr b="1" lang="ru-RU" sz="2800" spc="-1" strike="noStrike">
                <a:solidFill>
                  <a:srgbClr val="000000"/>
                </a:solidFill>
                <a:latin typeface="Dinmed"/>
              </a:rPr>
              <a:t>,</a:t>
            </a: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69880" y="1363680"/>
          <a:ext cx="8242200" cy="2193840"/>
        </p:xfrm>
        <a:graphic>
          <a:graphicData uri="http://schemas.openxmlformats.org/drawingml/2006/table">
            <a:tbl>
              <a:tblPr/>
              <a:tblGrid>
                <a:gridCol w="4308480"/>
                <a:gridCol w="3933720"/>
              </a:tblGrid>
              <a:tr h="9748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800)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новорожденных на 1 этапе аудиологического скрининга  1 _________, 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явлено с нарушениями слуха  2 ___________,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896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выявленных с нарушением слуха на I этапе аудиологического скрининга обследовано на 2 этапе аудиологического скрининга  3 _________,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явлено с нарушениями слуха  4 ___________,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3"/>
          <p:cNvSpPr/>
          <p:nvPr/>
        </p:nvSpPr>
        <p:spPr>
          <a:xfrm>
            <a:off x="468360" y="3037680"/>
            <a:ext cx="8254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0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новорожденных поступивших под наблюдение (табл. 1700)  обследовано на: фенилкетонурию   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ожденный гипотиреоз  6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 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ногенитальный синдром   7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ктоземию   8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  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ковисцидоз   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 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0" y="6078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аблицы заполняются за 2017 год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10872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0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</p:txBody>
      </p:sp>
      <p:pic>
        <p:nvPicPr>
          <p:cNvPr id="126" name="Таблица 2" descr=""/>
          <p:cNvPicPr/>
          <p:nvPr/>
        </p:nvPicPr>
        <p:blipFill>
          <a:blip r:embed="rId1"/>
          <a:stretch/>
        </p:blipFill>
        <p:spPr>
          <a:xfrm>
            <a:off x="463680" y="1523880"/>
            <a:ext cx="8339040" cy="5151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-12852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0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5120" y="1085760"/>
          <a:ext cx="8334360" cy="3911760"/>
        </p:xfrm>
        <a:graphic>
          <a:graphicData uri="http://schemas.openxmlformats.org/drawingml/2006/table">
            <a:tbl>
              <a:tblPr/>
              <a:tblGrid>
                <a:gridCol w="1589040"/>
                <a:gridCol w="478080"/>
                <a:gridCol w="534960"/>
                <a:gridCol w="460080"/>
                <a:gridCol w="459000"/>
                <a:gridCol w="534960"/>
                <a:gridCol w="534960"/>
                <a:gridCol w="536400"/>
                <a:gridCol w="614520"/>
                <a:gridCol w="615960"/>
                <a:gridCol w="458640"/>
                <a:gridCol w="459000"/>
                <a:gridCol w="615960"/>
                <a:gridCol w="442800"/>
              </a:tblGrid>
              <a:tr h="18288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шибк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013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явлено при диспансеризации</a:t>
            </a:r>
            <a:br>
              <a:rPr sz="2000"/>
            </a:b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1 - из заболеваний с впервые в жизни установленным диагнозом   (из гр. 10) юноши (гр. 13) – следует читать - из заболеваний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впервые в   жизни установленным диагнозом (из гр. 9) юноши </a:t>
            </a:r>
            <a:br>
              <a:rPr sz="2400"/>
            </a:br>
            <a:br>
              <a:rPr sz="14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864000" y="27144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64000" y="189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539640" y="1409760"/>
            <a:ext cx="82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всего» (гр.4) – «из них: юноши» (гр.7) = «всего </a:t>
            </a: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вушки»;</a:t>
            </a: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с впервые в жизни …» (гр.9) – «из заболеваний … юноши» (гр.13) = «девушки впервые».</a:t>
            </a: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девушки впервые»  -  не  должно  быть  отрица-</a:t>
            </a: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ельных значений. </a:t>
            </a: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492120" y="1445400"/>
            <a:ext cx="8462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1)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зарегистрированных пациентов – всего  1 _______________, из них с диагнозом, установленным 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 жизни  2 _________________ ,   состоит под диспансерным наблюдением на конец отчетного 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 (из стр.1.0, гр. 15)  3 _____________  , передано под наблюдение во взрослую поликлинику  4 ______________. 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336600" y="367920"/>
            <a:ext cx="880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зрослые 18 лет  и более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000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5120" y="1557360"/>
          <a:ext cx="8242200" cy="4753080"/>
        </p:xfrm>
        <a:graphic>
          <a:graphicData uri="http://schemas.openxmlformats.org/drawingml/2006/table">
            <a:tbl>
              <a:tblPr/>
              <a:tblGrid>
                <a:gridCol w="2460600"/>
                <a:gridCol w="487440"/>
                <a:gridCol w="706320"/>
                <a:gridCol w="547920"/>
                <a:gridCol w="631800"/>
                <a:gridCol w="549000"/>
                <a:gridCol w="547920"/>
                <a:gridCol w="630000"/>
                <a:gridCol w="632160"/>
                <a:gridCol w="469800"/>
                <a:gridCol w="579240"/>
              </a:tblGrid>
              <a:tr h="182880"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 при  диспан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44640" rIns="4464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44640" rIns="4464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531720" y="934560"/>
            <a:ext cx="832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зрослые старше трудоспособного возраста (с 55 лет у женщин и с 60 лет у мужчин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000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95440" y="2054160"/>
          <a:ext cx="8164440" cy="3824280"/>
        </p:xfrm>
        <a:graphic>
          <a:graphicData uri="http://schemas.openxmlformats.org/drawingml/2006/table">
            <a:tbl>
              <a:tblPr/>
              <a:tblGrid>
                <a:gridCol w="2436840"/>
                <a:gridCol w="484200"/>
                <a:gridCol w="698400"/>
                <a:gridCol w="542880"/>
                <a:gridCol w="625320"/>
                <a:gridCol w="544680"/>
                <a:gridCol w="542880"/>
                <a:gridCol w="623880"/>
                <a:gridCol w="625320"/>
                <a:gridCol w="465480"/>
                <a:gridCol w="574560"/>
              </a:tblGrid>
              <a:tr h="182880"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44640" rIns="4464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44640" rIns="4464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9280" y="227664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ИСЛЕ ЗАБОЛЕВАНИЙ, ЗАРЕГИСТРИРОВАННЫХ У                   ПАЦИЕНТОВ, ПРОЖИВАЮЩИХ          В РАЙОНЕ ОБСЛУЖИВАНИЯ                МЕДИЦИНСКОЙ ОРГАНИЗАЦИИ </a:t>
            </a:r>
            <a:br>
              <a:rPr sz="4500"/>
            </a:br>
            <a:r>
              <a:rPr b="1" i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 2017 год 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468360" y="230832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20908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000)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удентов, подлежавших диспансеризации в отчетном году  1 _________,   число студентов, прошедших диспансеризацию в отчетном году  2 __________, выявлено у них заболеваний с диагнозом, установленным впервые в жизни – всего  3 _________, из них: взято под диспансерное наблюдение  4 ________ 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100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ческие медицинские осмотры обучающихся в общеобразовательных организациях и профессиональных образовательных организациях, а также обра-зовательных организациях высшего образования в целях раннего выявлен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конного потребления наркотических средств и психотропных вещест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ло осмотру  1 _____________,  осмотрено 2 ___________ 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59880" y="6445440"/>
            <a:ext cx="765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0" y="307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испансеризация студентов высших 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х учреждений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3800"/>
            <a:ext cx="7772400" cy="23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в таблицах 1000, 1500, 2000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0, 4000 имеют одинаковую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мерацию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61009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заполнения формы федерального статистическог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№12</a:t>
            </a:r>
            <a:br>
              <a:rPr sz="36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4865400"/>
            <a:ext cx="8229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заполняются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1000, 2000, 3000, 400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году (+ и -)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графам 5+6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br>
              <a:rPr sz="2800"/>
            </a:b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342720"/>
            <a:ext cx="8640720" cy="54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рафа 10 - взято под диспансерное наблюдение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в течение года (+) , из графы 9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рафа 11 – выявлено при профосмотре, из графы 9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рафа 12 – выявлено  при  диспансеризации опре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деленных групп взрослого населения, из графы 9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аблице 2000 - выявлено  при  диспансеризац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рафа 14 – снято с диспансерного наблюдения (п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всем причинам: выздоровление, смерть, переход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другую возрастную группу, переезд на другое мест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жительства и др.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рафа 15 – состоит под диспансерным наблюдением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 конец отчетного года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рафы 7,13,16-в таблице 2000 –все данные о юношах.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22360" y="3060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9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ВИЖЕНИЕ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0800" y="274680"/>
            <a:ext cx="8683560" cy="61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- по 31 декабря), то он считается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ростком; 18 лет – взрослым, т.е. переход из одной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растной группы в другую производится на начало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ода в не зависимости от того, когда у ребёнка или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ростка день рождения. При этом вся их ранее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звестная заболеваемость показывается в графе 4 –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его, и только вновь выявленная в текущем году в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вичной заболеваемости (графы 9 и 11 у подрост-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в, графа 9 у взрослых) соответствующих  таблиц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61599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825012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онар, минуя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клинику, следует включать в отчёт н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х основаниях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талон может быть заполнен в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-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аре и передан в поликлиник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либо запол-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 в поликлинике на основании выписки из карты стационарного больного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9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Графа 8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406440"/>
            <a:ext cx="4572000" cy="645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572000" y="419040"/>
            <a:ext cx="4572000" cy="6438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1640" y="350496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Форма ФСН №12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«Сведения о числе заболеваний, зарегистрированных у пациентов, проживающих в районе обслуживания медицинской организации»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40976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случай острого заболевания заре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рированный в текущем году не подлежит перерегистрации в следующем. В заболевае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ь не следует включать заболевания, коды которых отмечены “звездочкой” (альтерна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вные), используемые только для специаль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х разработок по проявлениям основн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и только вместе с кодом основ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 заболевания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острые заболевания и состояния (например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й отит, острый миокардит, острые респираторны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и верхних и нижних дыхательных путей, грипп, 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травмы, за исключением последствий и др.) регистри-руются столько раз, сколько они возникают в течение отчет-ного года. При этом графа 4 должна быть равна графе 9 п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м строкам таблиц 1000, 1500, 2000, 3000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0.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 начало года по данным строкам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Это не относится к тем заболеваниям, при котор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ие заболевания, а не их острые форм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84836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ри составлении отчета о забо-леваемости населения сверять данные отдель-ных строк с профильными специалистами. 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Сведения для заполнения отчета в различ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уберкулез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екционные заболевания, Роспотребнадзор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иатрические заболев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др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263600"/>
            <a:ext cx="82296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2.1,10.1,10.4.1.1, 10.4.2,10.4.3,10.4.4,10.5.1,10.5.2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5.3, 10.6.1,10.6.2,10.6.3,10.6.4,10.6.7,11.1,11.1.1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1.2,11.2,11.3, 11.4, 17.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рока 20.0 может быть неравенство на коды Т90-Т98, больных вибрационной болезнью и больных получающих лечение по травме больше год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 и требует письменного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ения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2.2, 7.1, 7.1.1, 7.1.2, 12.9.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3880" y="1773360"/>
            <a:ext cx="8229600" cy="30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СТВЕННОСТ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4280" y="414360"/>
            <a:ext cx="8364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br>
              <a:rPr sz="24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-клинику, в больницу, то «Талон  амбулаторного пациента» (далее - Талон) заполняют в поликлинике после выписки пациента из стаци-онара на основании "Выписного эпикриза". При этом если пациент пришел на прием, то в Талоне производится отметка о регистрации всех заболеваний для включения этих сведений в форму федераль-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 статистического наблюдения № 12 и вносится отметка о посе-щении. Если пациент на прием не пришел, то в Талоне регистриру-ются все заболевания без отметки о посещении. В Талоне такж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 быть зарегистрировано обращение по поводу заболевания, включающее в себя одно или несколько посещений, в результат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х цель обращения достигнута. При заполнении Талона врач также делает отметки о дате впервые выявленного основного и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а. Эта данные необходимы для заполнения формы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го статистического наблюдения № 12.</a:t>
            </a:r>
            <a:br>
              <a:rPr sz="2200"/>
            </a:br>
            <a:br>
              <a:rPr sz="2000"/>
            </a:b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0000" y="1341000"/>
            <a:ext cx="86454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. Некоторые инфекционные 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зитарные болезни. А00-И99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0-D48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6960" y="1393560"/>
            <a:ext cx="844416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3. Болезни крови, кроветворных органов 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е нарушения, вовлекающие иммунны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0-D89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трока 4.2 включает в себя коды D65-D69 и включает в себя тромбоцитопении, тромбоцитопатии, аллергически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ит (код D69.X). </a:t>
            </a:r>
            <a:br>
              <a:rPr sz="24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88560"/>
            <a:ext cx="822960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4. Болезни эндокринной системы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расстройства питания и нарушения обме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веществ. Е00-Е9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фруется кодом – E04.0. Отстава- ние в физическом развитии кодируют по эндокринной патологии–E45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5.4, 5.15 у взрослых и подростков диагноз «Гипофизарны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изм, Гипопитуитаризм юношеский» - всегда учитывается с «-», так как первично диагноз устанавливается еще в детском возрасте (код – Е23.0). Причины возникновения нанизма (карликовости) могут быть различны, соответственно и кодировать его нужно по-разному. Пример: гипопитуитаризм вызванный ле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3840" y="1773000"/>
            <a:ext cx="848808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5. Психические расстройства 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тройства поведения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0-F99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4, 9, 15 формы 12 равны соответствующим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м и строкам форм 10, 11, 36, 3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Й В ФОРМЕ НЕТ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форму 12 не включают сведения о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болеваниях с кодами по МКБ-10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меченных  звездочкой (*)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04640"/>
            <a:ext cx="82296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 будет приниматься при равенств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 4, 9, 15 с формами по психиатрии 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логии и с 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вижением диспансерной 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уппы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ЕКТ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шу к форме 12 приложить справку по строчкам 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.0, 6.1, 6.2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___________________субъект РФ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6.0 на конец прошлого года графа 15=____, из н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шли по возрасту в текущем году ___, графа 8=____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о с учета по всем причинам _____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6.1 на конец прошлого года графа 15=____, из н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шли по возрасту в текущем году ___, графа 8=____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о с учета по всем причинам _____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6.2 на конец прошлого года графа 15=____, из н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шли по возрасту в текущем году ___, графа 8=____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о с учета по всем причинам _____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60360" y="1628640"/>
          <a:ext cx="8432640" cy="4869000"/>
        </p:xfrm>
        <a:graphic>
          <a:graphicData uri="http://schemas.openxmlformats.org/drawingml/2006/table">
            <a:tbl>
              <a:tblPr/>
              <a:tblGrid>
                <a:gridCol w="2003400"/>
                <a:gridCol w="681120"/>
                <a:gridCol w="357120"/>
                <a:gridCol w="623880"/>
                <a:gridCol w="519120"/>
                <a:gridCol w="487440"/>
                <a:gridCol w="465120"/>
                <a:gridCol w="487440"/>
                <a:gridCol w="582480"/>
                <a:gridCol w="584280"/>
                <a:gridCol w="465120"/>
                <a:gridCol w="465120"/>
                <a:gridCol w="711000"/>
              </a:tblGrid>
              <a:tr h="457200">
                <a:tc rowSpan="3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ей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(класс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адаптиро-ванный для использова-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я в РФ)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 наблюдение в отчетном году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 впервые в жизни установленным диагнозом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наблюдения в отчетном году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наблюдением больных на конец отчетного года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больных, показанных 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р.10, переведено в течение года из группы больных, получавших консультативно-лечебную помощь 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в связи с выздо-ровле-нием или стойким улучше-нием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 включи-тельно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-стков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 включи-тельно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-стков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- всего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09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20-F99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роме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*****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зы и (или) состояния слабоумия 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,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 (часть), 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роме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*****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1"/>
          <p:cNvSpPr/>
          <p:nvPr/>
        </p:nvSpPr>
        <p:spPr>
          <a:xfrm>
            <a:off x="493560" y="-22680"/>
            <a:ext cx="832032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36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генты больных, находящихся под диспансерным наблюдением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100)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0*</a:t>
            </a:r>
            <a:br>
              <a:rPr sz="2000"/>
            </a:b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Деменция при болезни Альцгеймера (G30.-+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02*</a:t>
            </a:r>
            <a:br>
              <a:rPr sz="2000"/>
            </a:b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Деменция при других болезнях, классифицированных в других рубриках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1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8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20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2800"/>
            </a:b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трочке 7.0, в психиатрии не показываются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852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6. Болезни нервной системы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00-G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84464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нии регуляции сердечно-сосудистой, дыхательной и др. систем организма, могут быть синдромом таких заболеваний, как: гипертоническая болезнь, хроническая ишемическая болезнь сердца, эндокринные нарушения и т.д. В этом случае учету подлежит основное заболевание. Расстройства вегетативной нервной системы кодируются G90.8, соматоформная дисфункция вегетативной нервной системы F45.3 (диагноз ставит психиатр)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7.6 и 7.9 всегда больше суммы подстрочников. У взрослых в строку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9 должны быть включены последствия травм, ОНМК в виде парезов, параличе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исьмо МЗиСР РФ от 26 апреля 2011 г. №14-9/10/2-4150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7. Болезни глаза и его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точного аппарата. Н00-Н5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3640" y="1844280"/>
            <a:ext cx="85690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зм аккомодации и др. показываются только по графам «всего и впервые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рожденные соответственно показать по классу Q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8.12 включает в себя слепоту на один глаз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112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8. Болезни уха и сосцевидного отростк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60-Н95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952360"/>
            <a:ext cx="822960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должна быть больше суммы своих подстрочников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00-I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27200" y="1600200"/>
            <a:ext cx="795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3 таблиц 1000, 2000, 3000 и 4000 показывают только тех пациентов, которые заболели в четвертом ква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е отчетного года. Графа 4 таблиц 1000, 2000, 3000 и 4000 долж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равна графе 7 по строке 10.1. Если заболевание перешло в хро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кую форму, то пациента по строке 10.1 с учета снимают, а по стр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10.2 берут на учет, как впервые выявленное хроническое заболе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е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 талоном). 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8360" y="274320"/>
            <a:ext cx="7781760" cy="59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ые гипертензии не учитываются в 12 форме. Статталон не заполняется, а кодируется основное забол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ие. Пример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й гипертензи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67.2; ил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ьный атероскле-р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 талона (I67.2 и I10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ятся по двум строкам – стро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трока 10.3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болеваний, зарегистрированных у пациентов, проживаю-щих в районе обслуживания медицинской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», составляется всеми медицинскими организациями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е в номенклатуру медицинских организаций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медицинскую помощь в амбулаторных условия (приказ Минздрава России от 6 августа 2013 г. № 529н «Об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и номенклатуры медицинских организаций»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егистрирован Министерством юстиции Российской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13.09.2013 № 29950), в соответствии с приказом от 21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ля 2016 года № 355 «Об утверждении статистического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рия для организации Министерством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Российской Федерации федерального статистичес-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наблюдения в сфере охраны здоровья» Федеральной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ы государственной статистики. </a:t>
            </a:r>
            <a:br>
              <a:rPr sz="2200"/>
            </a:br>
            <a:br>
              <a:rPr sz="24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2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 rot="10800000">
            <a:off x="672480" y="6858000"/>
            <a:ext cx="77770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3080" y="1412640"/>
            <a:ext cx="7939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굴림"/>
              </a:rPr>
              <a:t>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    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лучаи приступов стенокардии при атеросклеротичес-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й болезни сердца как самостоятельные заболевания не 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гистрируются. Графы 4 и 9 не равны.</a:t>
            </a:r>
            <a:br>
              <a:rPr sz="2400"/>
            </a:br>
            <a:br>
              <a:rPr sz="2800"/>
            </a:b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6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굴림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6524280"/>
            <a:ext cx="64008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трока 10.4.1.1 – </a:t>
            </a: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20.0 –</a:t>
            </a:r>
            <a:r>
              <a:rPr b="0" lang="ru-RU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4000"/>
            </a:br>
            <a:r>
              <a:rPr b="0" lang="ru-RU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 txBox="1"/>
          <p:nvPr/>
        </p:nvSpPr>
        <p:spPr>
          <a:xfrm rot="10800000">
            <a:off x="457200" y="6626160"/>
            <a:ext cx="822960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4440" y="1600200"/>
            <a:ext cx="803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28480" y="836280"/>
            <a:ext cx="82915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, повторными инфарктами миокарда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ми нарушениями мозгового кровообращения наблюда-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тся в течение 28 дней, а затем снимаются с диспансерного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а, поэтому в графе 15 таблиц 2000, 3000 и 4000 отмечают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х пациентов, которые заболели в декабре месяце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.4 включает только идиопати-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кие (самостоятельные) формы заболева-ний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28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5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10.6.1 – 10.6.4 острое нарушение мозгового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обращения всегда первичный (+), с (-) нет. Таким обра-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м, гр. 4 всегда равна гр. 9. По диагнозу «Инсульт» больные подлежат диспансерному наблюдению по гр. 15  на протяже-нии 30 дней от момента начальных проявлений или более в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ах одного эпизода лечения. В дальнейшем диспансер-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2803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6.7 «последствия цереброваскулярных бо-лезней» диагноз используется только в случае смер-ти пациент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В строке 10.6.7 заполняются графы 4, 9 и они равны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77720" y="6013440"/>
            <a:ext cx="819144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50920" y="549360"/>
            <a:ext cx="5042160" cy="1079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Dinmed"/>
              </a:rPr>
              <a:t>КОДИРОВАНИЕ ОСТРЫХ 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Dinmed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Dinmed"/>
              </a:rPr>
              <a:t>ЦЕРЕБРОВАСКУЛЯРНЫХ БОЛЕЗНЕЙ 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Dinmed"/>
              </a:rPr>
              <a:t>И ИХ ПОСЛЕДСТВИЙ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2230560" y="1628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1332000" y="2030400"/>
            <a:ext cx="2160360" cy="139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4572000" y="1628640"/>
            <a:ext cx="360360" cy="1440000"/>
          </a:xfrm>
          <a:prstGeom prst="downArrow">
            <a:avLst>
              <a:gd name="adj1" fmla="val 50000"/>
              <a:gd name="adj2" fmla="val 999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6732720" y="1628640"/>
            <a:ext cx="360360" cy="360360"/>
          </a:xfrm>
          <a:prstGeom prst="downArrow">
            <a:avLst>
              <a:gd name="adj1" fmla="val 50000"/>
              <a:gd name="adj2" fmla="val 24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1" name="Oval 7"/>
          <p:cNvSpPr/>
          <p:nvPr/>
        </p:nvSpPr>
        <p:spPr>
          <a:xfrm>
            <a:off x="6012000" y="2030400"/>
            <a:ext cx="1800000" cy="1173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332000" y="2349360"/>
            <a:ext cx="2160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0000"/>
                </a:solidFill>
                <a:latin typeface="Dinmed"/>
              </a:rPr>
              <a:t>ПАЦИЕНТЫ, НАХОДЯЩИЕСЯ ПОД НАБЛЮДЕНИЕМ И СЛУЧАИ ЛЕТАЛЬНОГО ИСХОДА В СРОКИ ДО 30 СУТОК</a:t>
            </a:r>
            <a:endParaRPr b="1" lang="en-US" sz="10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6012000" y="2349360"/>
            <a:ext cx="1800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0000"/>
                </a:solidFill>
                <a:latin typeface="Dinmed"/>
              </a:rPr>
              <a:t>СЛУЧАИ ЛЕТАЛЬНОГО ИСХОДА В СРОКИ 30 СУТОК И БОЛЕЕ</a:t>
            </a:r>
            <a:endParaRPr b="1" lang="en-US" sz="1000" spc="-1" strike="noStrike">
              <a:solidFill>
                <a:srgbClr val="cc0000"/>
              </a:solidFill>
              <a:latin typeface="Dinmed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1332000" y="3189240"/>
            <a:ext cx="360360" cy="477720"/>
          </a:xfrm>
          <a:prstGeom prst="downArrow">
            <a:avLst>
              <a:gd name="adj1" fmla="val 50000"/>
              <a:gd name="adj2" fmla="val 330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7451640" y="3068640"/>
            <a:ext cx="360360" cy="360360"/>
          </a:xfrm>
          <a:prstGeom prst="downArrow">
            <a:avLst>
              <a:gd name="adj1" fmla="val 50000"/>
              <a:gd name="adj2" fmla="val 24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611280" y="3666960"/>
            <a:ext cx="1800000" cy="12020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6732720" y="3429000"/>
            <a:ext cx="1800000" cy="107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7093080" y="3789360"/>
            <a:ext cx="107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6732720" y="3619440"/>
            <a:ext cx="180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Dinmed"/>
              </a:rPr>
              <a:t>КОД </a:t>
            </a:r>
            <a:r>
              <a:rPr b="1" lang="en-US" sz="2000" spc="-1" strike="noStrike">
                <a:solidFill>
                  <a:srgbClr val="cc0000"/>
                </a:solidFill>
                <a:latin typeface="Dinmed"/>
              </a:rPr>
              <a:t>I69</a:t>
            </a:r>
            <a:r>
              <a:rPr b="1" lang="en-US" sz="1200" spc="-1" strike="noStrike">
                <a:solidFill>
                  <a:srgbClr val="cc0000"/>
                </a:solidFill>
                <a:latin typeface="Dinmed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Dinmed"/>
              </a:rPr>
              <a:t>с соответствующими четвертыми знакам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611280" y="3789360"/>
            <a:ext cx="180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Dinmed"/>
              </a:rPr>
              <a:t>КОДЫ</a:t>
            </a:r>
            <a:r>
              <a:rPr b="1" lang="ru-RU" sz="2000" spc="-1" strike="noStrike">
                <a:solidFill>
                  <a:srgbClr val="cc0000"/>
                </a:solidFill>
                <a:latin typeface="Dinmed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Dinmed"/>
              </a:rPr>
              <a:t>I60-I64</a:t>
            </a:r>
            <a:r>
              <a:rPr b="1" lang="en-US" sz="1200" spc="-1" strike="noStrike">
                <a:solidFill>
                  <a:srgbClr val="cc0000"/>
                </a:solidFill>
                <a:latin typeface="Dinmed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Dinmed"/>
              </a:rPr>
              <a:t>с соответствующими четвертыми знакам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51" name="filecab2"/>
          <p:cNvSpPr/>
          <p:nvPr/>
        </p:nvSpPr>
        <p:spPr>
          <a:xfrm>
            <a:off x="3492360" y="3068640"/>
            <a:ext cx="2519640" cy="1044720"/>
          </a:xfrm>
          <a:custGeom>
            <a:avLst/>
            <a:gdLst>
              <a:gd name="textAreaLeft" fmla="*/ 117000 w 2519640"/>
              <a:gd name="textAreaRight" fmla="*/ 2396520 w 2519640"/>
              <a:gd name="textAreaTop" fmla="*/ 24480 h 1044720"/>
              <a:gd name="textAreaBottom" fmla="*/ 956160 h 1044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0"/>
                </a:lnTo>
                <a:lnTo>
                  <a:pt x="0" y="10800"/>
                </a:lnTo>
                <a:lnTo>
                  <a:pt x="0" y="20367"/>
                </a:lnTo>
                <a:lnTo>
                  <a:pt x="5807" y="20367"/>
                </a:lnTo>
                <a:lnTo>
                  <a:pt x="5807" y="20637"/>
                </a:lnTo>
                <a:lnTo>
                  <a:pt x="5970" y="20818"/>
                </a:lnTo>
                <a:lnTo>
                  <a:pt x="6133" y="20968"/>
                </a:lnTo>
                <a:lnTo>
                  <a:pt x="6404" y="21239"/>
                </a:lnTo>
                <a:lnTo>
                  <a:pt x="6567" y="21419"/>
                </a:lnTo>
                <a:lnTo>
                  <a:pt x="7055" y="21510"/>
                </a:lnTo>
                <a:lnTo>
                  <a:pt x="7544" y="21600"/>
                </a:lnTo>
                <a:lnTo>
                  <a:pt x="8141" y="21600"/>
                </a:lnTo>
                <a:lnTo>
                  <a:pt x="10800" y="21600"/>
                </a:lnTo>
                <a:lnTo>
                  <a:pt x="13188" y="21600"/>
                </a:lnTo>
                <a:lnTo>
                  <a:pt x="13948" y="21600"/>
                </a:lnTo>
                <a:lnTo>
                  <a:pt x="14436" y="21510"/>
                </a:lnTo>
                <a:lnTo>
                  <a:pt x="14708" y="21419"/>
                </a:lnTo>
                <a:lnTo>
                  <a:pt x="15033" y="21239"/>
                </a:lnTo>
                <a:lnTo>
                  <a:pt x="15359" y="20968"/>
                </a:lnTo>
                <a:lnTo>
                  <a:pt x="15522" y="20818"/>
                </a:lnTo>
                <a:lnTo>
                  <a:pt x="15684" y="20637"/>
                </a:lnTo>
                <a:lnTo>
                  <a:pt x="15684" y="20367"/>
                </a:lnTo>
                <a:lnTo>
                  <a:pt x="21600" y="20367"/>
                </a:lnTo>
                <a:lnTo>
                  <a:pt x="21600" y="10800"/>
                </a:lnTo>
                <a:lnTo>
                  <a:pt x="21600" y="0"/>
                </a:lnTo>
                <a:lnTo>
                  <a:pt x="10800" y="0"/>
                </a:lnTo>
                <a:close/>
                <a:moveTo>
                  <a:pt x="7055" y="20367"/>
                </a:moveTo>
                <a:lnTo>
                  <a:pt x="7055" y="20547"/>
                </a:lnTo>
                <a:lnTo>
                  <a:pt x="7055" y="20637"/>
                </a:lnTo>
                <a:lnTo>
                  <a:pt x="7218" y="20728"/>
                </a:lnTo>
                <a:lnTo>
                  <a:pt x="7381" y="20818"/>
                </a:lnTo>
                <a:lnTo>
                  <a:pt x="7544" y="20908"/>
                </a:lnTo>
                <a:lnTo>
                  <a:pt x="7707" y="20968"/>
                </a:lnTo>
                <a:lnTo>
                  <a:pt x="7815" y="20968"/>
                </a:lnTo>
                <a:lnTo>
                  <a:pt x="8141" y="20968"/>
                </a:lnTo>
                <a:lnTo>
                  <a:pt x="13188" y="20968"/>
                </a:lnTo>
                <a:lnTo>
                  <a:pt x="13459" y="20968"/>
                </a:lnTo>
                <a:lnTo>
                  <a:pt x="13785" y="20968"/>
                </a:lnTo>
                <a:lnTo>
                  <a:pt x="13948" y="20908"/>
                </a:lnTo>
                <a:lnTo>
                  <a:pt x="14111" y="20818"/>
                </a:lnTo>
                <a:lnTo>
                  <a:pt x="14273" y="20728"/>
                </a:lnTo>
                <a:lnTo>
                  <a:pt x="14273" y="20637"/>
                </a:lnTo>
                <a:lnTo>
                  <a:pt x="14436" y="20547"/>
                </a:lnTo>
                <a:lnTo>
                  <a:pt x="14436" y="20367"/>
                </a:lnTo>
                <a:lnTo>
                  <a:pt x="7055" y="20367"/>
                </a:lnTo>
                <a:close/>
              </a:path>
              <a:path w="21600" h="21600">
                <a:moveTo>
                  <a:pt x="7055" y="20367"/>
                </a:moveTo>
                <a:lnTo>
                  <a:pt x="5807" y="20367"/>
                </a:lnTo>
                <a:lnTo>
                  <a:pt x="21600" y="20367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3492360" y="3189240"/>
            <a:ext cx="2519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0000"/>
                </a:solidFill>
                <a:latin typeface="Dinmed"/>
              </a:rPr>
              <a:t>У ПАЦИЕНТОВ, НАХОДЯЩИХСЯ ПОД НАБЛЮДЕНИЕМ С ПОСЛЕДСТВИЯМИ ОСТРЫХ ЦВБ В СРОКИ 30 СУТОК И БОЛЕЕ</a:t>
            </a:r>
            <a:endParaRPr b="1" lang="en-US" sz="10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53" name="AutoShape 19"/>
          <p:cNvSpPr/>
          <p:nvPr/>
        </p:nvSpPr>
        <p:spPr>
          <a:xfrm>
            <a:off x="4572000" y="4113360"/>
            <a:ext cx="360360" cy="395280"/>
          </a:xfrm>
          <a:prstGeom prst="downArrow">
            <a:avLst>
              <a:gd name="adj1" fmla="val 50000"/>
              <a:gd name="adj2" fmla="val 27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54" name="AutoShape 20"/>
          <p:cNvSpPr/>
          <p:nvPr/>
        </p:nvSpPr>
        <p:spPr>
          <a:xfrm>
            <a:off x="3132000" y="4508640"/>
            <a:ext cx="3240360" cy="18000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3492360" y="4869000"/>
            <a:ext cx="2519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3132000" y="4834080"/>
            <a:ext cx="324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Dinmed"/>
              </a:rPr>
              <a:t>КОДИРУЮТСЯ ОСТАТОЧНЫЕ СОМАТИЧЕСКИЕ СОСТОЯНИЯ  ОСТРЫХ ЦЕРЕБРОВАСКУЛЯРНЫХ БОЛЕЗНЕЙ</a:t>
            </a:r>
            <a:endParaRPr b="1" lang="en-US" sz="14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굴림"/>
              </a:rPr>
              <a:t>Последствия инсульта</a:t>
            </a:r>
            <a:br>
              <a:rPr sz="4000"/>
            </a:br>
            <a:r>
              <a:rPr b="1" lang="ru-RU" sz="1800" spc="-1" strike="noStrike">
                <a:solidFill>
                  <a:srgbClr val="ff0000"/>
                </a:solidFill>
                <a:latin typeface="굴림"/>
              </a:rPr>
              <a:t>(ишемического, геморрагического, неуточненного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ru-RU" sz="1800" spc="-1" strike="noStrike">
                <a:solidFill>
                  <a:srgbClr val="ff0000"/>
                </a:solidFill>
                <a:latin typeface="굴림"/>
              </a:rPr>
              <a:t>кодирование сформировавшегося нового состояния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 ]</a:t>
            </a:r>
            <a:r>
              <a:rPr b="1" lang="ru-RU" sz="1600" spc="-1" strike="noStrike">
                <a:solidFill>
                  <a:srgbClr val="ff0000"/>
                </a:solidFill>
                <a:latin typeface="굴림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50560" y="1989000"/>
            <a:ext cx="4321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굴림"/>
              </a:rPr>
              <a:t>СОСТОЯНИЯ ПОДЛЕЖАЩИЕ КОДИРОВАНИЮ ПОСЛЕ ОКОНЧАНИЯ ОСТРОГО ПЕРИОД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굴림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굴림"/>
              </a:rPr>
              <a:t>(через 30 дней)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굴림"/>
              </a:rPr>
              <a:t>1. Параличи и парезы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굴림"/>
              </a:rPr>
              <a:t>2. Изменения тонуса мышц      паретичных конечностей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굴림"/>
              </a:rPr>
              <a:t>3. Постинсультные трофические нарушения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굴림"/>
              </a:rPr>
              <a:t>4. Нарушение чувствительност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굴림"/>
              </a:rPr>
              <a:t>5. Центральный болевой синдро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굴림"/>
              </a:rPr>
              <a:t>6. Речевые нарушения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굴림"/>
              </a:rPr>
              <a:t>7. Нарушения высших психических функций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굴림"/>
              </a:rPr>
              <a:t>8. Зрительные нарушения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932000" y="2349000"/>
            <a:ext cx="375444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-4474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628560" indent="-4474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굴림"/>
              </a:rPr>
              <a:t>ВОЗМОЖНЫЕ ВТОРИЧНЫЕ ОСЛОЖНЕНИЯ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628560" indent="-4474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628560" indent="-4474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굴림"/>
              </a:rPr>
              <a:t>Контрактуры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28560" indent="-4474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굴림"/>
              </a:rPr>
              <a:t>Пневмони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28560" indent="-4474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굴림"/>
              </a:rPr>
              <a:t>Пролежн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28560" indent="-4474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굴림"/>
              </a:rPr>
              <a:t>Деменция (слабоумие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28560" indent="-4474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굴림"/>
              </a:rPr>
              <a:t>Эпилепсия (судороги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28560" indent="-4474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굴림"/>
              </a:rPr>
              <a:t>Нарушение функции тазовых органов (задержка или недержание мочи, кала) и др.</a:t>
            </a:r>
            <a:r>
              <a:rPr b="0" lang="ru-RU" sz="1600" spc="-1" strike="noStrike">
                <a:solidFill>
                  <a:srgbClr val="6633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6045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-торных условиях и ведущая только консультативный прием, составляет форму по соответствующим строкам лишь в том случае, если в данной организации у па-циентов не только выявляются эти заболевания, но  и осуществляется их лечение, а также и диспансерное наблюдение за пациентами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24000" y="1125360"/>
          <a:ext cx="8569080" cy="52945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е координации движений, общая слабость или даже паралич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чем двигательная активность может быть нарушена, как полностью, так и частично (в зависимости от того, какие именно отделы головного мозга были поражены вследствие кровоизлияния).</a:t>
                      </a:r>
                      <a:endParaRPr b="1" lang="en-US" sz="14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я реч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Это также достаточно распространенная проблема, с которой сталкиваются многие люди, перенесшие геморрагический инсульт. Причем, помимо речи, у пациента могут возникать также сложности с чтением и письмом.</a:t>
                      </a:r>
                      <a:endParaRPr b="1" lang="en-US" sz="14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еденческие и психологические нарушени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Если человек перенес рассматриваемое заболевание, то у него могут наблюдаться неадекватные реакции на изменения условий окружающей среды. Кроме того, родственники такого больного могут столкнуться с немотивированными вспышками агрессии, излишней пугливостью, разнообразными маниями.</a:t>
                      </a:r>
                      <a:endParaRPr b="1" lang="en-US" sz="14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я глотани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Это распространенное и достаточно опасное последствие болезни, поскольку пища или напитки, потребляемые пациентом, могут попадать в его дыхательное горло.</a:t>
                      </a:r>
                      <a:endParaRPr b="1" lang="en-US" sz="14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я восприяти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Больной, даже обладая идеальным зрением, может не понимать, что именно он видит. А также у таких пациентов нередко возникают проблемы с использованием самых обыкновенных бытовых предметов.</a:t>
                      </a:r>
                      <a:endParaRPr b="1" lang="en-US" sz="14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пилепсия или сильные бол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Эти последствия инфаркта мозга наблюдаются у пациентов достаточно редко, но все-таки они заслуживают внимания. Причем болевые ощущения, вызванные рассматриваемым заболеванием, как правило, невозможно ликвидировать с помощью медикаментозных средств (даже самых сильных).</a:t>
                      </a:r>
                      <a:endParaRPr b="1" lang="en-US" sz="14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е функций мочевого пузыря и кишечника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ни могут быть самыми разнообразными, но чаще всего у больных наблюдается именно недержание мочи или кала.</a:t>
                      </a:r>
                      <a:endParaRPr b="1" lang="en-US" sz="14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굴림"/>
              </a:rPr>
              <a:t>САМЫЕ РАСПРОСТРАНЕННЫЕ ПОСЛЕДСТВИЯ ВНУТРИМОЗГОВОГО КРОВОИЗЛИЯНИЯ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324000" y="620640"/>
          <a:ext cx="8496000" cy="608796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Двигательные нарушения, слабость или паралич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– это может привести к трудностям при движении, ходьбе и координации. Нарушения движения на одной стороне тела называются гемипарез или гемиплегия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Нарушение глотания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Нарушение акта глотания может привести к попаданию пищи и жидкости не в пищевод, а в дыхательное горло и легкие, становясь тем самым причиной тяжелого воспаления легких. Нарушение глотания может привести так же к запорам и обезвоживанию организма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Нарушение речи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Нарушение воспроизведения и понимания речи, в том числе трудности в чтении, письме, счете происходят в результате повреждения левого полушария головного мозга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Проблемы восприятия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При нормальном зрении человек не в состоянии понять, что он видит. Нарушения восприятия затрудняют использование человеком предметов обыденного обихода. Например, человек не может взять стакан и налить в него воду и затем выпить её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Когнитивные нарушения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Нарушается способность к умственному восприятию и переработке внешней информации. Нарушается ясное и логическое мышление, ухудшается память, утрачивается способность к обучению, принятию решений и перспективному планированию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Нарушения поведения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Может появиться агрессия, замедленная реакция, пугливость, эмоциональная нестабильность, дезорганизация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Нарушение мочеиспускания и дефекации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Трудности с кишечником или мочевым пузырем (недержание или задержка мочи, недержания кала) может быть вызвано целым рядом различных проблем после инсульта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Психологические нарушения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Резкие колебания настроения, депрессия, раздражительность, беспричинный смех или плач. Депрессия очень частая проблема у людей перенесших инсульт и часто сопровождается потерей аппетита, беспричинным смехом или плачем, бессонницей, низкой самооценкой и повышенным чувством тревоги…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Эпилепсия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развивается у 7-20 % людей, перенесших инсульт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Болевой синдром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После инсульта у небольшого количества людей, развиваются болевые приступы в виде горения, стреляющих, пульсирующих болей, которые не снимаются обезболивающими препаратами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굴림"/>
              </a:rPr>
              <a:t>ПОСЛЕДСТВИЯ ИНФАРКТА МОЗГА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0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органов дыхания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00-J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10920" y="1844280"/>
            <a:ext cx="80643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только те пациенты, которые заболели во втором полугодии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168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627120"/>
            <a:ext cx="822960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ВИ (ОРЗ) – J06.9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невмония, ОРВИ, острый бронхиты и т.д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невмония - графа 4 = графе 9, графа 8 = графе 1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ывших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1483920"/>
            <a:ext cx="78483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По этим строкам графы 4 и 9 таблиц 1000, 2000, 3000 и 4000 равны.</a:t>
            </a:r>
            <a:br>
              <a:rPr sz="2800"/>
            </a:b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644040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1. Болезни органов пищеварени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00-K93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зубов включают в 12 форму только в то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79600" y="488880"/>
            <a:ext cx="8146800" cy="58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матологические заболевания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ному наблюдению множественным прогрессирующим кариес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ов (4 раза в год]; легкой формой пародонтита (1 раз в 6 мес], т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ой формой (каждые 3 мес); пародонтозом (1 раз в 6 мес для пр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актики осложнений); хроническими гингивитами, стоматитами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гиями тройничного и невритами лицевого нервов (от 2 до 4 раз в год); хроническими остеомиелитами костей лица (2 раза в год); хро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 новообразованиями челюстей и полости рта (совместно с онкол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и в зависимости от стадии заболевания); врожденными расще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 челюстно-лицевой области (2 раза в год); зубочелюстным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циями челюстей (2 раза в год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2. Болезни кожи и подкожн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чатки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00-L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3106440"/>
            <a:ext cx="82296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3. Болезни костно-мышечн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и соединительной ткани. М00-М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81040" y="1991880"/>
            <a:ext cx="81676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-кая стопа,  сутулость,  вальгусная  и  варусная  деформация  стоп  наблюдаются   по   списочному   составу  и  соответст-венно  в графе 15 (диспансерные) не показываются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иоз – М4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охондроз у взрослых кодируется M50 – M5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и показывается по строке 14.0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349200" y="1728720"/>
            <a:ext cx="85536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ный отчет включаются сведения   об общем числе зарегистрированных в данном учреждении у больных  заболеваний и о больных с заболеваниями, по поводу которых осуществляется диспансеризация населени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4640" y="436680"/>
            <a:ext cx="82296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0-N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88640"/>
            <a:ext cx="8229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ма простаты – N4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052280"/>
            <a:ext cx="836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8 - эндометриоз с (Д) учёта снимается посмертно или в глубокой менопауз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9 - расстройства менструаций - на (Д) учёт берётся олиго и аменорея 1,2 степени. У девочек до 17 лет эрозия шейки матки (если нет возможности лечить). Альгодисменорею в графе «диспансерные» показывать не нужно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5. Беременность, роды 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родовый период. О00-О99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98900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-ными по форме № 32 таблицы 2130 (все нозологии) и  табли-цы  2111  (учитывая  патологию,   требующую   дальнейшего диспансерного наблюдения)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-менности  –  кодировать его необходимо по классу О.   Ранее известную  (и  зарегистрированную)  соматическую патоло- 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6. Отдельные состояния, возникающ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натальном периоде. Р00-Р96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91880"/>
            <a:ext cx="82915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7.0 таблиц 2000 и 3000 заполняется только в слу-чаях перинатальной смертности  и касается состояния здоро-вья матери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в таблице 1000 коды МКБ-10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-Р96, в табли-цах 2000 и 3000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-0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br>
              <a:rPr sz="20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 графа 4 равна графе 9), дети наблюдаются в  течение 1 меся-ца, поэтому в графе 15 на конец отчетного периода  показывают  де-тей, у которых эти состояния развились в декабре месяце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Остатков с прошлого года нет (0) т.к. за год формируется патология, которая кодируется другим классом. Данная строка  д.б. 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-клинике кодируем только то, что вынесено в диагноз. Все текстовые описания кодированию не подлежат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200"/>
            </a:br>
            <a:br>
              <a:rPr sz="2100"/>
            </a:b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395280" y="6021360"/>
            <a:ext cx="83851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685800" y="550800"/>
          <a:ext cx="7924680" cy="577224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01592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04 Поражения плода и новорожденного, обусловленные состояниями матери, осложнениями беременности, родов и родоразрешения </a:t>
                      </a:r>
                      <a:endParaRPr b="1" lang="en-US" sz="1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23040" rIns="23040" tIns="22680" bIns="226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P00 Поражения плода и новорожденного, обусловленные состояниями матери, которые могут быть не связаны с настоящей беременностью </a:t>
                      </a:r>
                      <a:endParaRPr b="1" lang="en-US" sz="1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0760">
                <a:tc>
                  <a:txBody>
                    <a:bodyPr lIns="23040" rIns="23040" tIns="22680" bIns="226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P01 Поражения плода и новорожденного обусловленные осложнениями беременности у матери </a:t>
                      </a:r>
                      <a:endParaRPr b="1" lang="en-US" sz="1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2560">
                <a:tc>
                  <a:txBody>
                    <a:bodyPr lIns="23040" rIns="23040" tIns="22680" bIns="226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P02 Поражения плода и новорожденного, обусловленные осложнениями со стороны плаценты, пуповины и плодных оболочек </a:t>
                      </a:r>
                      <a:endParaRPr b="1" lang="en-US" sz="1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1120">
                <a:tc>
                  <a:txBody>
                    <a:bodyPr lIns="23040" rIns="23040" tIns="22680" bIns="226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P03 Поражения плода и новорожденного, обусловленные другими осложнениями родов и родоразрешения </a:t>
                      </a:r>
                      <a:endParaRPr b="1" lang="en-US" sz="1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0760">
                <a:tc>
                  <a:txBody>
                    <a:bodyPr lIns="23040" rIns="23040" tIns="22680" bIns="226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P04 Поражения плода и новорожденного, обусловленные воздействием вредных веществ, проникающих через плаценту или грудное молоко </a:t>
                      </a:r>
                      <a:endParaRPr b="1" lang="en-US" sz="1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2" name="Rectangle 2"/>
          <p:cNvSpPr/>
          <p:nvPr/>
        </p:nvSpPr>
        <p:spPr>
          <a:xfrm>
            <a:off x="831960" y="219240"/>
            <a:ext cx="727524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7. Врожденные аномалии (порок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), деформации и хромосомны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00-Q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3176280"/>
            <a:ext cx="822960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42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8. Симптомы, признаки 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онения от нормы, выявленные пр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х и лабораторных исследованиях, н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цированные в других рубриках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00-R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61440" y="2805120"/>
            <a:ext cx="860292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класса (стр. 19.0), не должны регистрироватьс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е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9. Травмы, отравления и некоторы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последствия воздействия внешни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00-T98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-тояниям, указанным в форме №57 «Сведения  о  травмах, от-равлениях и  некоторых  других  последствиях  воздействия внешних причин»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шифрования последствий травм: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-тание перелома,  М82.2 – замедленное сращение перелом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ая посттравматическая  головная боль G44.3,  травматическая  транзиторная  церебральная  ишемия  G45.8,  др. уточнённое  поражение головного мозга, в том числе травматическая болезнь мозга G93.8, энце-фалопатия   посттравматическая  F07.2,   энцефалопатия  неуточнённая  G93.4,  относящиеся к патологии нервной системы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684360" y="704880"/>
            <a:ext cx="820872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включают один раз в год сведения об основном, фоновом, конкурирующем  и сопутствующем заболеваниях.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marL="343080" indent="45720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marL="343080" indent="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не включают.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marL="343080" indent="45720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marL="343080" indent="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, имеющие два и более заболе-вания, показываются по соответствующим строкам по числу выявленных  и  зарегист-рированных заболеваний.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00-Z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-ленную патологию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, межформенный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жгодовой контроли. </a:t>
            </a: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5262480"/>
            <a:ext cx="640080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Иванович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ьков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05 февраля 2018 год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495-618-31-83 доп. 220, 236, 235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06 февраля 2018 год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495-611-51-47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kovYI@mail.ru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371600" y="623988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Глушонкова А.В.</cp:lastModifiedBy>
  <dcterms:modified xsi:type="dcterms:W3CDTF">2017-12-01T07:09:19Z</dcterms:modified>
  <cp:revision>384</cp:revision>
  <dc:subject/>
  <dc:title>슬라이드 1</dc:title>
</cp:coreProperties>
</file>