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FF953-2F27-4DDB-BCEB-BF764043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6B69-4682-409F-9EF1-E6CF209A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D2290-2438-4A02-97F5-BB6048B1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F6B7E-0A43-4973-A05C-6B313E3C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5BDC-C467-4C46-934F-4AA71A3F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5389-26D1-44D1-87BB-060A3BF0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3012-535D-4950-8117-14D39281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5B2C-1366-45D7-8477-4C34F38C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7802-31AB-4F6F-824B-24B66C1E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A639-4F6B-419F-ABF0-8478FC49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67B7-57C8-4DB3-979B-5928829B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4E64-2678-482C-AECD-816E926F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6442-6ECB-479C-8487-785F8821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FF6A-1F50-470A-B645-BC11ADB3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68F8-6F07-40EE-B384-2B0B6685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E8F5-6F91-40E4-AC6D-EBBA76DC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6649-7422-4EA4-8FD3-46B08BEB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DE492-CE00-4719-8F69-7B3A9B6A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44ACB-7005-4A41-B5BB-6A3E02BA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616DF-0419-4B14-ACBA-6B7B5F4E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8A663-6F70-4094-8257-3F2A4247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3D82C-F43A-4D9A-942C-F08004E2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564A-4B65-433B-AF15-DC53343E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ABE1-91CE-4F79-898F-2BB4CDF2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4BF1-16B2-4813-B76B-79C588336B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69A3-44C5-4200-B9AE-AA40437CE9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57200" y="426708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ТЕХНИЧЕСКОЕ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СОСТОЯНИЕ ЗДАНИ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аблице 8000 показывают сведения о техническом состоянии всех, состоящих на балансе и арендуемых зданий всех подразделений медицинских организац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ание – это строение, имеющее свой технический паспорт и состоящее на балансе медицинской организации или арендуемое у других организаций на конец отчетного года. Таблица 8000 заполняется на основании технического паспорта здания, актов обследования зданий на необходимость капитального ремонта, актов об аварийном состоянии з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ленное помещение – это помещение технически переобустроенное для определенных целей использования. То, что изначально не входило в типовой про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разде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Техническое состояние зданий» ФФСН №30 следует иметь в ви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80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05"/>
          <p:cNvSpPr/>
          <p:nvPr/>
        </p:nvSpPr>
        <p:spPr>
          <a:xfrm>
            <a:off x="228600" y="380880"/>
            <a:ext cx="8534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ическое состояние зд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80880" y="1066680"/>
          <a:ext cx="8458200" cy="5799240"/>
        </p:xfrm>
        <a:graphic>
          <a:graphicData uri="http://schemas.openxmlformats.org/drawingml/2006/table">
            <a:tbl>
              <a:tblPr/>
              <a:tblGrid>
                <a:gridCol w="1706760"/>
                <a:gridCol w="226800"/>
                <a:gridCol w="239760"/>
                <a:gridCol w="582840"/>
                <a:gridCol w="529920"/>
                <a:gridCol w="517680"/>
                <a:gridCol w="493560"/>
                <a:gridCol w="479520"/>
                <a:gridCol w="468360"/>
                <a:gridCol w="492120"/>
                <a:gridCol w="493560"/>
                <a:gridCol w="430560"/>
                <a:gridCol w="428400"/>
                <a:gridCol w="405000"/>
                <a:gridCol w="407880"/>
                <a:gridCol w="555480"/>
              </a:tblGrid>
              <a:tr h="19872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драздел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зд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площадь зданий  (кв 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ходят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ют виды благоустройства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ходятся в аварийном состоянии, требует снос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буют реконстру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буют капитального ремон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испособленных помещени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арендованных помещени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опров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ячее водоснабж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тральное отопл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лизаци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ефонную связ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ое энергоснабж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.ч. в рабочем состоя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, оказывающие медицинскую помощь в амбулаторных услови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, оказывающие медицинскую помощь в стационарных услови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, оказывающие медицинскую помощь в амбула-торных и стационарных условиях, расположенные в одном зда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исы врачей общей прак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П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льдшерские пунк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тологоанатомические отде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(сумма строк 1-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05"/>
          <p:cNvSpPr/>
          <p:nvPr/>
        </p:nvSpPr>
        <p:spPr>
          <a:xfrm>
            <a:off x="228600" y="380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53"/>
          <p:cNvSpPr/>
          <p:nvPr/>
        </p:nvSpPr>
        <p:spPr>
          <a:xfrm>
            <a:off x="685800" y="762120"/>
            <a:ext cx="79246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сли подразделения, оказывающие медицинскую помощь в амбулаторных условиях, расположены в одном или нескольких отдельных зданиях, сведения о них показывают в стр.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сли подразделения, оказывающие медицинскую помощь в стационарных условиях, расположены в одном или нескольких отдельных зданиях, сведения о них показывают в стр. 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сли подразделения, оказывающие медицинскую помощь в амбулаторных и стационарных условиях, расположены в одном или нескольких отдельных зданиях, сведения о них показывают в стр. 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дания, в которых расположены подразделения, указанные в стр. 1-3 показывают в соответствующих строках, независимо от того, все здание или только часть его используется подразделениям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отдельных строках показывают сведения о зданиях офисов врачей общей практики, ФАПов, фельдшерских пунктов и патологоанатомических бюро и отделений (стр. 4-7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дания, в которых расположены все остальные подразделения, показывают суммарно в стр. 8. Учитывают число всех зданий, независимо от того, сколько подразделений в нем расположе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. 9 должна быть равна сумме строк 1-8 по всем графа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ЛАГОДАРЮ ЗА ВНИМАНИ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Sony</cp:lastModifiedBy>
  <dcterms:modified xsi:type="dcterms:W3CDTF">2017-11-26T10:57:28Z</dcterms:modified>
  <cp:revision>6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