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603E-BF3F-41F7-B3D4-CA845789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E4A1-D98D-4FF2-8F42-1D71FB8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2737-F0D1-40FD-BCC3-5E7F3BEF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7229-054C-40DA-B3D6-11D6C5D4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0AE5-0A79-4EDD-ACCD-E394BF75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DC16-2F2C-48C4-B2A7-D39359E6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4D14-2F39-4369-99DD-1C6902E0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0FB6-26DA-4E7D-9251-2F876ABB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48AC-CB72-4CF2-BF6A-7423C6BF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3145-F80C-4AA6-A5C0-3BC4E7BD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F9E7-F3ED-47C9-8E3F-0FA37554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2954-33BF-4826-A871-E9831F35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E9A-1D51-436D-A6B9-ADE5CC9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1F9C-6286-4240-94F9-D098D5A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74D4-65D6-404F-BDAC-D60206AD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695A-5D19-4D15-8DB2-49830BE3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C4EA-EDD3-492B-926C-7A9466F1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6890-C5A9-4037-8D0C-36091DB7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84AD-8A99-45EA-BACD-A1711EE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3758-1C02-4C92-9714-4F3D2B66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29E1-EE4A-4213-9F6A-9603100F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9D44-FD18-4061-B5BA-88E1816D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5123-1C07-4A52-A3AB-91DBBB0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4D9B-C8AD-407D-9BC3-2C25007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80FF-5D9A-459D-8AE0-B5389530EB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6DF8-08F3-441E-A4C8-A18F903323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4267080"/>
            <a:ext cx="746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Работа медицинск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914400"/>
          <a:ext cx="8610480" cy="496872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1828800"/>
                <a:gridCol w="1371600"/>
                <a:gridCol w="160020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 (отд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ые хозяйства, на которые возложены функции по оказанию первой помощи (ДХПП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5" name="Text Box 5"/>
          <p:cNvSpPr/>
          <p:nvPr/>
        </p:nvSpPr>
        <p:spPr>
          <a:xfrm>
            <a:off x="3124080" y="380880"/>
            <a:ext cx="565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ратить внимание!  НЕ заполня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28600" y="609480"/>
          <a:ext cx="8763120" cy="5273640"/>
        </p:xfrm>
        <a:graphic>
          <a:graphicData uri="http://schemas.openxmlformats.org/drawingml/2006/table">
            <a:tbl>
              <a:tblPr/>
              <a:tblGrid>
                <a:gridCol w="2895480"/>
                <a:gridCol w="838440"/>
                <a:gridCol w="2133360"/>
                <a:gridCol w="1371600"/>
                <a:gridCol w="15242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яют только входящие в другие лечебно-профилактические организации, т.е. если они не являются юридическими лиц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пункты врачеб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пункты фельдшер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аналитические отде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ко-диагностические цент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о-диагностически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о-диагностические центры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о-оздоровительные отде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52280" y="609480"/>
          <a:ext cx="8839440" cy="3444840"/>
        </p:xfrm>
        <a:graphic>
          <a:graphicData uri="http://schemas.openxmlformats.org/drawingml/2006/table">
            <a:tbl>
              <a:tblPr/>
              <a:tblGrid>
                <a:gridCol w="2895840"/>
                <a:gridCol w="914400"/>
                <a:gridCol w="2057400"/>
                <a:gridCol w="1371600"/>
                <a:gridCol w="160020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ии, всего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хим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техн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логические (серологическ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ко-диагнос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централизов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" name="Rectangle 2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клинико-диагностическим лабораториям нужно относить лаборатории, производящие разные виды исследований (общеклинические, гематологические, цитологические, биохимические, коагулологические, иммунологические, микробиологические) или только некоторые из этих вид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ализованные лаборатории указывают в том случае, если они созданы приказом вышестоящего органа исполнительной власти в сфере  здравоохранения в качестве централизованных для выполнения определенных видов исследований для нескольких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14"/>
          <p:cNvSpPr/>
          <p:nvPr/>
        </p:nvSpPr>
        <p:spPr>
          <a:xfrm>
            <a:off x="3962520" y="1981080"/>
            <a:ext cx="327636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троках с 34 по 34.12.1 графе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казывается число медицинск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рганизаций, име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ответствующие лаборатори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этому строка 34 не равна сумм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 с 34.1, 34.2, 34.3, 34.4 по 34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52280" y="1219320"/>
          <a:ext cx="8839440" cy="3725640"/>
        </p:xfrm>
        <a:graphic>
          <a:graphicData uri="http://schemas.openxmlformats.org/drawingml/2006/table">
            <a:tbl>
              <a:tblPr/>
              <a:tblGrid>
                <a:gridCol w="3851280"/>
                <a:gridCol w="708120"/>
                <a:gridCol w="1571760"/>
                <a:gridCol w="1257120"/>
                <a:gridCol w="1451160"/>
              </a:tblGrid>
              <a:tr h="91908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кабинет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b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ии, всего – 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16080">
                <a:tc>
                  <a:txBody>
                    <a:bodyPr lIns="68760" rIns="68760" tIns="0" bIns="0" anchor="b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централизова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280"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4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284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бю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Прямоугольник 9"/>
          <p:cNvSpPr/>
          <p:nvPr/>
        </p:nvSpPr>
        <p:spPr>
          <a:xfrm>
            <a:off x="685800" y="533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1 «Кабинеты, отделения, подразделения» добавлены стро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04920" y="8380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линико-диагностическая лаборатория выполняет кро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нических анализов какие-либо другие (микробиологическ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охимические и т.д.), то в перечне отделений указывают имен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нико-диагностическую лаборатор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специализированная лаборатория выполняет некоторые друг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ы исследования, то в таблице 1001 показывают соответствующ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изированную лабораторию, а в таблице 5300 указывают в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емые исслед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в биохимической лаборатории выполняются некоторые иммунологические исследования: в этом случае отмечают только «биохимическую лабораторию», а в таблиц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3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азывают как иммунологические анализы в гр.8, так и биохимические – в гр.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52280" y="685800"/>
          <a:ext cx="8839440" cy="5761080"/>
        </p:xfrm>
        <a:graphic>
          <a:graphicData uri="http://schemas.openxmlformats.org/drawingml/2006/table">
            <a:tbl>
              <a:tblPr/>
              <a:tblGrid>
                <a:gridCol w="3200400"/>
                <a:gridCol w="762120"/>
                <a:gridCol w="1752480"/>
                <a:gridCol w="1295640"/>
                <a:gridCol w="1828800"/>
              </a:tblGrid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й физкультуры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й физкультуры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-трудовые мастерские в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циентов, больных психическими  расстрой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циентов, больных наркологическими  заболев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циентов, больных туберкулез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ывают в том случае, если они ведут профилактическую работу с пациентами (заполнить таблицу 48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муниципальн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каби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52280" y="609480"/>
          <a:ext cx="8839440" cy="5913720"/>
        </p:xfrm>
        <a:graphic>
          <a:graphicData uri="http://schemas.openxmlformats.org/drawingml/2006/table">
            <a:tbl>
              <a:tblPr/>
              <a:tblGrid>
                <a:gridCol w="4114800"/>
                <a:gridCol w="609840"/>
                <a:gridCol w="1523880"/>
                <a:gridCol w="1143000"/>
                <a:gridCol w="144792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ые кух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логические реабилитационные цент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логические 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ие отде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автоматизированной системы управления (АСУ), вычислительн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анализа и прогнозир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издательской и полиграфическ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межсекторальных и внешних свя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обработки медико-статистической информ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программного обесп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сетевых технологий и защиты информ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28600" y="609480"/>
          <a:ext cx="8804160" cy="5059440"/>
        </p:xfrm>
        <a:graphic>
          <a:graphicData uri="http://schemas.openxmlformats.org/drawingml/2006/table">
            <a:tbl>
              <a:tblPr/>
              <a:tblGrid>
                <a:gridCol w="3886200"/>
                <a:gridCol w="685800"/>
                <a:gridCol w="1523880"/>
                <a:gridCol w="1184400"/>
                <a:gridCol w="152388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сбора баз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(кабинеты) медицинской статистики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заполняется либо графа 4, либо графа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медико-криминалис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мониторинга здоровья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неотложной помощи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заполняется либо графа 4, либо графа 5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ложных судебно-медицинских эксперт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биохим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гис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6" name="AutoShape 145"/>
          <p:cNvSpPr/>
          <p:nvPr/>
        </p:nvSpPr>
        <p:spPr>
          <a:xfrm>
            <a:off x="1752480" y="5715000"/>
            <a:ext cx="6477120" cy="685800"/>
          </a:xfrm>
          <a:prstGeom prst="wedgeRectCallout">
            <a:avLst>
              <a:gd name="adj1" fmla="val 10884"/>
              <a:gd name="adj2" fmla="val -43287"/>
            </a:avLst>
          </a:prstGeom>
          <a:solidFill>
            <a:srgbClr val="cc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* - как отделения указываются по графе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как кабинеты по графе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52280" y="304920"/>
          <a:ext cx="8686800" cy="6340320"/>
        </p:xfrm>
        <a:graphic>
          <a:graphicData uri="http://schemas.openxmlformats.org/drawingml/2006/table">
            <a:tbl>
              <a:tblPr/>
              <a:tblGrid>
                <a:gridCol w="3581640"/>
                <a:gridCol w="761760"/>
                <a:gridCol w="1600200"/>
                <a:gridCol w="1143000"/>
                <a:gridCol w="160020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медицинской экспертизы вещественных доказательств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медицинской экспертизы труп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хим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экстренной консультативной помощи и медицинской эвак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экстре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ющие заготовку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ные кабинеты (отд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заполняется либо графа 4, либо графа 5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(поликлинические отделени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685800"/>
          <a:ext cx="8610480" cy="5121360"/>
        </p:xfrm>
        <a:graphic>
          <a:graphicData uri="http://schemas.openxmlformats.org/drawingml/2006/table">
            <a:tbl>
              <a:tblPr/>
              <a:tblGrid>
                <a:gridCol w="3048120"/>
                <a:gridCol w="761760"/>
                <a:gridCol w="2057400"/>
                <a:gridCol w="1219320"/>
                <a:gridCol w="152388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ункты (отделения) неотложной медицинской помощи на дому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том числе:  взрослому насел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ы сбора грудного мол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акционно-издательские отде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тровые каби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ыделяется при наличии занятой должности акушерки в поликлини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прав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Заполняются либо графа 4, либо графа 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ыделяется при наличии занятой должности юр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Прямоугольник 2"/>
          <p:cNvSpPr/>
          <p:nvPr/>
        </p:nvSpPr>
        <p:spPr>
          <a:xfrm>
            <a:off x="4267080" y="1905120"/>
            <a:ext cx="2895840" cy="1371600"/>
          </a:xfrm>
          <a:prstGeom prst="rect">
            <a:avLst/>
          </a:prstGeom>
          <a:solidFill>
            <a:srgbClr val="00b05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условии организации данного структурного подразде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45720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027160" y="2192400"/>
            <a:ext cx="340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" y="91440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295280"/>
          <a:ext cx="8153280" cy="2544840"/>
        </p:xfrm>
        <a:graphic>
          <a:graphicData uri="http://schemas.openxmlformats.org/drawingml/2006/table">
            <a:tbl>
              <a:tblPr/>
              <a:tblGrid>
                <a:gridCol w="5208480"/>
                <a:gridCol w="944640"/>
                <a:gridCol w="2000160"/>
              </a:tblGrid>
              <a:tr h="61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                  (нет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ность:  муницип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оссийской Фед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организация расположена в сельской мес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AutoShape 37"/>
          <p:cNvSpPr/>
          <p:nvPr/>
        </p:nvSpPr>
        <p:spPr>
          <a:xfrm>
            <a:off x="1676520" y="3962520"/>
            <a:ext cx="7238880" cy="1066680"/>
          </a:xfrm>
          <a:prstGeom prst="wedgeRoundRectCallout">
            <a:avLst>
              <a:gd name="adj1" fmla="val 36754"/>
              <a:gd name="adj2" fmla="val -84972"/>
              <a:gd name="adj3" fmla="val 16667"/>
            </a:avLst>
          </a:prstGeom>
          <a:solidFill>
            <a:srgbClr val="cccc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ключаются сведения о числе медицинских организаций, расположенных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80880" y="54100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дчиненности указываются медицинские организации - юридические лица, функционирующие на  конец отчетного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52280" y="838080"/>
          <a:ext cx="8839440" cy="4876920"/>
        </p:xfrm>
        <a:graphic>
          <a:graphicData uri="http://schemas.openxmlformats.org/drawingml/2006/table">
            <a:tbl>
              <a:tblPr/>
              <a:tblGrid>
                <a:gridCol w="3581640"/>
                <a:gridCol w="685800"/>
                <a:gridCol w="1523880"/>
                <a:gridCol w="1523880"/>
                <a:gridCol w="152424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включаются стоматологические кабинеты, развернутые при высших, специальных средних учебных заведениях,  ПТУ, общеобразовательных школах и промышленных предприят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дов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 в составе медицинской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28600" y="685800"/>
          <a:ext cx="8686800" cy="4694400"/>
        </p:xfrm>
        <a:graphic>
          <a:graphicData uri="http://schemas.openxmlformats.org/drawingml/2006/table">
            <a:tbl>
              <a:tblPr/>
              <a:tblGrid>
                <a:gridCol w="2819520"/>
                <a:gridCol w="914400"/>
                <a:gridCol w="2057400"/>
                <a:gridCol w="1371600"/>
                <a:gridCol w="152388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амбулаторной хирург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врача общей практики (семейного врач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здоровья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здоровья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медицины катастро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планирования семьи и ре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Расшифрова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ключаются прочие подразделения, участвующие в лечебно-диагностическом процесс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пример, паллиативной помощи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304920" y="457200"/>
            <a:ext cx="861048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име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амбулатории, которая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труктурным подразделение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йонной больницы, и имеет следующие кабинеты: терапевтический, педиатрический, прививочный, физиотерапевтический, 2 ФАПа, 1 домовое хозяй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600200"/>
          <a:ext cx="8686800" cy="4543560"/>
        </p:xfrm>
        <a:graphic>
          <a:graphicData uri="http://schemas.openxmlformats.org/drawingml/2006/table">
            <a:tbl>
              <a:tblPr/>
              <a:tblGrid>
                <a:gridCol w="3060720"/>
                <a:gridCol w="662040"/>
                <a:gridCol w="2374920"/>
                <a:gridCol w="1582560"/>
                <a:gridCol w="100656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–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так ка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является подразделением район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боль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ское отделение (кабин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ые хозяйства, на которые возложены функции по оказанию первой помощи (ДХП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в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066680"/>
          <a:ext cx="8686800" cy="3753000"/>
        </p:xfrm>
        <a:graphic>
          <a:graphicData uri="http://schemas.openxmlformats.org/drawingml/2006/table">
            <a:tbl>
              <a:tblPr/>
              <a:tblGrid>
                <a:gridCol w="3700440"/>
                <a:gridCol w="1023840"/>
                <a:gridCol w="2354400"/>
                <a:gridCol w="16081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установк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е установк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ко-диагностические лаборатори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е бриг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мографические устан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е медицинские бриг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286"/>
          <p:cNvSpPr/>
          <p:nvPr/>
        </p:nvSpPr>
        <p:spPr>
          <a:xfrm>
            <a:off x="2286000" y="457200"/>
            <a:ext cx="5105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ередвижные подразд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0"/>
          <p:cNvSpPr/>
          <p:nvPr/>
        </p:nvSpPr>
        <p:spPr>
          <a:xfrm>
            <a:off x="228600" y="68580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97"/>
          <p:cNvSpPr/>
          <p:nvPr/>
        </p:nvSpPr>
        <p:spPr>
          <a:xfrm>
            <a:off x="228600" y="49528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акие структуры имеются, то в графе 4 показывают общее число соответствующих подраздел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аблице 1003 показывают наличие передвижных подразделений (на транспортном средстве) медицинской организации (из таблицы 100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98"/>
          <p:cNvSpPr/>
          <p:nvPr/>
        </p:nvSpPr>
        <p:spPr>
          <a:xfrm>
            <a:off x="5029200" y="2438280"/>
            <a:ext cx="36576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рафе 3 отмечают наличие входящих подразделений, отделов, отделений или кабинетов в медицинской организации: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есть – 1, нет –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4"/>
          <p:cNvSpPr/>
          <p:nvPr/>
        </p:nvSpPr>
        <p:spPr>
          <a:xfrm>
            <a:off x="228600" y="457200"/>
            <a:ext cx="891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Отделения для инвалидов войны (ИОВ), стационары, пансиона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"/>
          <p:cNvSpPr/>
          <p:nvPr/>
        </p:nvSpPr>
        <p:spPr>
          <a:xfrm>
            <a:off x="152280" y="9144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1295280"/>
          <a:ext cx="8763120" cy="4818240"/>
        </p:xfrm>
        <a:graphic>
          <a:graphicData uri="http://schemas.openxmlformats.org/drawingml/2006/table">
            <a:tbl>
              <a:tblPr/>
              <a:tblGrid>
                <a:gridCol w="3962520"/>
                <a:gridCol w="762120"/>
                <a:gridCol w="403848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е отделения для И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: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ече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пациентов, больных психическими расстройствами, м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лечилось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пациентов, больных наркологическими заболеваниями, ме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лечилось паци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сионаты для приезжающих пациентов, ме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 отделения специализированного тип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кое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322"/>
          <p:cNvSpPr/>
          <p:nvPr/>
        </p:nvSpPr>
        <p:spPr>
          <a:xfrm>
            <a:off x="4952880" y="2895480"/>
            <a:ext cx="396252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троках 5-8 показывают информацию, содержащуюся в соответствующих строках отчетной формы отраслевого статистического наблюдения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№14-д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28"/>
          <p:cNvSpPr/>
          <p:nvPr/>
        </p:nvSpPr>
        <p:spPr>
          <a:xfrm>
            <a:off x="4952880" y="2057400"/>
            <a:ext cx="396252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и 2-4 заполняют не зависимо от профиля ко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22"/>
          <p:cNvSpPr/>
          <p:nvPr/>
        </p:nvSpPr>
        <p:spPr>
          <a:xfrm>
            <a:off x="4952880" y="4648320"/>
            <a:ext cx="403884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и 10-11 заполняют по данны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Сводной ведомости учета дви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циентов и коечного фонда медицинс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рганизации, оказывающей медицинску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ощь в стационарных условиях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учетная форма № 016/у-02) тольк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ециализированные отд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верить с формой 36-ПЛ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09480" y="533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Региональные сосудистые центры, первичные сосудистые цент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04920" y="1295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1752480"/>
          <a:ext cx="8686800" cy="4267440"/>
        </p:xfrm>
        <a:graphic>
          <a:graphicData uri="http://schemas.openxmlformats.org/drawingml/2006/table">
            <a:tbl>
              <a:tblPr/>
              <a:tblGrid>
                <a:gridCol w="3962520"/>
                <a:gridCol w="1066680"/>
                <a:gridCol w="3657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кое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24 часа посл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кое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24 часа посл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338"/>
          <p:cNvSpPr/>
          <p:nvPr/>
        </p:nvSpPr>
        <p:spPr>
          <a:xfrm>
            <a:off x="5257800" y="2819520"/>
            <a:ext cx="34290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таблицу включают первичные и региональные сосудистые цент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авнивается с таблицей 3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09480" y="5335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 Стоматологические кабин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52280" y="1066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600200"/>
          <a:ext cx="8458200" cy="1758960"/>
        </p:xfrm>
        <a:graphic>
          <a:graphicData uri="http://schemas.openxmlformats.org/drawingml/2006/table">
            <a:tbl>
              <a:tblPr/>
              <a:tblGrid>
                <a:gridCol w="6030720"/>
                <a:gridCol w="1095480"/>
                <a:gridCol w="1332000"/>
              </a:tblGrid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сших, средних специальных учебных заведения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ых школах (лицеях, гимназиях, колледжа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ых предприят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70"/>
          <p:cNvSpPr/>
          <p:nvPr/>
        </p:nvSpPr>
        <p:spPr>
          <a:xfrm>
            <a:off x="304920" y="365760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аблице 1009 показывают наличие стоматологических кабинетов в учебных заведениях, на предприятиях, если их работа обеспечивается работниками,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ходящим в штат медицинской орган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овая мощность поликлиники (число посещений в смену)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пускная способн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улаторно-поликлинического учреждени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м санитарно-эпидемиологического реж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нием для заполнения этого раздела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спорт медици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где содержится проектная и рабочая площадь здан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бинетов в квадратных метрах.  С учетом требований площад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о посещение рассчитывают плановую мощность (число посещений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ну) подразделений медицинских организаций, оказыва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струк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определению плановой мощности утверждена при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СССР от 20 июня 1979 года №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а 1010 «Мощность (плановое число посещений в смену) подразделений, оказывающих медицинскую помощь в амбулаторных условиях» следует иметь в вид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существующей медицинской организации, оказыва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 условиях, изменяется в случаях, 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разделения открываются на новых площадях или закрываются, а также когд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разделениях проведен капитальный ремонт, в результате которого имеющая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увеличилась или уменьшилась, либо часть площади выведена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чинения поликлиники на другие цели (инженерные площади, аптеки, аренд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рассчитыв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всех здан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ридических лиц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уществляется амбулаторный пр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так как на все здания заполняется па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рассчитыв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центров здоровья, даже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не являются обособленными подразделениями и входят в состав поликли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е рассчитыв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матологических кабинетов, организованных в специализированных больниц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ля нужд паци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вмпунктов, если они организованы в приемном по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посещен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рганизациях, для которых не рассчитывается плановая мощность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д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общих основаниях, в соответствии с порядком заполнения учетной формы №025-1/у «Талон пациента, получающего медицинскую помощь в амбулаторных условия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28600" y="45720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Мощность (плановое число посещений в смену) подразделений, оказывающих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28600" y="1066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1371600"/>
          <a:ext cx="8686800" cy="3278160"/>
        </p:xfrm>
        <a:graphic>
          <a:graphicData uri="http://schemas.openxmlformats.org/drawingml/2006/table">
            <a:tbl>
              <a:tblPr/>
              <a:tblGrid>
                <a:gridCol w="4110120"/>
                <a:gridCol w="766800"/>
                <a:gridCol w="38098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драздел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 сме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поликлиники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й поликлин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й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ного отделения (больницы, диспансер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о-диагностическ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229"/>
          <p:cNvSpPr/>
          <p:nvPr/>
        </p:nvSpPr>
        <p:spPr>
          <a:xfrm>
            <a:off x="4952880" y="3886200"/>
            <a:ext cx="396252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наличии нескольких стоящих зданий медицинской организации мощности подразделений суммируют и показывают одним числ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33"/>
          <p:cNvSpPr/>
          <p:nvPr/>
        </p:nvSpPr>
        <p:spPr>
          <a:xfrm>
            <a:off x="4952880" y="1981080"/>
            <a:ext cx="39625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1 равна сумме строк со 2 по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33"/>
          <p:cNvSpPr/>
          <p:nvPr/>
        </p:nvSpPr>
        <p:spPr>
          <a:xfrm>
            <a:off x="4952880" y="2590920"/>
            <a:ext cx="3962520" cy="1218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8 указывается как для центров здоровья – юридических лиц, так и для центров здоровья, являющихся структурными подразделениями других медицинских 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29"/>
          <p:cNvSpPr/>
          <p:nvPr/>
        </p:nvSpPr>
        <p:spPr>
          <a:xfrm>
            <a:off x="152280" y="4876920"/>
            <a:ext cx="8610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ановая мощность не указывается дл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томатологических кабинетов, организованных в специализированных больницах (для нужд пациентов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травмпунктов, если они организованы в приемном пок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анаторно-курортных организаций (для нужд отдыхающи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к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абин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 указывается, если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ован как самостоятельна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ная 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00200" y="1523880"/>
          <a:ext cx="6477120" cy="152424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ое распис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олжностей (утверж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тровой кабинет -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2"/>
          <p:cNvSpPr/>
          <p:nvPr/>
        </p:nvSpPr>
        <p:spPr>
          <a:xfrm>
            <a:off x="38088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тделение, подраздел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это часть какого-либо учрежд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и 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., которая выполняет определённые функции, а такж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ещение, которое она заним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отделение патологоанатомическое и т.д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4419720"/>
          <a:ext cx="5867280" cy="1995480"/>
        </p:xfrm>
        <a:graphic>
          <a:graphicData uri="http://schemas.openxmlformats.org/drawingml/2006/table">
            <a:tbl>
              <a:tblPr/>
              <a:tblGrid>
                <a:gridCol w="2438280"/>
                <a:gridCol w="3429000"/>
              </a:tblGrid>
              <a:tr h="33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ое распис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олжностей (утверж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 ультразвуковой диагностики -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У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28600" y="762120"/>
          <a:ext cx="8610480" cy="4572000"/>
        </p:xfrm>
        <a:graphic>
          <a:graphicData uri="http://schemas.openxmlformats.org/drawingml/2006/table">
            <a:tbl>
              <a:tblPr/>
              <a:tblGrid>
                <a:gridCol w="5181480"/>
                <a:gridCol w="804960"/>
                <a:gridCol w="2624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(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до 1 год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4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до 1 м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ей 0 –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ей 5 – 9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ей 10 – 1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трудоспособного возраста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старше трудоспособ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население (из стр.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2"/>
          <p:cNvSpPr/>
          <p:nvPr/>
        </p:nvSpPr>
        <p:spPr>
          <a:xfrm>
            <a:off x="533520" y="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 Численность обслуживаемого прикрепленного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52280" y="3808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0"/>
          <p:cNvSpPr/>
          <p:nvPr/>
        </p:nvSpPr>
        <p:spPr>
          <a:xfrm>
            <a:off x="304920" y="5486400"/>
            <a:ext cx="6019560" cy="380880"/>
          </a:xfrm>
          <a:prstGeom prst="rect">
            <a:avLst/>
          </a:prstGeom>
          <a:solidFill>
            <a:srgbClr val="cc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*женщины 18-54 года, мужчины 18-59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13"/>
          <p:cNvSpPr/>
          <p:nvPr/>
        </p:nvSpPr>
        <p:spPr>
          <a:xfrm>
            <a:off x="304920" y="59436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тчете медицинской организации, обособленного структурного подразделения (амбулатории, участковой больницы, входящих в состав районных поликлиник) в таблицу включают численность прикрепленного населения на 31.12.2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14"/>
          <p:cNvSpPr/>
          <p:nvPr/>
        </p:nvSpPr>
        <p:spPr>
          <a:xfrm>
            <a:off x="6172200" y="1523880"/>
            <a:ext cx="26668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равна сумме строк 2+7+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6248520" y="3124080"/>
            <a:ext cx="2743200" cy="1923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1050 включены сведения о численности детского населения в возрасте 0-4 года, 5-9 лет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4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228600" y="6858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219320"/>
          <a:ext cx="8534520" cy="101412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ое лечение по всем профилям: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на санаторно-курортное лечение, человек, всего 1 _____, из них: детей 0-17 лет  2 ____ 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и санаторно-курортное лечение, человек, всего  3 _______, из них: детей 0-17 лет  4 ______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62"/>
          <p:cNvSpPr/>
          <p:nvPr/>
        </p:nvSpPr>
        <p:spPr>
          <a:xfrm>
            <a:off x="304920" y="27432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у 1090 заполняют медицинские организации, направляющие пациентов на санаторно-курортное лечение и ведущие учет результатов этого ле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тд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часть организации, ведающая определенным круг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отдел АСУ, плановый отдел, отдел статистики и т.д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8600" y="3809880"/>
            <a:ext cx="8458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нормативным организационно-правовым документам медицин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и, определяющим порядок работы структурных 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кабинетов,  отделений) и нагрузку на специалистов относя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ста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ложение об организации структурного подразде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тандарты оснащ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штатное распис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должностные инстру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авила внутреннего трудового распорядка и др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твержденная руководителем нагрузка персон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1523880"/>
          <a:ext cx="5867640" cy="2133720"/>
        </p:xfrm>
        <a:graphic>
          <a:graphicData uri="http://schemas.openxmlformats.org/drawingml/2006/table">
            <a:tbl>
              <a:tblPr/>
              <a:tblGrid>
                <a:gridCol w="2438640"/>
                <a:gridCol w="34290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ое распис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олжностей (утверж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анализа и программирования -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-статист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подразделения, отдела, отделения, кабинета следует показыват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гда, когда в отчете соответственно имеются штатные и занятые должности вр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(или) среднего медицинского персонала, соответствующее оборуд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ппаратура, ведется установленный учет, отчетность и показана работа д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разделения, отдела, отделения, кабинета в соответствующих таблицах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для физиотерапевтического кабин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80880" y="45720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аблиц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1001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52280" y="274320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Если в организации на конец отчетного года кабинет работает, то: в таблице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. 123 в гр. 5 ставим 1. При этом должны быть заполнены сведения: в таблице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е 108 и(или) стр. 188 по гр. 5, 6, 10 и в таблице 46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52280" y="3733920"/>
            <a:ext cx="883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Если в организации на конец отчетного года кабинет закрыт, то: в таблице 1001 в ст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3 в гр. 5 ставим 0. При этом не должно быть сведений в таблице 1100 строке 108 и(ил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. 188 по гр. 5, 6, 10, а в таблице 4601 могут быть указаны сведения о числе лиц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енных им процедурах с начала года до даты закры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52280" y="5029200"/>
            <a:ext cx="8839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 Если в организации на конец отчетного года в кабинете нет занятых врачеб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ей (уволен), средний медперсонал есть, оборудование есть, то: в таблице 1001 в ст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3 в гр. 5 ставим 1. При этом сведений в таблице 1100 будут заполнены по строке 108 толь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5 (штатные должности), по стр. 188 по гр. 5, 6, 10; а в таблице 4601 будут указа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о числе лиц и выполненных им процедурах с начала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28600" y="175248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е отмечают профильные кабинеты специализированные медицин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рганизации (кожно-венерологические диспансеры –дерматовенеролог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кабинеты, наркологические диспансеры – наркологические кабинеты, дет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поликлиники – детские отделения и кабинеты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е организации, оказывающие медицинскую помощь только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булаторных условиях, и не имеющие обособленных структурных подразделени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отмечают соответствующие подразделения (поликлиника - поликлини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булатория – амбулатории и т.д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тделения, в которых оказывают медицинскую помощь в стационар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условиях, в таблицу 1001 не включают (их показывают в таблице 3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в обособленных структурных подразделениях наличие кабинета, отдел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тдела указывается в соответствии со штатным расписанием (положении 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работ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80880" y="762120"/>
            <a:ext cx="8610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779f92"/>
              </a:buClr>
              <a:buSzPct val="75000"/>
              <a:buFont typeface="Wingdings 2" charset="2"/>
              <a:buChar char="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ри заполнении таблицы необходимо учесть, что отделения, которые оказывают медицинскую помощь в стационарных условиях, в таблицу не включаю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Кабинеты, отделения, подраз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95280"/>
          <a:ext cx="8381880" cy="1249560"/>
        </p:xfrm>
        <a:graphic>
          <a:graphicData uri="http://schemas.openxmlformats.org/drawingml/2006/table">
            <a:tbl>
              <a:tblPr/>
              <a:tblGrid>
                <a:gridCol w="2514600"/>
                <a:gridCol w="761760"/>
                <a:gridCol w="2286000"/>
                <a:gridCol w="1738440"/>
                <a:gridCol w="108108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кабинетов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нет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171"/>
          <p:cNvSpPr/>
          <p:nvPr/>
        </p:nvSpPr>
        <p:spPr>
          <a:xfrm>
            <a:off x="228600" y="838080"/>
            <a:ext cx="6858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82"/>
          <p:cNvSpPr/>
          <p:nvPr/>
        </p:nvSpPr>
        <p:spPr>
          <a:xfrm>
            <a:off x="685800" y="2590920"/>
            <a:ext cx="2743200" cy="2514600"/>
          </a:xfrm>
          <a:prstGeom prst="wedgeRoundRectCallout">
            <a:avLst>
              <a:gd name="adj1" fmla="val 65509"/>
              <a:gd name="adj2" fmla="val -59282"/>
              <a:gd name="adj3" fmla="val 16667"/>
            </a:avLst>
          </a:prstGeom>
          <a:solidFill>
            <a:srgbClr val="cccc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дицинская организация, являющаяся юридическим лицом, и, имеющая подразделение, проставляет в соответствующей ем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е цифру 1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(филиалы) данную графу не заполняю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90"/>
          <p:cNvSpPr/>
          <p:nvPr/>
        </p:nvSpPr>
        <p:spPr>
          <a:xfrm>
            <a:off x="3657600" y="2743200"/>
            <a:ext cx="3200400" cy="2590920"/>
          </a:xfrm>
          <a:prstGeom prst="wedgeRoundRectCallout">
            <a:avLst>
              <a:gd name="adj1" fmla="val 34324"/>
              <a:gd name="adj2" fmla="val -60967"/>
              <a:gd name="adj3" fmla="val 16667"/>
            </a:avLst>
          </a:prstGeom>
          <a:solidFill>
            <a:srgbClr val="cccc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казывается количество подразделений (отдел, отделение) в случае, когда имеетс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ное для н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ещени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аппаратура и оборудовани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должности,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дицинских работ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ем и приказами об организаци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91"/>
          <p:cNvSpPr/>
          <p:nvPr/>
        </p:nvSpPr>
        <p:spPr>
          <a:xfrm>
            <a:off x="6934320" y="2895480"/>
            <a:ext cx="2057400" cy="2133720"/>
          </a:xfrm>
          <a:prstGeom prst="wedgeRoundRectCallout">
            <a:avLst>
              <a:gd name="adj1" fmla="val -4629"/>
              <a:gd name="adj2" fmla="val -70611"/>
              <a:gd name="adj3" fmla="val 16667"/>
            </a:avLst>
          </a:prstGeom>
          <a:solidFill>
            <a:srgbClr val="cccc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Указывается число структурных единиц - кабинетов, не объединенных в подразделения, отделы или отд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2"/>
          <p:cNvSpPr/>
          <p:nvPr/>
        </p:nvSpPr>
        <p:spPr>
          <a:xfrm>
            <a:off x="152280" y="54864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меются подразделения, отделы или отделения, то сведения о них показываются в графе 4, при этом графа 5 не заполня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меются только кабинеты, то сведения о них показывают в графе 5 (графа 4 не заполня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едицинской организации функционирует физиотерапевтическое отделение, в котором функционируют несколько кабинетов. В положении о работе физиотерапевтического отделения перечень кабинетов определен (утвержде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овательно, в таблице 1001 по строке 123 в графе 4 ставим 1, то есть показываем отделение не зависимо от количества кабинетов в 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28600" y="281952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булатория не может быть кабинетом, так как это структурное подразделение, оказывающие помощь пациентам в амбулаторных условиях, в том числе на до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овательно, в таблице 1001 по строке 3 в графе 4 ставим 1, то есть показываем как отде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228600" y="43434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Аналогичная ситуация по таким структурным подразделениям как ФАП (фельдшерско-акушерский пункт), ФП (фельдшерский пункт) и др., которые то же не могут быть показаны как кабин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03"/>
          <p:cNvSpPr/>
          <p:nvPr/>
        </p:nvSpPr>
        <p:spPr>
          <a:xfrm>
            <a:off x="0" y="533520"/>
            <a:ext cx="8991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А**-ой районной больнице организованы: стационар, поликлиника для взрослы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клиника для детей, 1 амбулатория, 1 участковая больница, 2 ФАПа и 2 передвижных ФП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невной стационар для взрослых на дому, дневной стационар для взрослых при поликлинике,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вивочных кабинетов (2 кабинета в пол. для взрос. №1 и 3 кабинета в пол. для детей №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320" y="1828800"/>
          <a:ext cx="8915400" cy="4848120"/>
        </p:xfrm>
        <a:graphic>
          <a:graphicData uri="http://schemas.openxmlformats.org/drawingml/2006/table">
            <a:tbl>
              <a:tblPr/>
              <a:tblGrid>
                <a:gridCol w="3504960"/>
                <a:gridCol w="762120"/>
                <a:gridCol w="1828800"/>
                <a:gridCol w="1371600"/>
                <a:gridCol w="144792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 (отд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во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 в составе медицинской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752480" y="3860640"/>
          <a:ext cx="3886200" cy="2760840"/>
        </p:xfrm>
        <a:graphic>
          <a:graphicData uri="http://schemas.openxmlformats.org/drawingml/2006/table">
            <a:tbl>
              <a:tblPr/>
              <a:tblGrid>
                <a:gridCol w="2676600"/>
                <a:gridCol w="1209600"/>
              </a:tblGrid>
              <a:tr h="338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ое распис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олжностей (утверж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ая амбула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врач.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участковый терапе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AutoShape 140"/>
          <p:cNvSpPr/>
          <p:nvPr/>
        </p:nvSpPr>
        <p:spPr>
          <a:xfrm rot="14056200">
            <a:off x="5900040" y="3472560"/>
            <a:ext cx="239760" cy="914400"/>
          </a:xfrm>
          <a:prstGeom prst="downArrow">
            <a:avLst>
              <a:gd name="adj1" fmla="val 50000"/>
              <a:gd name="adj2" fmla="val 9534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4"/>
          <p:cNvSpPr/>
          <p:nvPr/>
        </p:nvSpPr>
        <p:spPr>
          <a:xfrm>
            <a:off x="7162920" y="3581280"/>
            <a:ext cx="175248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-ка для дете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 пол-ка при амбулатори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. пол-ка при участковой б-ц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45"/>
          <p:cNvSpPr/>
          <p:nvPr/>
        </p:nvSpPr>
        <p:spPr>
          <a:xfrm flipV="1">
            <a:off x="6934320" y="411444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TyurinaEM</cp:lastModifiedBy>
  <dcterms:modified xsi:type="dcterms:W3CDTF">2017-11-29T17:10:59Z</dcterms:modified>
  <cp:revision>5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