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932-D0DA-4038-9671-CD1CF34E55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7EB-A849-415D-9191-1782FD1B6B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5C3-B805-48C6-9660-9A487483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6FD-79AB-4FE6-8ECE-16C8206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81E-5988-4689-BBEE-3248CA07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9C4-16DD-4DDD-9255-A14187CA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A39-88FC-4E56-B214-A386B1FA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14C9-17AA-4B51-97D2-64FEB5B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1581-6695-4F93-A6E8-D2BF6D4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173-2500-439D-9188-F60AA39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3E55-F3D9-4A82-876E-FD6CC40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840-268F-417B-B819-154DE8CD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B26-7319-47E4-8953-AD9DC08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726-1B22-4DF4-A28B-C89D920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BE0F-5B61-4F2C-A13C-705CEBB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E784-75C4-4793-A22B-1FF0F28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3009-B5FD-46C0-91DA-914EF0E3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54CF-B1C8-4226-AC22-7ADF0378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9A94-E0B4-4BC3-A407-69522F3C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1F5-49F4-433C-A208-AE3AAB6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E3B-3F24-4816-BB4B-0ADA3B7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DCA-160E-45A6-BCC0-C651C30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65-0A55-4610-893D-9B48D68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175-D356-45FA-8763-CD54D9C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DCC-279F-49B0-8153-E658CEA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077-A288-47DA-B05E-9803C2E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F84-1539-49A3-919D-244B9E5642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EB59-D6A0-42B2-B09F-09552D50D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B0BB-E399-4215-97EB-33ADC9B3C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7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03280" y="2276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476360" y="278136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413000"/>
          <a:ext cx="8147160" cy="465588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7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50920" y="129132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енокард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клинический синдром, проявляющийся чувством дискомфорта или болью в грудной клетке сжимающего, давящего характера, которая локализуется чаще всего за грудиной и может иррадиировать в левую руку, шею, нижнюю челюсть, эпигастральную область. Стенокардия обусловлена преходящей ишемией миокарда, основой которой является несоответствие между потребностью миокарда в кислороде и его доставкой по коронарным артериям. Стенокардия является  проявлением "ишемической болезни сердца", которая по определению ВОЗ (1971) представляет собой 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Arial"/>
              </a:rPr>
              <a:t>острую или хроническую дисфунк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озникающую вследствие относительного или абсолютного уменьшения снабжения миокарда артериальной к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Calibri"/>
              </a:rPr>
              <a:t>СТЕНОКАР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16000" y="1341360"/>
          <a:ext cx="6624720" cy="4348080"/>
        </p:xfrm>
        <a:graphic>
          <a:graphicData uri="http://schemas.openxmlformats.org/drawingml/2006/table">
            <a:tbl>
              <a:tblPr/>
              <a:tblGrid>
                <a:gridCol w="2208240"/>
                <a:gridCol w="2206440"/>
                <a:gridCol w="2210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71640" y="1844640"/>
          <a:ext cx="7200720" cy="3635280"/>
        </p:xfrm>
        <a:graphic>
          <a:graphicData uri="http://schemas.openxmlformats.org/drawingml/2006/table">
            <a:tbl>
              <a:tblPr/>
              <a:tblGrid>
                <a:gridCol w="1226880"/>
                <a:gridCol w="1868760"/>
                <a:gridCol w="1800000"/>
                <a:gridCol w="23050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4360" y="981000"/>
          <a:ext cx="792144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1582560"/>
                <a:gridCol w="158436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8"/>
          <p:cNvSpPr/>
          <p:nvPr/>
        </p:nvSpPr>
        <p:spPr>
          <a:xfrm>
            <a:off x="1692360" y="18900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ждый случай летального исхода по этому классу 18 МКБ-10 </a:t>
            </a: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(симптомы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11280" y="1052640"/>
          <a:ext cx="7921440" cy="352872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53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504d"/>
                </a:solidFill>
                <a:uFillTx/>
                <a:latin typeface="Arial"/>
              </a:rPr>
              <a:t>Врождённый порок сердц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аще всег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соматические болезни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не синдром Дауна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ЕМИРНОЙ ОРГАНИЗАЦИЕЙ ЗДРАВООХРАН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ринская смер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яется как обусловленная беременностью (независимо от ее продолжительности и локализации) смерть женщины, наступившая в период беременности или в теч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ней после ее окончания от какой-либо причины, связанной 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ременностью, отягощенной ею или ее ведением, но не от несчастного случая или случайно возникшей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Смерть, происшедшая во время беременности, родов и в послеродовом период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это смерть женщины во время беременности или в течение 42 дней по окончании беременности, независимо от причины смерти (акушерской или 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ушерско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9"/>
          <p:cNvSpPr/>
          <p:nvPr/>
        </p:nvSpPr>
        <p:spPr>
          <a:xfrm>
            <a:off x="2340000" y="62064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КРИЕРУ ЕМИЛ 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268360" y="278136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557360"/>
            <a:ext cx="34560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226836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МАТЕРИНСКИЕ СМЕРТИ ДОЛЖНЫ РАЗДЕЛЯТЬСЯ НА ДВЕ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1. ПРЯМЫЕ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что явились результатом акушерских осложнений состояния беременности (беременность, роды и послеродовой период) в результате вмешательств, упущений, неправильного лечения, или от цепочки событий в результате любого из вышеупомянутых обстоятель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1676520"/>
          <a:ext cx="8382240" cy="468792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новка серд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ное кровотечение после аб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лный аборт по медицинским показани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2 недел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2. КОСВЕННЫЕ (НЕПРЯМЫЕ)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которые явились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предшествующего заболе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болевания, которое  возникло во время беременности, и которое не является следствием прямых акушерских причин, но которое обострилось в связи с физиологическим воздействием берем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злокачественного новообразования 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(при наличии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2209680"/>
          <a:ext cx="8382240" cy="38862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9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к малой кривизны желу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36 не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676520"/>
          <a:ext cx="8382240" cy="462888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оз желчного пузы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8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елчнокаменная боле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ь, холецистэктомия 12.06.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травмы (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и наличии беремен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828800"/>
          <a:ext cx="8382240" cy="44496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оррагический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брюш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8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зрыв селез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3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дение на эскалаторе ме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10.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аблица 3000 «Состав новорожденных с заболеваниями, поступивших в возрасте 0-6 дней жизни, и исходы их леч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755640" y="1773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 заболеваниях этих новорожденных показывают в таблице 2000 в соответствующих ст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2720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правил проведения патолого-анатомических исследований  (Приложение к приказу МЗ РФ от 24 марта 2016 г. N 179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чет числа проведенных прижизненных патолого-анатомических исследований и связанных с ним показателей производится по числу случаев исследования на основании оформленных Протоколов. Под случаем понимается исследование биопсийного (операционного) материала, полученного от пациента в рамках одного посещения (обращения, госпитализации) по поводу одного заболевания, включающее все этапы, указанные в пункте 16 настоящих Правил, и дополнительные методы исследования, указанные в пункте 17 настоящих Правил (в случае, если данные методы назначены врачом-патологоанато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" y="11354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5428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Форма №1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Таблица 4201 Трансплан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е, представленные в таблице, должно соответствовать данным, представленным в форме 63 ФС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предоставить расшифровку строки 9 – трансплантация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прочих орга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63640" y="378936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192480" y="507132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б.т. +7 925 -299-78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Пользователь Windows</cp:lastModifiedBy>
  <dcterms:modified xsi:type="dcterms:W3CDTF">2017-11-15T12:05:39Z</dcterms:modified>
  <cp:revision>237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