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C2A8-D43A-4A48-A888-EE34559D1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33240" y="410148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34F7-C2EF-4B5A-9986-6F5DDACC2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3324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8C68-50DC-4074-A578-A880AF441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0120" y="18284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7000" y="18284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33240" y="410148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0120" y="410148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7000" y="410148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B500-9279-48DE-9909-9EEFA4029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F42A0-5F7D-4F4C-BA1C-E6DFBADAE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08038-4ACC-48E0-8401-E42464593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F6290-BD6D-4499-9908-851830A1B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6009F-7D34-445D-9392-9D92EC6FA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D7433-832C-4826-9C9C-5DD80D308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3324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656A0-A19F-44BD-B58C-C4BFF782F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3324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361CC-83AA-44FA-8CD6-0A7E82823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B942-DE0E-4C65-861D-20DCE164B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96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B79B0-FF97-4B73-96F5-C52431AC1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3240" y="410148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0F819-C86D-4962-983E-4A3898751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33240" y="410148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0D8B9-A1E3-4AC0-A3EC-59F620977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3324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96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EBFA3-BC77-43E0-94DB-BC7BE5A06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00120" y="18284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7000" y="18284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33240" y="410148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00120" y="410148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7000" y="410148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80B2C-048F-452D-A16F-BDF569168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CE13-4E26-4145-BCAC-52385BD1F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34C2-7F46-4993-AA0B-E05BFEED5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9C8E-CE9D-451F-93DB-8673F28C9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3324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2D4B-E06B-4A92-8CEA-007ADAB5A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3324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36F1-0574-4580-A397-E6900A88A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91C6-BFC0-481D-A217-CC30FEB86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33240" y="410148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1394-867C-44E5-A4AF-39BB67F0F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623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02A79-D316-44F7-B44E-00F5DB998868}" type="slidenum">
              <a:rPr b="0" lang="ru-RU" sz="8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623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0E67E-3B24-44B7-9FF7-F5CB60543729}" type="slidenum">
              <a:rPr b="0" lang="ru-RU" sz="8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90440" y="10666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990033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 u="sng">
                <a:solidFill>
                  <a:srgbClr val="990033"/>
                </a:solidFill>
                <a:uFillTx/>
                <a:latin typeface="Times New Roman"/>
              </a:rPr>
              <a:t>Номенклатура медицинских организаци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Приказ Министерства здравоохранения Российской Федерации от 06.08.2013 N 529н "Об утверждении номенклатуры медицинских организаци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Зарегистрировано в Минюсте России 13.09.2013 N 2995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990033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 u="sng">
                <a:solidFill>
                  <a:srgbClr val="990033"/>
                </a:solidFill>
                <a:uFillTx/>
                <a:latin typeface="Times New Roman"/>
              </a:rPr>
              <a:t>Номенклатура кое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Приказ Минздравсоцразвития России от 17.05.2012 N 555н "Об утверждении номенклатуры коечного фонда по профилям медицинской помощ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Зарегистрировано в Минюсте России 04.06.2012 N 24440), изменения в редакции приказа Министерства здравоохранения Российской Федерации от 16.12.2014 N 843н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990033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 u="sng">
                <a:solidFill>
                  <a:srgbClr val="990033"/>
                </a:solidFill>
                <a:uFillTx/>
                <a:latin typeface="Times New Roman"/>
              </a:rPr>
              <a:t>Номенклатура должносте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Приказ Министерства здравоохранения Российской Федерации от 20.12.2012 N 1183н "Об утверждении номенклатуры должностей медицинских и фармацевтических работников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Зарегистрировано в Минюсте России 10.03.2013 N 27723), с изменениями на 01.08.2014 года Приказ Минздрава России №420н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990033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Реестр административно-территориальных единиц субъекта Российской Федера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990033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Штатные расписания</a:t>
            </a:r>
            <a:r>
              <a:rPr b="1" lang="ru-RU" sz="2000" spc="-1" strike="noStrike" u="sng">
                <a:solidFill>
                  <a:srgbClr val="990033"/>
                </a:solidFill>
                <a:uFillTx/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медицинских организац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990033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Устав и лицензии медицинских организац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990033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Общероссийский классификатор единиц измер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533520" y="4572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комендованные докумен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0" y="1752480"/>
          <a:ext cx="8686800" cy="3581640"/>
        </p:xfrm>
        <a:graphic>
          <a:graphicData uri="http://schemas.openxmlformats.org/drawingml/2006/table">
            <a:tbl>
              <a:tblPr/>
              <a:tblGrid>
                <a:gridCol w="2590920"/>
                <a:gridCol w="609588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медицинской помощи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Профиль койки</a:t>
                      </a: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0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ая реабилитаци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билитационные соматические,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билитационные для больных с заболеваниями центральной нервной системы и органов чувств,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билитационные для больных с заболеваниями опорно-двигательного аппарата и периферической нервной системы,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реабилитационные наркологически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114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атри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атрические,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соматические,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матопсихиатрические,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атрические для судебно-психиатрической экспертиз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психиатрия-наркологи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аркологически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7" name="Text Box 39"/>
          <p:cNvSpPr/>
          <p:nvPr/>
        </p:nvSpPr>
        <p:spPr>
          <a:xfrm>
            <a:off x="7368480" y="1143000"/>
            <a:ext cx="143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Внимание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1371600" y="57150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Times New Roman"/>
              </a:rPr>
              <a:t>Отчет составляется по профилям кое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152280" y="609480"/>
            <a:ext cx="88394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оменклатура коечного фонда по профилям медицинской помощ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39"/>
          <p:cNvSpPr/>
          <p:nvPr/>
        </p:nvSpPr>
        <p:spPr>
          <a:xfrm>
            <a:off x="7444800" y="457200"/>
            <a:ext cx="143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Внимание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304920" y="99072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рвичный учет – форма 007/у – по отделению, в том числе по профилям в данном отделен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304920" y="190512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нализ деятельности отделени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ыполняется на уровне медицинской организа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304920" y="2819520"/>
            <a:ext cx="8610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нализ деятельности по профилям кое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ыполняется на уровне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дицинской организа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ргана управления субъекта в сфере охраны здоровь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инистерства здравоохранения Росс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Text Box 5" descr=""/>
          <p:cNvPicPr/>
          <p:nvPr/>
        </p:nvPicPr>
        <p:blipFill>
          <a:blip r:embed="rId1"/>
          <a:stretch/>
        </p:blipFill>
        <p:spPr>
          <a:xfrm>
            <a:off x="1438200" y="4846680"/>
            <a:ext cx="6042240" cy="124308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25"/>
          <p:cNvSpPr/>
          <p:nvPr/>
        </p:nvSpPr>
        <p:spPr>
          <a:xfrm>
            <a:off x="916200" y="4648320"/>
            <a:ext cx="38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33"/>
                </a:solidFill>
                <a:latin typeface="Times New Roman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39"/>
          <p:cNvSpPr/>
          <p:nvPr/>
        </p:nvSpPr>
        <p:spPr>
          <a:xfrm>
            <a:off x="7368480" y="990720"/>
            <a:ext cx="143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Внимание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304920" y="3505320"/>
            <a:ext cx="8610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сещения к среднему медицинскому персоналу указываются при условии осуществления </a:t>
            </a:r>
            <a:r>
              <a:rPr b="0" lang="ru-RU" sz="1800" spc="-1" strike="noStrike">
                <a:solidFill>
                  <a:srgbClr val="990033"/>
                </a:solidFill>
                <a:latin typeface="Times New Roman"/>
              </a:rPr>
              <a:t>самостоятельного амбулаторного прием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: фельдшерами, акушерками, в смотровых кабинетах, в кабинетах доврачебного приема, кабинетах неотложной помощи, фельдшерами пунктов неотложной помощи на дому. Сведения о посещениях среднего медицинского персонала заполняются на основании данных таблиц 2101 и 2700 ФФСН №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304920" y="1600200"/>
            <a:ext cx="8610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сещения к врачам включают сведения о работе врачей осуществляющих прием пациентов в амбулаторных условиях и на дому, а также консультативный прием, включая деятельность врачей отделений (кабинетов) платных услуг. Сведения о врачебных посещениях заполняются на основании данных таблиц 2100 и 2105 ФФСН №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1981080" y="609480"/>
            <a:ext cx="5105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ведения о посещения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0" y="1066320"/>
            <a:ext cx="87631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Утверждена приказом №1183н от 01.08.2011 года Министерством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здравоохранения Российской Федерации с изменениями в редакции Приказа Минздрава России от 01.08.2014 года №420н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900" spc="-1" strike="noStrike">
                <a:solidFill>
                  <a:srgbClr val="990033"/>
                </a:solidFill>
                <a:latin typeface="Times New Roman"/>
              </a:rPr>
              <a:t>Номенклатура представлена двумя разделами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1898640" y="380880"/>
            <a:ext cx="5170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оменклатура должностей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медицинских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армацевтических работник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228600" y="2590920"/>
            <a:ext cx="4343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едицинские работник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4724280" y="2590920"/>
            <a:ext cx="41911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Фармацевтические работн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228600" y="2971800"/>
            <a:ext cx="434340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.1 Должности руководител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.2 Должности специалистов с высших профессиональным (медицинским) образованием (врачи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.3 Должности специалистов с высших профессиональным (немедицинским) образование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.4 Должности специалистов со средним профессиональным (медицинским) образованием (средний медицинский персонал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.5 Иные должности медицинских работников (младший медицинский персонал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4724280" y="2971800"/>
            <a:ext cx="419112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1 Должности руководител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2 Должности специалистов с высших профессиональным (фармацевтическим) образованием (провизоры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3 Должности специалистов со средним профессиональным (фармацевтическим) образованием (средний фармацевтический персонал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4 Иные должности фармацевтических работников (младший фармацевтический персонал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4"/>
          <p:cNvSpPr/>
          <p:nvPr/>
        </p:nvSpPr>
        <p:spPr>
          <a:xfrm>
            <a:off x="304920" y="609480"/>
            <a:ext cx="86104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Times New Roman"/>
              </a:rPr>
              <a:t>Правильному подбору и расстановке кадров, а также обеспечению единства подходов при определении должностных обязанностей этих категорий работников и предъявляемых к ним квалификационных требований способствует Единый квалификационный справочник должностей руководителей, специалистов и служащих, утвержденный приказом Министерства здравоохранения и социального развития Российской Федерации от 23.07.2010 года №541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228600" y="2743200"/>
            <a:ext cx="8686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дицинские регистраторы (медицинские дезинфекторы), имеющие медицинское образование или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допуск к занимаемой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олжности (профстандарт), показываются в числе среднего медицинского персонала. В случае отсутствия медицинского образования или специального допуска к занимаемой должности, они показываются как занятые должности и физические лица по строке «Прочий персонал»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прочий персонал включаются: экономисты, программисты, инженеры, юристы, операторы, бухгалтеры, завхозы, работники кухонь, водители и другие категории работников, не относящиеся к медицинскому персонал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4568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едения о должностях в форме могут показываться как целыми, так и дробными числами в соответствии с </a:t>
            </a: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правилами округле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0,75, 0,5, 0,25 долж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80880" y="3809880"/>
          <a:ext cx="8382240" cy="2163960"/>
        </p:xfrm>
        <a:graphic>
          <a:graphicData uri="http://schemas.openxmlformats.org/drawingml/2006/table">
            <a:tbl>
              <a:tblPr/>
              <a:tblGrid>
                <a:gridCol w="827280"/>
                <a:gridCol w="3963960"/>
                <a:gridCol w="3591000"/>
              </a:tblGrid>
              <a:tr h="3351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п/п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четное число должносте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ила округлен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ее 0,1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брасываются (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3-0,3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ругляются до 0,2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8-0,6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ругляются до 0,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3-0,8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ругляются до 0,7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0,8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ругляются до 1,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Rectangle 3"/>
          <p:cNvSpPr/>
          <p:nvPr/>
        </p:nvSpPr>
        <p:spPr>
          <a:xfrm>
            <a:off x="304920" y="1371600"/>
            <a:ext cx="8610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авила округления при расчете штатной численности работнико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228600" y="1752480"/>
            <a:ext cx="8610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В штатные расписания могут вводиться штатные должности: целая единица штатной должности, 0,25 единицы штатной должности, 0,5 единицы штатной должности или 0,75 единицы штатной должност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228600" y="243828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кругление по одноименным должностям может производиться как по отдельным структурным подразделениям, так и по нескольким структурным подразделениям или по медицинской организации в целом, в следующем порядке: итоговые числа менее 0,13 отбрасываются, числа 0,13-0,37 округляются до 0,25; числа 0,38-0,62 округляются до числа 0,5; числа 0,63-0,87 округляются до 0,75, а свыше 0,87 - до единицы в соответствии с таблицей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36"/>
          <p:cNvSpPr/>
          <p:nvPr/>
        </p:nvSpPr>
        <p:spPr>
          <a:xfrm>
            <a:off x="152280" y="6019920"/>
            <a:ext cx="8763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таком же порядке допускается округление по категориям персонала (врачи, средний медицинский персонал, младший медицинский персонал) в целом по учреждению здравоохранения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990720" y="380520"/>
            <a:ext cx="6858000" cy="1143000"/>
          </a:xfrm>
          <a:prstGeom prst="rect">
            <a:avLst/>
          </a:prstGeom>
          <a:solidFill>
            <a:srgbClr val="ed7d31">
              <a:alpha val="26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171360" indent="0" algn="ctr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Администрация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*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1360" indent="0" algn="ctr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71360" indent="0" algn="ctr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Реестр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171360" indent="0" algn="ctr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административно-территориальных единиц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*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1360" indent="0" algn="ctr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 состоянию на 01.01.201    год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228600" y="1905120"/>
          <a:ext cx="7010280" cy="1957320"/>
        </p:xfrm>
        <a:graphic>
          <a:graphicData uri="http://schemas.openxmlformats.org/drawingml/2006/table">
            <a:tbl>
              <a:tblPr/>
              <a:tblGrid>
                <a:gridCol w="5213520"/>
                <a:gridCol w="1796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ус административно-территориальных единиц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, ед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йон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чие поселк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е населенные пункт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152280" y="4114800"/>
          <a:ext cx="8839440" cy="2301840"/>
        </p:xfrm>
        <a:graphic>
          <a:graphicData uri="http://schemas.openxmlformats.org/drawingml/2006/table">
            <a:tbl>
              <a:tblPr/>
              <a:tblGrid>
                <a:gridCol w="774720"/>
                <a:gridCol w="1054080"/>
                <a:gridCol w="1219320"/>
                <a:gridCol w="1447920"/>
                <a:gridCol w="1828800"/>
                <a:gridCol w="1218960"/>
                <a:gridCol w="129564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гистрационный номе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та регист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района/населенного пунк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административного цент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ближайшей жд станции и расстояние до нее в к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исло сельских населенных пунк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исло городских населенных пунк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.03.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---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. А-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.03.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----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. Б-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-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.03.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----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.п. Б-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-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 так дале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.03.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. К----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родской окру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-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.03.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. Л---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родской окру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-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Rectangle 23"/>
          <p:cNvSpPr/>
          <p:nvPr/>
        </p:nvSpPr>
        <p:spPr>
          <a:xfrm>
            <a:off x="152280" y="3809880"/>
            <a:ext cx="5410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6. Перечень район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24"/>
          <p:cNvSpPr/>
          <p:nvPr/>
        </p:nvSpPr>
        <p:spPr>
          <a:xfrm>
            <a:off x="152280" y="1600200"/>
            <a:ext cx="6858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5. Число административно-территориальных едини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228240" y="4572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СТА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ластного государственного (муниципального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чреждения здравоохранени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___ районная больниц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1600200" y="1828800"/>
            <a:ext cx="4191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 Общие полож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228600" y="2514600"/>
            <a:ext cx="87631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. Областное государственное (муниципальное) бюджетное учреждение здравоохранения _________ районная больница является некоммерческой организацие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 Полное наименование учреждения: 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9. Учреждение считается созданным как юридическое лицо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о дня внесения соответствующей записи в Единый государственный реестр юридических лиц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0. Учреждение имеет в своем составе следующие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обособленны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одразделения без права юридического лиц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действующие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на основани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оложени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утвержденных руководителем учреждения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e7e6e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«участковая больница», расположенная по адресу: 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e7e6e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«амбулатория», расположенная по адресу: 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e7e6e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«филиал» (структурное подразделение, поликлиническое отделение) расположенный по адресу: 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36"/>
          <p:cNvSpPr/>
          <p:nvPr/>
        </p:nvSpPr>
        <p:spPr>
          <a:xfrm>
            <a:off x="5410080" y="762120"/>
            <a:ext cx="3505320" cy="1752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Возникает вопрос – Наименования обособленных структурных подразделений  должны быть уникальными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Используйте их при заполнении ФРМО, ФРМР, Геопортал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1676520" y="533520"/>
            <a:ext cx="5562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ИЦЕНЗ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304920" y="990720"/>
            <a:ext cx="861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 осуществление медицинской деятельн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228600" y="1523880"/>
            <a:ext cx="8610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дреса мест осуществления лицензируемого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ида деятельности, выполняем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работы, оказываемые услуг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228600" y="2286000"/>
            <a:ext cx="86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дрес: 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228600" y="2819520"/>
            <a:ext cx="86868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 осуществлении доврачебной медицинской помощи по:  акушерскому делу, анестезиологии и реаниматологии, медицинской статистике, медицинскому массажу, физиотерапии, функциональной диагностик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 осуществлении амбулаторно-поликлинической медицинской помощи, в том числе: а) при осуществлении первичной медико-санитарной помощи по: неврологии, офтальмологии, терапии, урологии, педиатрии, хирурги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 осуществлении стационарной медицинской помощи по: анестезиологии и реаниматологии, педиатрии, хирургии, по акушерству и гинекологии, терапи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 осуществлении доврачебной медицинской помощи по: лабораторной диагностике, по лечебной физкультуре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 осуществлении амбулаторно-поликлинической медицинской помощи, в том числе: по клинической лабораторной диагностик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т.д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152280" y="8377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линики ВУЗов и НИИ показываются в таблицах формы в итоговых строках по подчинению и в строках (графах)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«Кроме того, клиники ВУЗов и НИИ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едения о числе посещений, проведенных пациентами койко-днях, число среднегодовых коек, о плановой мощности (число посещений в смену) показываются в целых числах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990033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сельское население — население, проживающее в сельских населенных пунктах. К ним относятся: сельские районы,  поселки, сёла, деревни, станицы, хутора, аулы и т. 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990033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в строки «Медицинские организации, расположенные в сельской местности» таблиц формы, включаются сведения по медицинским организациям, их структурным подразделениям и филиалам, расположенным в </a:t>
            </a:r>
            <a:r>
              <a:rPr b="1" lang="ru-RU" sz="2000" spc="-1" strike="noStrike" u="sng">
                <a:solidFill>
                  <a:srgbClr val="990033"/>
                </a:solidFill>
                <a:uFillTx/>
                <a:latin typeface="Times New Roman"/>
              </a:rPr>
              <a:t>сельских муниципальных образованиях</a:t>
            </a: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, а также в </a:t>
            </a:r>
            <a:r>
              <a:rPr b="1" lang="ru-RU" sz="2000" spc="-1" strike="noStrike" u="sng">
                <a:solidFill>
                  <a:srgbClr val="990033"/>
                </a:solidFill>
                <a:uFillTx/>
                <a:latin typeface="Times New Roman"/>
              </a:rPr>
              <a:t>сельских населенных пунктах</a:t>
            </a: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, </a:t>
            </a:r>
            <a:r>
              <a:rPr b="1" lang="ru-RU" sz="2000" spc="-1" strike="noStrike" u="sng">
                <a:solidFill>
                  <a:srgbClr val="990033"/>
                </a:solidFill>
                <a:uFillTx/>
                <a:latin typeface="Times New Roman"/>
              </a:rPr>
              <a:t>входящих в состав городских поселений или городских округ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990033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533520" y="5335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ипы организаций системы здравоохран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533520" y="1143000"/>
            <a:ext cx="3657600" cy="1252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Медицинские организаци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ГБУ</a:t>
            </a:r>
            <a:r>
              <a:rPr b="1" lang="ru-RU" sz="2800" spc="-1" strike="noStrike">
                <a:solidFill>
                  <a:srgbClr val="990033"/>
                </a:solidFill>
                <a:latin typeface="Times New Roman"/>
              </a:rPr>
              <a:t>З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, ОГАУ</a:t>
            </a:r>
            <a:r>
              <a:rPr b="1" lang="ru-RU" sz="2800" spc="-1" strike="noStrike">
                <a:solidFill>
                  <a:srgbClr val="990033"/>
                </a:solidFill>
                <a:latin typeface="Times New Roman"/>
              </a:rPr>
              <a:t>З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 ФГБУ</a:t>
            </a:r>
            <a:r>
              <a:rPr b="1" lang="ru-RU" sz="2800" spc="-1" strike="noStrike">
                <a:solidFill>
                  <a:srgbClr val="990033"/>
                </a:solidFill>
                <a:latin typeface="Times New Roman"/>
              </a:rPr>
              <a:t>З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т.д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4724280" y="1143000"/>
            <a:ext cx="3810240" cy="73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Немедицинские организации: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ГАУ, ОГУП, ФГУ и т.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2133720" y="2438280"/>
            <a:ext cx="457200" cy="533520"/>
          </a:xfrm>
          <a:prstGeom prst="downArrow">
            <a:avLst>
              <a:gd name="adj1" fmla="val 50000"/>
              <a:gd name="adj2" fmla="val 29173"/>
            </a:avLst>
          </a:prstGeom>
          <a:solidFill>
            <a:srgbClr val="ed7d3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6324480" y="2438280"/>
            <a:ext cx="53352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ed7d3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533520" y="2971800"/>
            <a:ext cx="365760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 базе сведений по медицинским организациям формируется свод по субъекту по ФФСН №47 «Сведения о сети и деятельности медицинских организаций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4724280" y="3048120"/>
            <a:ext cx="36576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Не входят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в свод субъекта по ФФСН №47 «Сведения о сети и деятельности медицинских организаций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533520" y="5334120"/>
            <a:ext cx="365760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Например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ГАУЗ Больница №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ФГБУЗ НИИ Кардиолог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 т.д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4724280" y="4343400"/>
            <a:ext cx="365760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Например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ГУ Центр фарм информац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ГАУ Центр сертификац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ГАУ Аптечный скла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 т.д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0" y="9140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Утверждена приказом №529н от 06.08.2013 года Министерством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здравоохранения Российской Федерации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Номенклатура медицинских организаций представлена двумя разделами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2051280" y="380880"/>
            <a:ext cx="501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оменклатура медицинских организац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152280" y="2057400"/>
            <a:ext cx="5410440" cy="420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оменклатура медицинских организаци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 виду медицинской деятельност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Медицинские организации, в которых располагаются структурные подразделения образовательных и научных организаций, на базе которых осуществляется практическая подготовка медицинских работников (клинические базы), включают в свое наименование слово "клинический".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 Лечебно-профилактические медицинские организ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 Медицинские организации особого тип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 Медицинские организации по надзору в сфере защиты прав потребителей и благополучия челове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5791320" y="2057400"/>
            <a:ext cx="2971800" cy="20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оменклатура медицинских организаций государственной и муниципальной систем здравоохранения по территориальному признаку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Прямая соединительная линия 2"/>
          <p:cNvSpPr/>
          <p:nvPr/>
        </p:nvSpPr>
        <p:spPr>
          <a:xfrm>
            <a:off x="1066680" y="5486400"/>
            <a:ext cx="2590920" cy="60948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-360" y="456840"/>
            <a:ext cx="88390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К лечебно-профилактическим медицинским организациям относятся: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1.1. Больница (в том числе детская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1.2. Больница скорой медицинской помощи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1.3. Участковая больниц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1.4. Специализированные больницы (в том числе по профилю медицинской помощи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1.5. Родильный дом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1.6. Госпиталь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1.7. Медико-санитарная часть, в том числе центральная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1.8. Дом (больница) сестринского уход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1.9. Хоспис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1.10. Лепрозорий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1.11. Диспансеры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1.12. Амбулатория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1.13. Поликлиники (в том числе детские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1.14. Женская консультация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1.15. Дом ребенка, в том числе специализированный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1.16. Молочная кухня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1.17. Центры (в том числе детские)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700" spc="-1" strike="noStrike">
                <a:solidFill>
                  <a:srgbClr val="990033"/>
                </a:solidFill>
                <a:latin typeface="Times New Roman"/>
              </a:rPr>
              <a:t>1.18.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990033"/>
                </a:solidFill>
                <a:latin typeface="Times New Roman"/>
              </a:rPr>
              <a:t>Медицинские организации скорой медицинской помощи и переливания крови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700" spc="-1" strike="noStrike">
                <a:solidFill>
                  <a:srgbClr val="990033"/>
                </a:solidFill>
                <a:latin typeface="Times New Roman"/>
              </a:rPr>
              <a:t>1.19. Санаторно-курортные организации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AutoShape 3"/>
          <p:cNvSpPr/>
          <p:nvPr/>
        </p:nvSpPr>
        <p:spPr>
          <a:xfrm>
            <a:off x="4191120" y="914400"/>
            <a:ext cx="83808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e7e6e6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09480" y="2590560"/>
            <a:ext cx="3276720" cy="289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812880" indent="-8128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Врачебно-физкультурный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Кардиологический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Кожно-венерологический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Наркологический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Онкологический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Офтальмологический 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Противотуберкулезный 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Психоневрологический 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Эндокринологический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1600200" y="654480"/>
            <a:ext cx="58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11. Диспансе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4800600" y="2590920"/>
            <a:ext cx="3200400" cy="289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2880" indent="-81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рачебно-физкультурный с ЦМ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рдионеврологическ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сихонаркологическ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рахоматоз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6"/>
          <p:cNvSpPr/>
          <p:nvPr/>
        </p:nvSpPr>
        <p:spPr>
          <a:xfrm>
            <a:off x="4952880" y="2666880"/>
            <a:ext cx="3048120" cy="2743200"/>
          </a:xfrm>
          <a:prstGeom prst="line">
            <a:avLst/>
          </a:prstGeom>
          <a:ln w="28440">
            <a:solidFill>
              <a:srgbClr val="99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8"/>
          <p:cNvSpPr/>
          <p:nvPr/>
        </p:nvSpPr>
        <p:spPr>
          <a:xfrm flipH="1">
            <a:off x="4952520" y="2666880"/>
            <a:ext cx="2971800" cy="2743200"/>
          </a:xfrm>
          <a:prstGeom prst="line">
            <a:avLst/>
          </a:prstGeom>
          <a:ln w="28440">
            <a:solidFill>
              <a:srgbClr val="99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838080" y="1828800"/>
            <a:ext cx="312444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Правильное наименование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4800600" y="1828800"/>
            <a:ext cx="32004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Times New Roman"/>
              </a:rPr>
              <a:t>!!!!!!!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0" y="60912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К медицинским организациям  особого типа относятся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2.1. Центры: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медицинской профилактики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медицины катастроф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медицинский мобилизационных резервов "Резерв"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медицинский информационно-аналитический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медицинский биофизический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военно-врачебной экспертизы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судебно-медицинской экспертизы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2.2. Бюро: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медико-социальной экспертизы 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медицинской статистики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патолого-анатомическое 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судебно-медицинской экспертизы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2.3. Лаборатории: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клинико-диагностическая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бактериологическая, в том числе по диагностике туберкулез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2.4. Медицинский отряд, в том числе специального назначения (военного округа, флота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AutoShape 3"/>
          <p:cNvSpPr/>
          <p:nvPr/>
        </p:nvSpPr>
        <p:spPr>
          <a:xfrm>
            <a:off x="4191120" y="990720"/>
            <a:ext cx="83808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e7e6e6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761760" y="2286000"/>
            <a:ext cx="335268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812880" indent="-812880">
              <a:lnSpc>
                <a:spcPct val="90000"/>
              </a:lnSpc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дицинской профилакти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lnSpc>
                <a:spcPct val="90000"/>
              </a:lnSpc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дицины катастро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lnSpc>
                <a:spcPct val="90000"/>
              </a:lnSpc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дицинский мобилизационных резервов «Резерв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lnSpc>
                <a:spcPct val="90000"/>
              </a:lnSpc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дицинский информационно-аналитическ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lnSpc>
                <a:spcPct val="90000"/>
              </a:lnSpc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дицинский биофизическ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lnSpc>
                <a:spcPct val="90000"/>
              </a:lnSpc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енно-врачебной экспертиз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lnSpc>
                <a:spcPct val="90000"/>
              </a:lnSpc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удебно-медицинской экспертиз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533520" y="6084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1. Центры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медицинские организации особого типа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4876920" y="2286000"/>
            <a:ext cx="327636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2880" indent="-81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нформатиза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налитическ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фпатолог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5"/>
          <p:cNvSpPr/>
          <p:nvPr/>
        </p:nvSpPr>
        <p:spPr>
          <a:xfrm>
            <a:off x="4952880" y="2362320"/>
            <a:ext cx="3124440" cy="2666880"/>
          </a:xfrm>
          <a:prstGeom prst="line">
            <a:avLst/>
          </a:prstGeom>
          <a:ln w="28440">
            <a:solidFill>
              <a:srgbClr val="99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6"/>
          <p:cNvSpPr/>
          <p:nvPr/>
        </p:nvSpPr>
        <p:spPr>
          <a:xfrm flipH="1">
            <a:off x="4876920" y="2362320"/>
            <a:ext cx="3200400" cy="2743200"/>
          </a:xfrm>
          <a:prstGeom prst="line">
            <a:avLst/>
          </a:prstGeom>
          <a:ln w="28440">
            <a:solidFill>
              <a:srgbClr val="99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533520" y="1523880"/>
            <a:ext cx="35812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Правильное наименование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4876920" y="1523880"/>
            <a:ext cx="327636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Times New Roman"/>
              </a:rPr>
              <a:t>!!!!!!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685800" y="533412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Times New Roman"/>
              </a:rPr>
              <a:t>При реорганизации наименование медицинской организации особого типа остается таким, к которому присоединяются ины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0" y="533160"/>
            <a:ext cx="86868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 медицинским организациям по надзору в сфере защиты прав потребителей и благополучия человека относятс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1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Центры гигиены и эпидемиологи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2. Противочумный центр (станции)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3. Дезинфекционный центр (станция)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4. Центр гигиенического образования населения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5. Центр государственного санитарно-эпидемиологического надзор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0" y="3809880"/>
            <a:ext cx="8763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2880" indent="-812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II. Номенклатура медицинских организаций государственной и муниципальной систем здравоохранения по </a:t>
            </a: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территориальному признак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1219320" y="4800600"/>
            <a:ext cx="70866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2880" indent="-81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.1. Федеральн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.2. Краевые, республиканские, областные, окружн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.3. Муниципальн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.4. Межрайонн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.5. Районн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.6. Городск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5"/>
          <p:cNvSpPr/>
          <p:nvPr/>
        </p:nvSpPr>
        <p:spPr>
          <a:xfrm>
            <a:off x="4114800" y="1295280"/>
            <a:ext cx="83808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e7e6e6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6248520" y="137160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Если переданы в подчинение субъекта, то показать как «прочие» в особом типе и расшифровать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28600" y="68580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иказ Минздравсоцразвития России от 17.05.2012 N 555н  «Об утверждении номенклатуры коечного фонда по профилям медицинской помощи» (зарегистрировано в Минюсте России 04.06.2012 N 24440), изменения в редакции </a:t>
            </a: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Приказа Министерства здравоохранения Российской Федерации от 16.12.2014 года № 843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28600" y="2362320"/>
          <a:ext cx="8763120" cy="4500360"/>
        </p:xfrm>
        <a:graphic>
          <a:graphicData uri="http://schemas.openxmlformats.org/drawingml/2006/table">
            <a:tbl>
              <a:tblPr/>
              <a:tblGrid>
                <a:gridCol w="3236760"/>
                <a:gridCol w="552636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филь медицинской помощи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0033"/>
                          </a:solidFill>
                          <a:latin typeface="Arial"/>
                          <a:ea typeface="Times New Roman"/>
                        </a:rPr>
                        <a:t>Профиль койки</a:t>
                      </a: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Arial"/>
                          <a:ea typeface="Times New Roman"/>
                        </a:rPr>
                        <a:t>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кушерское дело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ля беременных и рожениц, патологии беременности,            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йки сестринского ухода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кушерство и гинекология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ля беременных и рожениц, патологии беременности,            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инекологические, гинекологические для детей,        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инекологические для вспомогательных                    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продуктивных технологий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ллергология и иммунология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ллергологические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нестезиология и реаниматология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анимационные, реанимационные для новорожденных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тенсивной терапии, интенсивной терапии для новорожденных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астроэнтерология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астроэнтерологические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ематология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ематологические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ериатрия  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еронтологические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рматовенероло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рматологические, венерологические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Rectangle 3"/>
          <p:cNvSpPr/>
          <p:nvPr/>
        </p:nvSpPr>
        <p:spPr>
          <a:xfrm>
            <a:off x="304920" y="1676520"/>
            <a:ext cx="8610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оменклатура коечного фонд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 профилям медицинской помощ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39"/>
          <p:cNvSpPr/>
          <p:nvPr/>
        </p:nvSpPr>
        <p:spPr>
          <a:xfrm>
            <a:off x="7513560" y="1828800"/>
            <a:ext cx="136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Times New Roman"/>
              </a:rPr>
              <a:t>Внимание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8T03:44:48Z</dcterms:created>
  <dc:creator>Шиблаков Иван Петрович</dc:creator>
  <dc:description/>
  <dc:language>en-US</dc:language>
  <cp:lastModifiedBy>user</cp:lastModifiedBy>
  <dcterms:modified xsi:type="dcterms:W3CDTF">2017-11-30T06:15:58Z</dcterms:modified>
  <cp:revision>6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