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61C-D7E4-4B96-8725-64945A9C75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AE8E-508D-4262-943B-4CBC6C21F799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799-EAE5-4F87-9105-06E7C00D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D3F-C9DE-481E-8CB3-6B529AF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C2791-B552-41B8-A710-61401D7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A7C15-C4BD-4519-B63B-BE09836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A9765-E137-4922-B4AE-EEAB65E5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BA184-E3A1-41CA-9A6B-2AA16B2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48CCD-64DB-4665-B146-605AF41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4BE4D-3AB8-440A-8A24-16ABB95F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89FEE-4A8A-428D-9149-4B7035D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50768-748A-45EB-AA26-88FF76A7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A07F6-039A-4F3F-A448-4E88CEC2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6D3E9-2071-4FCF-B614-78FB83F1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A1B-F490-47BD-AF13-45C1F252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D88C6-F4EB-4A12-9E16-81830E0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208DF-F80F-40DA-B139-F80C181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6CE56-8672-4F72-913C-5197E67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D2D64-F2FB-400B-AB1B-D6F1EF6D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EC76-DAD1-421D-A6D3-A7C52B39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EC89-0BE3-49D7-9201-24BD760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C9FE3-E0D3-42EE-AAC1-A47CB7F8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EE92B-0854-41EE-A535-0240C64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0B5FE-F6F4-47C2-9891-97C8886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FA35C-981C-410D-A96B-E7B0A995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A7D-3CC7-4F20-A649-BEFD4753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F4121-584A-4CBF-AEC2-33DA8A0B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46824-7ADE-4E32-9888-738D6E5A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8C42A-6BA0-4A8C-8850-5916B47C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16A5C-E60C-4944-B570-4FB9CDDC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36B9-61F3-42D6-8346-BC071574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98759-F58E-4905-9C0E-751C7E0A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83E4C-F7CD-43B2-8984-4F348E3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F0235-EB56-42F5-8E44-ED0BD37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24CE-9917-47B1-8A84-F755D0E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27B3-2261-469A-B8D7-13649BB4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B217-7A8E-439F-9F59-B55CD484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EA2BC-1CEF-4507-914D-EBD9809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D4C4B-1D86-4DB4-8449-4557634D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5429-7444-47C2-A48A-8FA90C28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ABD25-309A-4B1F-B56A-773878A8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071F7-C02A-40EC-A809-B5EFACF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5F3F7-CF5A-4EF4-B53B-C8F1DC72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91037-24AF-4677-BC59-41DC7C3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2FE56-942D-4D23-AAF3-11CE3D3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642F-A3B7-4009-B8F2-BF3AEDA1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BB22-A1AA-450D-8515-EA283E5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501-C76F-4D06-99C0-E9C6ACDD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FD1BF-33AE-48A4-8E96-91B4AA6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42CB8-373A-472D-B6A3-BAA39B1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F369A-4156-4B71-90D5-A547BEE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53789-7B4C-4B5D-88EA-CA664567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9F710-D622-4E12-ABCD-FBA217A6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AEFA6-CB78-41BA-BDB0-87E6AFA7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BA2DA-A479-4BFF-A4A6-6707B784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1C1FF-7380-41CE-9BCA-6936ABF4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D58B3-D1E0-4E1F-800D-458A4105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0A54C-4DD7-4552-B978-0BCBCD7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A8F4-1E6C-4316-853F-48B6327B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FB2A7-5D9B-4189-92C1-CBE3369F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ABA56-A9D2-467F-AE5A-F43C596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645AC-2E15-46DE-9652-5792AD0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78E7E-AF4A-4BD3-9E01-6F5844FF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A1B1D-6748-43C8-80F8-3209DE7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328D0-0B34-4D05-99E9-68EDD4F0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1DA0F-6E0D-4876-B08A-82C24797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2C4-EB16-43C8-8140-A5F4E572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2F6-55AB-4FC0-881E-83E024C6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0AA0-A848-4FB4-A391-313A2673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EB0-0E00-4AB0-8376-1AEC56B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AAB-D941-4564-8C4C-715B5767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03B9-4D39-4535-9512-6B42012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6464-F8DC-4785-BD8F-B073370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2CA-170A-4438-9EAE-F5E271D1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FE1-40DD-4783-9190-DCE5F23E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DE22-5B7F-4228-A798-4D5F9EE0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BA91-1DB0-40B1-9548-95C8862A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3D78-BDE7-417A-B296-3328107C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D403-2688-4A4E-9D39-21E98C45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B165-D635-4224-95BD-ECD6052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87C9-FC38-42A9-8A3A-E3E7135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B41-DAFB-4DA1-A949-5B57CA1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AF9F-24E7-4F14-A7A7-ECE6EB5F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5C2C-4932-4DBD-B72E-A19C2ED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DD98-BACD-4818-B9F8-5E72EC9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7445-A0F8-4C37-B736-9E0AC36C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2367-7437-4C9A-9F0B-BD98F6A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9B42-A00B-4EE2-BCEF-E44A6790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2EC4-B10E-4932-962F-04849BA8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C062-54B2-4C55-917D-B3AFA58C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3C9A-A5B3-4874-A590-F0B33525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3B47-6AEE-442C-91B1-651E46C5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3C7-94FF-4D05-8F2D-F2158B23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469E-669B-475D-A292-F1BEC26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61B0-0F38-4B49-A6BC-EEEDA567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A24C-671F-41AC-95DF-15F859EE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E90D-F977-475D-8B5C-34F9D55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39D3-4F31-47FF-9E8B-F77284B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48AD-2922-4E2E-A401-2F1BD4A7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0AE1-D5E6-4465-8854-D8A78E6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8A0D-FC17-40D9-95BE-4F603EB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5492-A64F-4BF3-9F64-CEB30D91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2C80-955D-49FE-A84F-F7F50627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A13-F4BB-4408-B5DB-7D0D4CDB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C359-136C-4BD9-B6B7-F1D00416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AC65-2EC5-4F4B-B24F-72539B37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E693-B66F-4A23-A1A5-BBE6209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CBFB-3F5E-4F57-A14F-483853F5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3A42-CFBC-48E4-966B-52CAA97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9F13-842C-40D2-94C5-3F077A7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EC58-0800-446F-BC4B-470ABCF6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AB9BC-6263-4AE6-B25E-93DF891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F83DA-B207-45DC-A7DA-117BFC4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5CFB-3BD2-4AC9-92BC-857C4320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37F-9283-4B22-B564-8E241B5B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0683-5C2C-46E5-9BD6-4F340AC5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513A-87E3-4705-8D05-FA8F7FEC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CED8-914C-4E6F-86E7-C385791D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C36E-F304-400A-8DD1-62CC7858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496E-3CD5-4D5D-96B0-1C1345E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7357-F323-4326-B060-446D94E8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355D-C291-4AEA-B1E1-345231EB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6D7F-4E87-4087-80D6-B929B4B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2F52-1DB4-4D66-BF79-D0E622F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6963-61A8-493A-9D16-28BC9BB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D53-C0A6-4A20-9765-21057E6A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69B9-7319-4C09-9384-533D7A32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BC182-4048-43DF-9E34-D7B1C2ED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9ABBE-5058-44ED-AAD7-0C891792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91784-699B-47B2-8E58-B0119291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6C8C-99BE-4445-A056-CE69EAA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E5D3-DAE5-4C18-9C6E-C34EE50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D1E4-763F-4764-A025-FBAE42A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D2DA3-B631-4863-ACA2-B8991D97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74932-5E0F-4F2D-8F9A-A486CAFE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F2C8-CF1B-42A1-9B4E-905CCA4B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261-2F98-4EF6-90F7-FF714B38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D9734-D4C0-433C-B6D3-00F656F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E3AF-A348-42A6-8AE8-6303FDE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E2489-518A-45D5-A4CE-D8D8BC5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C9AB-8AFF-4203-A203-C2CDF0C7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3101-E191-4D2A-8751-76A38B30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B6857-2D69-4542-A792-87C80C7B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F486-0EEE-46C3-8D92-1FA522A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A7AD9-36E3-46EA-B574-2323032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F722F-13F3-4E2B-BB1A-7526874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BB1D6-6CDF-491B-BFDA-5D1445B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8B6-DEE2-4F42-BFD7-F768B27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F3AE-FFC3-41BA-8BCA-5B4C1A1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A784C-F4E4-45A9-AD0A-7DB8DD4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8909-ACBC-4883-97E6-A244754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D180-2853-4419-89ED-8C48175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001F9-4F88-4F5B-B786-73890F4D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E710D-25BA-499D-B3E4-A1FCEB60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5F693-1AAC-479A-A23C-CF3B2382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2B266-2884-4189-9633-9C978BAC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3CD0B-98F4-4F7E-A205-DA892578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FDFE-27EC-482C-95F9-7603D1B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A7E-7C81-4B76-95C0-325D88E853C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EED-92D9-493C-8C9B-C23A8E21FC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2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13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14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A3D0-AB1B-43A7-889A-1704F4E4A2C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4E3B-6AAE-493A-BDE8-38B721D6B8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олилиния 19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5" name="Полилиния 20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pSp>
        <p:nvGrpSpPr>
          <p:cNvPr id="436" name="Прямоугольный треугольник 22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7" name="Прямоугольный тре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pic>
        <p:nvPicPr>
          <p:cNvPr id="439" name="Прямая соединительная линия 23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0" name="Нашивка 24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41" name="Нашивка 25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0086-D6F4-431E-9B7A-6A34DCA124A1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61F-DB73-4681-B4A0-430F76D7D0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8EB-4F8C-4FAF-8094-B2A29304B3C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C15-7981-4E15-A521-2A5F32191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05E-E4FE-48F4-AE56-D64FDBDE3F5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582-5702-4EF1-B6D7-98EF31D5BD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7DF6-05DF-4EF7-8823-A80515D1B9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6851-C4AB-4C7F-886B-641E42307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57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58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59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ый треугольник 1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pSp>
        <p:nvGrpSpPr>
          <p:cNvPr id="97" name="Группа 2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8" name="Полилиния 22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99" name="Полилиния 23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grpSp>
          <p:nvGrpSpPr>
            <p:cNvPr id="100" name="Полилиния 24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01" name="Полилиния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dafbfe"/>
                  </a:solidFill>
                  <a:latin typeface="-윤고딕140"/>
                </a:endParaRPr>
              </a:p>
            </p:txBody>
          </p:sp>
        </p:grpSp>
        <p:pic>
          <p:nvPicPr>
            <p:cNvPr id="103" name="Прямая соединительная линия 25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9063-E00E-4D2E-AB57-32AF028DAEA8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4793-B4CE-471F-86A1-0E448E796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39F-8CBE-4ABD-AE4F-2BF485D2561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E918-8F0E-4D8A-BA4F-CC3908E48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ашивка 1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Нашивка 2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15B-5A1C-4A4F-9336-BF10DC6B39C0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BAC-E1FB-4461-A3B7-98C84B7D04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1EA7-B333-43BA-8EDF-D27AFEE00654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688-6D59-42CE-A2B3-55D6D8ADB0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B264-6729-4E3A-92D9-3D35148FED3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8F1-D622-4081-9084-5AD6967C17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A498-427D-4EDB-9247-AB0F65386D9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43E4-8BCD-4249-9BB8-D7C6052C0E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487-3871-41CD-AAC2-BB2EBAA3A6F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543-E9C6-4D61-940E-0CF3DFACF3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55720" y="260280"/>
            <a:ext cx="4363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855720" y="765000"/>
            <a:ext cx="79642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СВЕДЕНИЯ О ЧИСЛЕ ЗАБОЛЕВАНИЙ,ЗАРЕГИСТРИРОВАННЫХ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У ПАЦИЕНТОВ,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РОЖИВАЮЩИХ В РАЙОНЕ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ОБСЛУЖИВАНИЯ           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МЕДИЦИНСКОЙ ОРГАНИЗАЦИИ </a:t>
            </a:r>
            <a:br>
              <a:rPr sz="9600"/>
            </a:b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за  2018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4" name="Овал 2"/>
          <p:cNvSpPr/>
          <p:nvPr/>
        </p:nvSpPr>
        <p:spPr>
          <a:xfrm>
            <a:off x="3348000" y="5013360"/>
            <a:ext cx="2354400" cy="163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5" name="Овал 3"/>
          <p:cNvSpPr/>
          <p:nvPr/>
        </p:nvSpPr>
        <p:spPr>
          <a:xfrm>
            <a:off x="1968480" y="5332320"/>
            <a:ext cx="5113440" cy="994320"/>
          </a:xfrm>
          <a:prstGeom prst="ellipse">
            <a:avLst/>
          </a:prstGeom>
          <a:solidFill>
            <a:srgbClr val="a8b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ФСН №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0" name="Прямоугольник 2"/>
          <p:cNvSpPr/>
          <p:nvPr/>
        </p:nvSpPr>
        <p:spPr>
          <a:xfrm>
            <a:off x="108000" y="506520"/>
            <a:ext cx="903600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т.1000– выявле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перв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фосмотре, из графы 8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т.3000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о  при  диспансер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х   групп взрослого населения, из графы 6;  в таблице 2000 выявлено  при  диспансериз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т.1000 (12-2000, 10-3000)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нято с диспансерного             наблю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 всем причинам: выздоровление, смерть, переезд на другое место жительства и др.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(13-2000, 11-3000)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оит под диспансерным наблюдением на конец отчет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8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т.1000 (15-2000, 12-3000)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ояло под диспансерным наблюдением на начало отчетн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5,11,14, 16-в таблице 2000 –все данные о юнош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ять можно с диспансерного наблюдения (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ричинам: выздоровление, смерть, переезд на   другое место жительства и др.)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в другую возрастную группу </a:t>
            </a: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не входит в графу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«снято с диспансерного наблюдения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341280" y="5827680"/>
            <a:ext cx="83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 помнить в т. 2000: всего «минус» юноши «равно» девушки!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3" name="Прямоугольник 2"/>
          <p:cNvSpPr/>
          <p:nvPr/>
        </p:nvSpPr>
        <p:spPr>
          <a:xfrm>
            <a:off x="755640" y="105264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ит, острый миокардит, острые  респираторные  инфекции  верхних и  нижних  дыхательных  путей,  грипп, а  также  травмы,  за  исключением  последствий и др.) регистрируются столько раз, сколько они возникают в течение отчетного года. При этом графа 4 должна быть равна графа 8 т. 1000 (2000-7,3000-6)  по  соответствующим  строкам  таблиц 1000, 1500, 2000, 3000 и  4000.  На  начало года по данным строкам 0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5" name="Прямоугольник 1"/>
          <p:cNvSpPr/>
          <p:nvPr/>
        </p:nvSpPr>
        <p:spPr>
          <a:xfrm>
            <a:off x="858960" y="66024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«всего» и «впервые в жизни установленный диагноз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графы равны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6" name="TextBox 1"/>
          <p:cNvSpPr/>
          <p:nvPr/>
        </p:nvSpPr>
        <p:spPr>
          <a:xfrm>
            <a:off x="771480" y="2968560"/>
            <a:ext cx="767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-наблюдение либо по I25.8 (при переходе в ОИМ), либо по I20 (стр. 10.4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539640" y="389268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ми нарушениями мозгового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 наблюдаются в течение 28 дней, а затем сним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испансерного учета, поэтому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Состоит на ДУ»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9" name="Прямоугольник 1"/>
          <p:cNvSpPr/>
          <p:nvPr/>
        </p:nvSpPr>
        <p:spPr>
          <a:xfrm>
            <a:off x="0" y="549360"/>
            <a:ext cx="903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ичный (+), с (-) н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«всего» и «с впервые в жизни уст. диагнозом», а диспансерных по ишемической болезни сердца, в графе «состоит по наблюдением на конец отчетного года»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0" name="TextBox 1"/>
          <p:cNvSpPr/>
          <p:nvPr/>
        </p:nvSpPr>
        <p:spPr>
          <a:xfrm>
            <a:off x="437760" y="3068640"/>
            <a:ext cx="83588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первичный (+), с (-) нет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гр. 4 всегда равна гр. 9. По диагнозу «Инсульт»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ые подлежат диспансерному  наблюдению по гр. 15   на протяжении 30 дней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момента начальных  проявлений или более в пределах одного эпизода лече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диспансерное наблюдение осуществляется по последствия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ьта – парезы, параличи, энцефалопатия, речевые нарушения и т.д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мнить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код I6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пользуется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мертно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2" name="Прямоугольник 2"/>
          <p:cNvSpPr/>
          <p:nvPr/>
        </p:nvSpPr>
        <p:spPr>
          <a:xfrm>
            <a:off x="54000" y="506520"/>
            <a:ext cx="885816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«всего» и «с впервые в жизни уст. диагнозом»,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невмония - графа «всего» = графе «с впервые в жизни уст. диагнозом»,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графа «взято под диспансерное наблюдение» = графе «взято под диспансерное наблюдение из впервые в жизни»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4" name="Прямоугольник 1"/>
          <p:cNvSpPr/>
          <p:nvPr/>
        </p:nvSpPr>
        <p:spPr>
          <a:xfrm>
            <a:off x="611280" y="506520"/>
            <a:ext cx="7921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5" name="TextBox 1"/>
          <p:cNvSpPr/>
          <p:nvPr/>
        </p:nvSpPr>
        <p:spPr>
          <a:xfrm>
            <a:off x="297360" y="1754280"/>
            <a:ext cx="85474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ю множественным прогрессирующим  кариесом зубов (4 раза в год);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й формой пародонтита (1 раз в 6 мес.),  тяжелой формой (каждые 3 мес.); пародонтозом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раз в 6 мес. для профилактики осложнений); хроническими гингивитами, стоматитами,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 одонтогенными невралгиями тройничного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вритами лицевого нервов  (от 2 до 4 раз в год); хроническими остеомиелитами костей лиц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раза в год); хроническим одонтогенным воспалением верхнечелюстной пазухи (2 раза в год);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м воспалением слюнных желез (2 раза в год); предраковыми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ми челюстей и полости рта, злокачественными новообразованиями челюстей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лости рта (совместно с онкологами в зависимости от стадии заболевания);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ми расщелинами челюстно-лицевой области  (2 раза в год); зубочелюстными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 врожденными и приобретенными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ми челюстей (2 раза в год)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7" name="Прямоугольник 1"/>
          <p:cNvSpPr/>
          <p:nvPr/>
        </p:nvSpPr>
        <p:spPr>
          <a:xfrm>
            <a:off x="611280" y="765000"/>
            <a:ext cx="806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42.1</a:t>
            </a:r>
            <a:r>
              <a:rPr b="1" lang="ru-RU" sz="2400" spc="-1" strike="noStrike" u="sng">
                <a:solidFill>
                  <a:srgbClr val="dafbf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хондроз позвоночника у взрослых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хондроз позвоночник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рекомендаци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48.0, М 54, М50.0, М50.1, М50.2, М50.3, М50.8, М50.9, М51.0, М51.1, М51.2, М51.3, М51.8, М51.9, М53.2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росим обратить внимание специалистов на более точную формулировку диагнозов при остеохондрозе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9" name="Прямоугольник 1"/>
          <p:cNvSpPr/>
          <p:nvPr/>
        </p:nvSpPr>
        <p:spPr>
          <a:xfrm>
            <a:off x="684360" y="646200"/>
            <a:ext cx="777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3600"/>
            </a:b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3600"/>
            </a:b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и межгодовой контроли!!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Разница по любому показателю в годовом отчете более, чем на 5% требует объяснения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роводите сверку с мониторингами!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1" name="Прямоугольник 1"/>
          <p:cNvSpPr/>
          <p:nvPr/>
        </p:nvSpPr>
        <p:spPr>
          <a:xfrm>
            <a:off x="611280" y="4581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рсина И.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82153962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sinaii@miacugra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2" name="TextBox 1"/>
          <p:cNvSpPr/>
          <p:nvPr/>
        </p:nvSpPr>
        <p:spPr>
          <a:xfrm>
            <a:off x="1403640" y="1774800"/>
            <a:ext cx="645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Благодарю за внимание!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8"/>
          <p:cNvSpPr/>
          <p:nvPr/>
        </p:nvSpPr>
        <p:spPr>
          <a:xfrm>
            <a:off x="179280" y="189000"/>
            <a:ext cx="6337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7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8" name="TextBox 1"/>
          <p:cNvSpPr/>
          <p:nvPr/>
        </p:nvSpPr>
        <p:spPr>
          <a:xfrm>
            <a:off x="302760" y="68724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79" name="Схема 2" descr=""/>
          <p:cNvPicPr/>
          <p:nvPr/>
        </p:nvPicPr>
        <p:blipFill>
          <a:blip r:embed="rId1"/>
          <a:stretch/>
        </p:blipFill>
        <p:spPr>
          <a:xfrm>
            <a:off x="3975120" y="963720"/>
            <a:ext cx="5059440" cy="4601880"/>
          </a:xfrm>
          <a:prstGeom prst="rect">
            <a:avLst/>
          </a:prstGeom>
          <a:ln w="0">
            <a:noFill/>
          </a:ln>
        </p:spPr>
      </p:pic>
      <p:sp>
        <p:nvSpPr>
          <p:cNvPr id="580" name="TextBox 4"/>
          <p:cNvSpPr/>
          <p:nvPr/>
        </p:nvSpPr>
        <p:spPr>
          <a:xfrm>
            <a:off x="250920" y="1477800"/>
            <a:ext cx="364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формы статистического наблюдения за 2018 год по юридическому лицу без входящих подразделений! Филиалы предоставляются отдельно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744480" y="801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4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996840" y="23716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744480" y="3602160"/>
            <a:ext cx="789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онар, минуя поликлинику, следует включать в отчёт на общих основаниях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либо  заполнен в поликлинике на основании выписки из карты стационарного больного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95400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86" name="Схема 2" descr=""/>
          <p:cNvPicPr/>
          <p:nvPr/>
        </p:nvPicPr>
        <p:blipFill>
          <a:blip r:embed="rId1"/>
          <a:stretch/>
        </p:blipFill>
        <p:spPr>
          <a:xfrm>
            <a:off x="347760" y="865080"/>
            <a:ext cx="8899560" cy="50054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9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90" name="Схема 3" descr=""/>
          <p:cNvPicPr/>
          <p:nvPr/>
        </p:nvPicPr>
        <p:blipFill>
          <a:blip r:embed="rId1"/>
          <a:stretch/>
        </p:blipFill>
        <p:spPr>
          <a:xfrm>
            <a:off x="96840" y="847800"/>
            <a:ext cx="8656560" cy="560844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6" descr=""/>
          <p:cNvPicPr/>
          <p:nvPr/>
        </p:nvPicPr>
        <p:blipFill>
          <a:blip r:embed="rId2"/>
          <a:stretch/>
        </p:blipFill>
        <p:spPr>
          <a:xfrm>
            <a:off x="468360" y="2444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94" name="Схема 2" descr=""/>
          <p:cNvPicPr/>
          <p:nvPr/>
        </p:nvPicPr>
        <p:blipFill>
          <a:blip r:embed="rId1"/>
          <a:stretch/>
        </p:blipFill>
        <p:spPr>
          <a:xfrm>
            <a:off x="42840" y="1925640"/>
            <a:ext cx="9217080" cy="484668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1" descr=""/>
          <p:cNvPicPr/>
          <p:nvPr/>
        </p:nvPicPr>
        <p:blipFill>
          <a:blip r:embed="rId2"/>
          <a:stretch/>
        </p:blipFill>
        <p:spPr>
          <a:xfrm>
            <a:off x="7596360" y="165240"/>
            <a:ext cx="122868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7" name="Прямоугольник 37"/>
          <p:cNvSpPr/>
          <p:nvPr/>
        </p:nvSpPr>
        <p:spPr>
          <a:xfrm>
            <a:off x="39528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560" y="1832040"/>
            <a:ext cx="87138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ациентов, состоящих на конец 2018 года под диспансерным наблюдение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под диспансерным наблюдением лиц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с хроническим вирусным гепатитом (В18) и циррозом печени (К74.6) одновременно«1»________чел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с хроническим вирусным гепатитом (В18) и  гепатоцеллюлярным раком (С22.0)                                                                          одновременно«2»________ч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"/>
          <p:cNvSpPr/>
          <p:nvPr/>
        </p:nvSpPr>
        <p:spPr>
          <a:xfrm>
            <a:off x="3419640" y="62064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Изменения: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927000" y="1233360"/>
            <a:ext cx="74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обавлены таблицы 1003, 2003, 3003, 4003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601" name="Рисунок 1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3" name="Прямоугольник 37"/>
          <p:cNvSpPr/>
          <p:nvPr/>
        </p:nvSpPr>
        <p:spPr>
          <a:xfrm>
            <a:off x="53964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24000" y="1268280"/>
          <a:ext cx="8640720" cy="3013200"/>
        </p:xfrm>
        <a:graphic>
          <a:graphicData uri="http://schemas.openxmlformats.org/drawingml/2006/table">
            <a:tbl>
              <a:tblPr/>
              <a:tblGrid>
                <a:gridCol w="2303280"/>
                <a:gridCol w="660600"/>
                <a:gridCol w="785520"/>
                <a:gridCol w="500040"/>
                <a:gridCol w="642960"/>
                <a:gridCol w="642960"/>
                <a:gridCol w="569880"/>
                <a:gridCol w="500040"/>
                <a:gridCol w="714600"/>
                <a:gridCol w="571320"/>
                <a:gridCol w="749520"/>
              </a:tblGrid>
              <a:tr h="18252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 при  диспан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ных групп взрослого населения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7221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</a:rPr>
              <a:t>В таблицы 1000, 2000, 3000, 4000 добавлена ст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17520" y="4265640"/>
          <a:ext cx="8647200" cy="2424240"/>
        </p:xfrm>
        <a:graphic>
          <a:graphicData uri="http://schemas.openxmlformats.org/drawingml/2006/table">
            <a:tbl>
              <a:tblPr/>
              <a:tblGrid>
                <a:gridCol w="2305080"/>
                <a:gridCol w="649080"/>
                <a:gridCol w="792360"/>
                <a:gridCol w="504720"/>
                <a:gridCol w="647640"/>
                <a:gridCol w="649440"/>
                <a:gridCol w="576360"/>
                <a:gridCol w="504720"/>
                <a:gridCol w="719280"/>
                <a:gridCol w="577800"/>
                <a:gridCol w="720720"/>
              </a:tblGrid>
              <a:tr h="5475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: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глаз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3, Е11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3, Е13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поче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2, Е11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2, Е13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 (из стр. 5.2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   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функция гипофиз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8" name="Прямоугольник 2"/>
          <p:cNvSpPr/>
          <p:nvPr/>
        </p:nvSpPr>
        <p:spPr>
          <a:xfrm>
            <a:off x="179280" y="765000"/>
            <a:ext cx="86407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  в году (+ и -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этом графа 4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графам 5+6 в таблице 1000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7 (2000-6, 3000-5)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ято под диспансерное наблюдение 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в течение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 графы 4 «всего» (+ и -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(2000-7,3000-6)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олевания, зарегистрированные у 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пациентов впервые в жизн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,  из графы 4;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т.1000 (2000-8, 3000-7) 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ято под диспансерное          наблю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чение года (+) , из графы 9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всем строкам таблиц 1000, 2000, 3000, 4000 из графы «Взято под диспансерное наблюдение» минус графа «Снято с диспансерного наблюдения» равно «Состоит под диспансерным наблюдением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Дюдина Светлана Юрьевна</cp:lastModifiedBy>
  <dcterms:modified xsi:type="dcterms:W3CDTF">2018-12-19T04:48:20Z</dcterms:modified>
  <cp:revision>577</cp:revision>
  <dc:subject/>
  <dc:title>슬라이드 1</dc:title>
</cp:coreProperties>
</file>