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  <p:sldId id="314" r:id="rId78"/>
    <p:sldId id="315" r:id="rId79"/>
    <p:sldId id="316" r:id="rId80"/>
    <p:sldId id="317" r:id="rId81"/>
    <p:sldId id="318" r:id="rId82"/>
    <p:sldId id="319" r:id="rId83"/>
    <p:sldId id="320" r:id="rId84"/>
    <p:sldId id="321" r:id="rId85"/>
    <p:sldId id="322" r:id="rId86"/>
    <p:sldId id="323" r:id="rId87"/>
    <p:sldId id="324" r:id="rId88"/>
    <p:sldId id="325" r:id="rId89"/>
    <p:sldId id="326" r:id="rId90"/>
    <p:sldId id="327" r:id="rId9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slide" Target="slides/slide59.xml"/><Relationship Id="rId79" Type="http://schemas.openxmlformats.org/officeDocument/2006/relationships/slide" Target="slides/slide60.xml"/><Relationship Id="rId80" Type="http://schemas.openxmlformats.org/officeDocument/2006/relationships/slide" Target="slides/slide61.xml"/><Relationship Id="rId81" Type="http://schemas.openxmlformats.org/officeDocument/2006/relationships/slide" Target="slides/slide62.xml"/><Relationship Id="rId82" Type="http://schemas.openxmlformats.org/officeDocument/2006/relationships/slide" Target="slides/slide63.xml"/><Relationship Id="rId83" Type="http://schemas.openxmlformats.org/officeDocument/2006/relationships/slide" Target="slides/slide64.xml"/><Relationship Id="rId84" Type="http://schemas.openxmlformats.org/officeDocument/2006/relationships/slide" Target="slides/slide65.xml"/><Relationship Id="rId85" Type="http://schemas.openxmlformats.org/officeDocument/2006/relationships/slide" Target="slides/slide66.xml"/><Relationship Id="rId86" Type="http://schemas.openxmlformats.org/officeDocument/2006/relationships/slide" Target="slides/slide67.xml"/><Relationship Id="rId87" Type="http://schemas.openxmlformats.org/officeDocument/2006/relationships/slide" Target="slides/slide68.xml"/><Relationship Id="rId88" Type="http://schemas.openxmlformats.org/officeDocument/2006/relationships/slide" Target="slides/slide69.xml"/><Relationship Id="rId89" Type="http://schemas.openxmlformats.org/officeDocument/2006/relationships/slide" Target="slides/slide70.xml"/><Relationship Id="rId90" Type="http://schemas.openxmlformats.org/officeDocument/2006/relationships/slide" Target="slides/slide71.xml"/><Relationship Id="rId91" Type="http://schemas.openxmlformats.org/officeDocument/2006/relationships/slide" Target="slides/slide72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F673-5F35-4593-9B4F-A2C4059B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F083-B91B-484A-8AF9-D4BB4DCA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C3906-105D-42F7-905F-CE6E97D9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E5A74-9F1B-4E9F-A486-918B7624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88A29-A771-4011-A97E-CE1DA617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6B055-E29C-429F-9399-5626EC1B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C98AD-7762-42F3-99EE-8D031F10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47051-8B03-40F3-A638-DFE667C8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0A56D-1AF6-43C2-8CE4-4F93D43A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995D3-7BEB-4343-8E0B-08FA0197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C81B8-1719-47BD-8472-55EE6D1C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526BA-C9DF-4BD0-90CF-7F4A9988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54D1-9C3E-417E-B292-8772C879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BEB85-6AB8-436A-8940-82B3A7A5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8F0E0-5B92-4492-AF84-77A2A16FF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2C029-955B-4616-ADEE-D5106CE9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ECE55-EB9A-4FAA-A186-9CE63401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60F7D-3270-4DDF-8386-634AE67B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F95F0-7350-49FF-BD8F-3C0DB080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197A0-37D6-432F-8F2A-5A52B5E8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21936-14F0-40AF-90FA-FC1BB903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544F5-8675-43E9-A8C5-EA2D6BE6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83AF7-2922-4CF1-A4B7-D23B0994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BCE4-0B45-426F-A48C-A026999D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D664F-68B6-4ACF-8266-1220ED6C8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457D5-9200-4290-8E30-9801AE54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C9192-59D1-441C-A891-8B51D888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9042C-FE73-465A-A8A4-196D4687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F5360-313A-4EBC-9E9C-32E093E2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0A0BA-7A2F-4C7F-9475-2712CDFA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A83B0-36F5-4F18-899B-BF9A62E9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77C92-DAF0-4213-8E13-F42236C9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5FA3E-73CE-4665-AAD1-A3E02E81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46CCE-B491-4575-8FFD-D70D2603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C2D7-F5B4-4AAA-8019-E5EF964E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3E29F-7DA2-4796-B5BB-248AC63E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DC23D-9E50-4015-BA72-733999C96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6C5EB-3A63-4691-81A5-1246D62F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F9F97-6E36-46B1-BB1A-C22F52532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0982A-1FAF-471E-894E-760915EB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06385-26D0-44C1-98E0-CD842FB7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B2657-D8CD-4E79-A61C-09DB23FC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0B000-B7C9-4CF6-B56A-E6FF631F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AB089-6156-47F8-8B90-19F78114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7E509-940B-44EB-A75E-FC47E21D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8794-C8ED-4317-9B9B-B42F233C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4758A-9C4F-4790-A7D2-B794AB0A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B1EC4-199B-4423-91AC-CA690414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766FC-9869-488D-B786-7906C18E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FC63D-B823-426F-B04E-86C6BEED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5D3B5-2DA5-463B-82FB-2DDAEB2F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13214E-5145-44D2-9E31-CACCC267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7337E8-84FC-4622-885D-B00727F8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C9D18-575A-476B-B2F9-C8085441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B2AD40-8776-40A1-ADCC-57C06085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48D93D-2F85-45A2-9603-A2C61A1D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6569-0C5D-4CD0-BA84-FEA11631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A94CB9-56FD-4C72-88DA-ACCD94D0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7FB77B-4004-4EF7-A527-03CB1D76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1E6FA9-4D44-4740-8DC1-5FA20024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6C4B53-0911-4B6C-B19D-93C4724D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40C48B-5F3B-41A8-BD96-1A7E5FF3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72D32B-EAC7-4407-BC3B-6702E52D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1611A9-3C4A-4C46-95F6-7BD523A22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ADC801-AD15-4FD1-BA72-11EF55C4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27DE62-3BCC-4AC5-9411-9E12DC0F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B478F7-2C3F-4896-8947-A8C5B37A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DD46-D85A-4D42-A3CA-95042D52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0DB24F-C318-4C46-9AF5-B8358D1F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C41B92-2B3F-4896-B471-46A711AB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AF6DED-70FE-4448-A6EB-9777C676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AB8011-2DC0-42CE-8CE6-C395D7D0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AA47A9-D5D1-4DA6-B89A-78B96737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71E7A9-D7E1-42E2-AB22-44602994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B29C03-3FB8-430F-B2EC-A60ADC82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528CBF-1246-4374-ADAD-ADE930CC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24F33B-B204-49CB-976A-4734E4A3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7B1E44-BFC3-42C2-9B02-586B7B26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27BA-0B57-4B5D-9123-01DB4EE9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F8A0CC-A228-44A7-BB73-84600DAC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D2F4B7-CD2F-4802-BECF-604977E8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266D78-EC88-4FBB-B032-44EC23C9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D26E0D-3C7A-453F-A17C-3FABAA33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EAEBFE-558A-47D5-AC6B-D20C1E06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D7E14B-3AE4-472A-BA88-081B8526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6F0AAB-71BB-4707-B7B0-F69DC591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64885D-D56D-4C95-BCFE-A0482742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2508F2-DCF4-4749-BFCF-D25ED58C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D440D9-3077-4797-9E4F-4EE2EA34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434D-484D-4CFC-AB29-F20AC50F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B580A5-BAFF-4745-9D42-E28E033D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9A51E7-EBD6-4DE7-814B-419C16E1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EC0699-BDE7-49F1-8EFB-F6E41A01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3D62A5-2F18-4C94-969C-7E1257C6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720971-8251-4547-9859-A66E9C82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E6CE6C-B519-4F35-A0DE-14FB2EAD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CDDE3C-A70B-4FCD-AB1D-C92EE0A5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CEAC72-E566-401B-8781-D395B587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BDA38D-4615-4BE3-89E0-614355A8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959E67-7072-4A31-831F-A77A049E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8AD6-8204-4724-96C4-D4977634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FDE00F-3B6B-4263-8C58-606DA2A4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31B293-D623-4CFD-B5B2-ECED2A85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C21EC0-6F19-478B-ACFE-7340BFA9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CDB8E4-A9B4-47E7-9D23-1ED8166C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468A0C-3058-4DD3-A0DA-36DEA86A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F88F9F-D26B-4546-9896-879206AA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24FC7E-A7EF-41AE-8235-3F9E5D87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EE30F6-293C-41DD-935C-90776971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532732-2C4C-460A-8A11-F1BAB4E8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F3DB9E-1DCB-4922-886A-9CEAA609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DE28-84BD-4788-91AA-58474D7E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614C-0962-4C91-8A5C-E5082138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AF8432-7CE7-4ADB-82C2-8796E55B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2BEFF1-0E34-48AE-BDA1-90209D29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7A8777-ACCC-4095-A18B-EC33C3AC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620D4F-FFB3-4D2D-A51A-5884E009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019F11-A696-4DB5-9E1F-C82FDD6B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9E83FF-B1E9-4CA5-BE04-EBDE4227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A680FC-82FA-45E1-9C9D-F83D55EF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E0DA47-D56F-4D1D-8E1D-9ABE28AE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E0D9C1-EE1B-43E9-A43D-91297905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6C3757-F4BB-44DC-B2D4-339986CA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5733-48BE-4102-B8C8-C256BDA9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41075A-B77A-43C8-9445-BE735052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704A55-515A-4B67-9A20-32511A82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C92283-BF10-4D7A-BBF7-09F72191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B14F41-73B0-4ACA-93B9-1517B97C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47F8EA-BCCB-488C-BC8A-57B691F5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DC3700-4DF1-4611-B83E-C723E5C1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4B02AC-733F-4DE5-BFF5-E21D8D64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440C-E4EE-450F-A03D-FB8BE168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225B-B368-4D2D-A18E-E9343AAC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765E-AFEC-4961-B4DD-659B3DD2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60C80-1F26-49A5-86F5-0E94A261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C584C-24DC-4057-B7C5-A4319B64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1177F-7E58-4E5D-833A-D2F20F85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DDA7B-425D-4EAA-ACED-99908594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7AF0B-0C15-47B9-BA11-C9543CA1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5CBB-D6E0-4171-B88E-722A4901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0C1C0-BB1B-4A7D-9176-B7340E62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0AB68-E1BE-4AEC-932D-65427EF7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42C8A-7EB4-4DAB-88E6-196799F4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68011-ED9C-4EF1-9BB0-FBE96A63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D7562-EE89-4869-9CBB-612C3D20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25662-1587-49EB-9779-DD9F2277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B6225-3CBB-4666-B311-8FE83A84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45E61-1C00-4FB7-88ED-EF647AB4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1E350-3A8C-4E6F-B8A3-09757941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C8A0C-446B-4554-B7B3-58D5757E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E922-42D5-4C42-99FB-78E8B0AC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3F2B6-35B0-43DB-8B3A-CF00297F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5A91D-9FE9-4897-8501-0595DA73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6C9E5-D2C0-45FB-8E72-21DD0443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2A837-FA1A-4B39-867A-80AC8328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D00D1-25B7-4CAD-B60A-049D0E7C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05931-C786-4B3B-AB26-5381DAD7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88943-D843-4AA5-B21D-137C5AB9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BF3D9-3C48-4657-A630-AEB2108E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EB236-DCF8-4B67-9DA7-6577B0599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9F19A-4700-43B2-8264-B39B5A3D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98A2-A9D2-4721-8634-04041819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0C298-44AF-4605-B9C2-872D381E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018D1-EB51-461E-BC98-12926A8F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C881B-6BBA-4374-BA11-DEB80298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4CD37-17E4-4E01-B0A0-35717633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77581-5794-4A1F-B169-ECA370D5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B0D31-07E2-4760-9E98-4A292C21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2276E-921C-458C-AD90-E87642D2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5A673-8EC7-4062-AB42-E46787F4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B885C-A5C7-4E7E-A88E-E3527BB1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14291-F4B8-4C81-81A6-7215EC83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C050-7F84-4C90-98A6-04BABAB7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0FA34-89D0-4200-A93D-F768F598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CE95A-2B92-475C-B156-EA1A3C20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B4A1D-57C0-4CE4-9CE1-7F18A35A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C1C7A-0351-44C4-889E-ADE37B87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06469-F2CD-4E2C-90ED-918D5FD3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6A089-70F3-44B0-ADEB-2616CB41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30166-BBCB-4034-B917-44229CE3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AA586-19CB-43CD-A6D2-E7BDE061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97023-2F47-4ABE-ADBE-317A125E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7C8C3-3B8C-4E4E-927A-B3373B19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0C5C-DE17-42ED-B8BA-75CA846D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D3A98-0BB6-4F5F-80AB-BCCF43DF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1EE65-81A5-4333-8235-1D384656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30C0F-F772-4943-9E42-0F74AAEC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242AB-FBC7-44DC-ABF8-79059BED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5204A-B71C-4798-AFCC-49B001F6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9A6E4-B2F9-4D35-BBF0-799B8170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2A0B8-AAD6-4E38-A9EB-BC2F026E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FB3D6-A7B5-4F61-A6FD-924EAE04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DAC4F-8EFE-44A3-9931-FCC3DF8B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15081-D051-47D3-A729-4C7D3FC5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DEB9-95FB-4CA9-86F7-90483A46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50C2E-4C0E-4957-BA24-B048707D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B467F-5EAC-4655-8EF9-58F36029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07DFF-AB18-4F26-AD2F-2FCD4787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A68E4-C74C-49A7-8AB4-93904615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FD525-A017-4498-9DD1-36FC759D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0DC20-B683-48D4-9C57-8A7C1F64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07B1A-191C-4160-8279-BBFC4CF2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870EE-CB61-4B62-9E67-87325275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1A7C4-B448-4B6B-9C7B-B08D5E37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4AA50-5956-46DC-A23F-230D1D1A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3F8A-9AA3-4252-8B05-0B5F9304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516B2-59F4-42B9-9815-088F32B6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FA744-BCB7-4376-B5EB-F7747A13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1F7FA-9F1F-42EA-9032-2F19C09B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3E6AD-9B63-4F78-A7C8-2E0B4C3A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2A652-A06E-4F97-9548-F3EAE868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CC50D-D169-4883-880C-FA481D9C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C3612-E95C-4333-BF9E-86BB972AB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A239B-991B-4852-8048-052AAA88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2B7E8-C7FD-4F2C-AEF9-041D40CE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BA388-B9A3-4F10-80B0-DF11BC61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88CD-7A73-4F8C-BA49-519681D701D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F2FA-2B1F-4262-ABA2-A70312F9AC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4575-770F-4098-8CA3-AFE37EA624C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16C3-818C-4D46-9197-FBAF176567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6B81-E065-4301-8603-E26CEEDD24D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6D4A-F37C-4235-84B1-3CC706CFB3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2D20-C4C9-4B41-8D6A-83CC2F4C18F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FA1A-32AA-41FE-8D45-06AE3E8E62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2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-윤고딕140"/>
              </a:rPr>
              <a:t>“</a:t>
            </a:r>
            <a:endParaRPr b="1" lang="en-US" sz="8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-윤고딕140"/>
              </a:rPr>
              <a:t>”</a:t>
            </a:r>
            <a:endParaRPr b="1" lang="en-US" sz="8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4065-FC91-43C5-816F-84AAA554386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113F-5574-4A6F-ABD9-009173B445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5062-05CF-4221-92BF-6444CF8604C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2B71-82D0-4954-827B-6F435D2BBD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03C5-DD03-482C-9B8C-51609A354F9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8022-8B83-4735-ABB9-E2C467F8FE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2B33-0D77-4890-8E80-9EB8CEBB0E4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0E30-8BC9-42CE-842F-6801169108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B94B-3572-44C5-8423-D900063492F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1EF4-0738-4737-A2E4-9A0A6C8EA1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9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72CC-C0F2-4132-B20D-6D8DEC3EE79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6ED7-2457-4E36-8B21-46E185ED6E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82B6-98F6-4777-8E67-DF1674D5936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A99C-D1F6-4B51-9F64-B231D56BA4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441C-63E2-4F56-932D-3BD02009D2B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2867-4F82-41F3-827A-45ECD678AF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0F17-65B9-4738-9247-ABD6028FAEF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AE20-DF98-4AEC-8366-8E9C2C4E44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38C8-AF25-4621-BAD0-6D38673797C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6B8F-D6FB-4CEB-BFC7-A102F7E975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D88C-C4BE-497B-8F46-AAA558AABAE9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543B-0542-4843-BC6A-12A0E9A368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DBEA-3081-47C2-867E-0F076898129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8F20-EE1F-40AF-86A3-2E1849ED78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7E17-4AB4-436B-B680-D84EC8EE541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1CC7-06FF-44D6-904E-B9F1C1CCBE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9A23-5F50-483D-830B-436482EADCF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E32D-A12B-483D-AE78-F4A81E4E57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 Box 2"/>
          <p:cNvSpPr/>
          <p:nvPr/>
        </p:nvSpPr>
        <p:spPr>
          <a:xfrm>
            <a:off x="855720" y="260280"/>
            <a:ext cx="4363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76" name="Прямоугольник 20"/>
          <p:cNvSpPr/>
          <p:nvPr/>
        </p:nvSpPr>
        <p:spPr>
          <a:xfrm>
            <a:off x="324000" y="765000"/>
            <a:ext cx="871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ВЕДЕНИЯ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О ЧИСЛЕ ЗАБОЛЕВАНИЙ,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ЗАРЕГИСТРИРОВАННЫХ У   ПАЦИЕНТОВ,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РОЖИВАЮЩИХ В РАЙОНЕ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ОБСЛУЖИВАНИЯ МЕДИЦИНСКОЙ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ОРГАНИЗАЦИИ 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за 2019 год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77" name="Овал 2"/>
          <p:cNvSpPr/>
          <p:nvPr/>
        </p:nvSpPr>
        <p:spPr>
          <a:xfrm>
            <a:off x="3348000" y="5013360"/>
            <a:ext cx="2354400" cy="1633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78" name="Овал 3"/>
          <p:cNvSpPr/>
          <p:nvPr/>
        </p:nvSpPr>
        <p:spPr>
          <a:xfrm>
            <a:off x="1968480" y="5332320"/>
            <a:ext cx="5113440" cy="994320"/>
          </a:xfrm>
          <a:prstGeom prst="ellipse">
            <a:avLst/>
          </a:prstGeom>
          <a:solidFill>
            <a:srgbClr val="f0d7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ФСН №12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fa3ee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565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ЗМЕНЕНИЯ В ФОРМЕ 12 </a:t>
            </a:r>
            <a:br>
              <a:rPr sz="5400"/>
            </a:b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 2019 ГОД  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Rectangle 33"/>
          <p:cNvSpPr/>
          <p:nvPr/>
        </p:nvSpPr>
        <p:spPr>
          <a:xfrm>
            <a:off x="900000" y="317520"/>
            <a:ext cx="38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w Cen MT"/>
              </a:rPr>
              <a:t>                          </a:t>
            </a:r>
            <a:r>
              <a:rPr b="1" lang="ru-RU" sz="1600" spc="-1" strike="noStrike">
                <a:solidFill>
                  <a:srgbClr val="0000ff"/>
                </a:solidFill>
                <a:latin typeface="Tw Cen MT"/>
              </a:rPr>
              <a:t>1. ДЕТИ (0-14 ЛЕТ ВКЛЮЧИТЕЛЬНО)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Tw Cen MT"/>
              </a:rPr>
              <a:t>(1000)  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17" name="Таблица 1" descr=""/>
          <p:cNvPicPr/>
          <p:nvPr/>
        </p:nvPicPr>
        <p:blipFill>
          <a:blip r:embed="rId1"/>
          <a:stretch/>
        </p:blipFill>
        <p:spPr>
          <a:xfrm>
            <a:off x="622440" y="2603520"/>
            <a:ext cx="7905600" cy="2870280"/>
          </a:xfrm>
          <a:prstGeom prst="rect">
            <a:avLst/>
          </a:prstGeom>
          <a:ln w="0">
            <a:noFill/>
          </a:ln>
        </p:spPr>
      </p:pic>
      <p:sp>
        <p:nvSpPr>
          <p:cNvPr id="818" name="Rectangle 33"/>
          <p:cNvSpPr/>
          <p:nvPr/>
        </p:nvSpPr>
        <p:spPr>
          <a:xfrm>
            <a:off x="900000" y="317520"/>
            <a:ext cx="3541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Прямоугольник 21"/>
          <p:cNvSpPr/>
          <p:nvPr/>
        </p:nvSpPr>
        <p:spPr>
          <a:xfrm>
            <a:off x="755640" y="62064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8cb8"/>
                </a:solidFill>
                <a:latin typeface="-윤고딕140"/>
                <a:ea typeface="-윤고딕140"/>
              </a:rPr>
              <a:t>                   </a:t>
            </a:r>
            <a:r>
              <a:rPr b="1" lang="ru-RU" sz="1800" spc="-1" strike="noStrike">
                <a:solidFill>
                  <a:srgbClr val="0000ff"/>
                </a:solidFill>
                <a:latin typeface="-윤고딕140"/>
                <a:ea typeface="-윤고딕140"/>
              </a:rPr>
              <a:t>2. Дети первых трех лет жизни                     (1500)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820" name="Таблица 1" descr=""/>
          <p:cNvPicPr/>
          <p:nvPr/>
        </p:nvPicPr>
        <p:blipFill>
          <a:blip r:embed="rId1"/>
          <a:stretch/>
        </p:blipFill>
        <p:spPr>
          <a:xfrm>
            <a:off x="743040" y="1006560"/>
            <a:ext cx="7589880" cy="5906880"/>
          </a:xfrm>
          <a:prstGeom prst="rect">
            <a:avLst/>
          </a:prstGeom>
          <a:ln w="0">
            <a:noFill/>
          </a:ln>
        </p:spPr>
      </p:pic>
      <p:sp>
        <p:nvSpPr>
          <p:cNvPr id="821" name="Rectangle 33"/>
          <p:cNvSpPr/>
          <p:nvPr/>
        </p:nvSpPr>
        <p:spPr>
          <a:xfrm>
            <a:off x="900000" y="317520"/>
            <a:ext cx="43196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Tw Cen MT"/>
                <a:ea typeface="-윤고딕140"/>
              </a:rPr>
              <a:t>2. ДЕТИ ПЕРВЫХ ТРЕХ ЛЕТ ЖИЗНИ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w Cen MT"/>
                <a:ea typeface="-윤고딕140"/>
              </a:rPr>
              <a:t>ТАБЛИЦА 1600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w Cen MT"/>
                <a:ea typeface="-윤고딕140"/>
              </a:rPr>
              <a:t>ДЕТИ ПЕРВОГО ГОДА ЖИЗНИ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w Cen MT"/>
                <a:ea typeface="-윤고딕140"/>
              </a:rPr>
              <a:t>ФАКТОРЫ, ВЛИЯЮЩИЕ НА СОСТОЯНИЕ ЗДОРОВЬЯ НАСЕЛЕНИЯ 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w Cen MT"/>
                <a:ea typeface="-윤고딕140"/>
              </a:rPr>
              <a:t>И ОБРАЩЕНИЯ В МЕДИЦИНСКИЕ ОРГАНИЗАЦИИ </a:t>
            </a:r>
            <a:br>
              <a:rPr sz="2400"/>
            </a:br>
            <a:r>
              <a:rPr b="1" lang="ru-RU" sz="2400" spc="-1" strike="noStrike">
                <a:solidFill>
                  <a:srgbClr val="606060"/>
                </a:solidFill>
                <a:latin typeface="Tw Cen MT"/>
                <a:ea typeface="-윤고딕140"/>
              </a:rPr>
              <a:t>(С ПРОФИЛАКТИЧЕСКОЙ И ИНОЙ ЦЕЛЬЮ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w Cen MT"/>
                <a:ea typeface="-윤고딕140"/>
              </a:rPr>
              <a:t>ТАБЛИЦА ЗАПОЛНЯЕТСЯ ПО ОБРАЩЕНИЯМ ДЕТЕЙ ПЕРВОГО ГОДА ЖИЗНИ (РОДИВШИЕСЯ В 2018 ГОДУ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4" name="Rectangle 33"/>
          <p:cNvSpPr/>
          <p:nvPr/>
        </p:nvSpPr>
        <p:spPr>
          <a:xfrm>
            <a:off x="900000" y="317520"/>
            <a:ext cx="3541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Прямоугольник 21"/>
          <p:cNvSpPr/>
          <p:nvPr/>
        </p:nvSpPr>
        <p:spPr>
          <a:xfrm>
            <a:off x="1332000" y="620640"/>
            <a:ext cx="67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826" name="Прямоугольник 2" descr=""/>
          <p:cNvPicPr/>
          <p:nvPr/>
        </p:nvPicPr>
        <p:blipFill>
          <a:blip r:embed="rId1"/>
          <a:stretch/>
        </p:blipFill>
        <p:spPr>
          <a:xfrm>
            <a:off x="487440" y="1712880"/>
            <a:ext cx="8248680" cy="283536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33"/>
          <p:cNvSpPr/>
          <p:nvPr/>
        </p:nvSpPr>
        <p:spPr>
          <a:xfrm>
            <a:off x="900000" y="317520"/>
            <a:ext cx="35416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46280" y="781200"/>
            <a:ext cx="8146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w Cen MT"/>
              </a:rPr>
              <a:t>                           </a:t>
            </a:r>
            <a:r>
              <a:rPr b="1" lang="ru-RU" sz="1800" spc="-1" strike="noStrike">
                <a:solidFill>
                  <a:srgbClr val="0000ff"/>
                </a:solidFill>
                <a:latin typeface="Tw Cen MT"/>
              </a:rPr>
              <a:t>3. ДЕТИ  (15-17 ЛЕТ ВКЛЮЧИТЕЛЬН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Tw Cen MT"/>
              </a:rPr>
              <a:t>(2000)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30" name="Таблица 4" descr=""/>
          <p:cNvPicPr/>
          <p:nvPr/>
        </p:nvPicPr>
        <p:blipFill>
          <a:blip r:embed="rId1"/>
          <a:stretch/>
        </p:blipFill>
        <p:spPr>
          <a:xfrm>
            <a:off x="530280" y="1749600"/>
            <a:ext cx="80341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42520" y="950400"/>
            <a:ext cx="814716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w Cen MT"/>
              </a:rPr>
              <a:t>                                 </a:t>
            </a:r>
            <a:r>
              <a:rPr b="1" lang="ru-RU" sz="1600" spc="-1" strike="noStrike">
                <a:solidFill>
                  <a:srgbClr val="0000ff"/>
                </a:solidFill>
                <a:latin typeface="Tw Cen MT"/>
              </a:rPr>
              <a:t>4. ВЗРОСЛЫЕ 18 ЛЕТ И БОЛЕЕ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Tw Cen MT"/>
              </a:rPr>
              <a:t>(3000)  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33" name="Таблица 1" descr=""/>
          <p:cNvPicPr/>
          <p:nvPr/>
        </p:nvPicPr>
        <p:blipFill>
          <a:blip r:embed="rId1"/>
          <a:stretch/>
        </p:blipFill>
        <p:spPr>
          <a:xfrm>
            <a:off x="487440" y="2109960"/>
            <a:ext cx="7913520" cy="3863880"/>
          </a:xfrm>
          <a:prstGeom prst="rect">
            <a:avLst/>
          </a:prstGeom>
          <a:ln w="0">
            <a:noFill/>
          </a:ln>
        </p:spPr>
      </p:pic>
      <p:sp>
        <p:nvSpPr>
          <p:cNvPr id="834" name="Rectangle 33"/>
          <p:cNvSpPr/>
          <p:nvPr/>
        </p:nvSpPr>
        <p:spPr>
          <a:xfrm>
            <a:off x="900000" y="317520"/>
            <a:ext cx="3541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147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8cb8"/>
                </a:solidFill>
                <a:latin typeface="Tw Cen MT"/>
              </a:rPr>
              <a:t>                 </a:t>
            </a:r>
            <a:r>
              <a:rPr b="1" lang="ru-RU" sz="1600" spc="-1" strike="noStrike">
                <a:solidFill>
                  <a:srgbClr val="0000ff"/>
                </a:solidFill>
                <a:latin typeface="Tw Cen MT"/>
              </a:rPr>
              <a:t>5.</a:t>
            </a:r>
            <a:r>
              <a:rPr b="1" lang="ru-RU" sz="1600" spc="-1" strike="noStrike">
                <a:solidFill>
                  <a:srgbClr val="698cb8"/>
                </a:solidFill>
                <a:latin typeface="Tw Cen MT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w Cen MT"/>
              </a:rPr>
              <a:t>ВЗРОСЛЫЕ СТАРШЕ ТРУДОСПОСОБНОГО ВОЗРАСТА 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Tw Cen MT"/>
              </a:rPr>
              <a:t>                     (С 55 ЛЕТ У ЖЕНЩИН И С 60 ЛЕТ У МУЖЧИН)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Tw Cen MT"/>
              </a:rPr>
              <a:t>(4000)  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837" name="Таблица 1" descr=""/>
          <p:cNvPicPr/>
          <p:nvPr/>
        </p:nvPicPr>
        <p:blipFill>
          <a:blip r:embed="rId1"/>
          <a:stretch/>
        </p:blipFill>
        <p:spPr>
          <a:xfrm>
            <a:off x="622440" y="2749680"/>
            <a:ext cx="7905600" cy="365760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33"/>
          <p:cNvSpPr/>
          <p:nvPr/>
        </p:nvSpPr>
        <p:spPr>
          <a:xfrm>
            <a:off x="900000" y="317520"/>
            <a:ext cx="395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Прямоугольник 37"/>
          <p:cNvSpPr/>
          <p:nvPr/>
        </p:nvSpPr>
        <p:spPr>
          <a:xfrm>
            <a:off x="539640" y="836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4000" y="2276280"/>
            <a:ext cx="80643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ПОЛНЕНИЕ ФОРМЫ 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1" name="Rectangle 33"/>
          <p:cNvSpPr/>
          <p:nvPr/>
        </p:nvSpPr>
        <p:spPr>
          <a:xfrm>
            <a:off x="900000" y="317520"/>
            <a:ext cx="388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Прямоугольник 2"/>
          <p:cNvSpPr/>
          <p:nvPr/>
        </p:nvSpPr>
        <p:spPr>
          <a:xfrm>
            <a:off x="250920" y="242100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-윤고딕140"/>
              </a:rPr>
              <a:t>Графа 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-윤고딕140"/>
              </a:rPr>
              <a:t>9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-윤고딕140"/>
              </a:rPr>
              <a:t> (в т. 3000- гр.10)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-윤고딕140"/>
              </a:rPr>
              <a:t>трактовка не изменена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43" name="Rectangle 33"/>
          <p:cNvSpPr/>
          <p:nvPr/>
        </p:nvSpPr>
        <p:spPr>
          <a:xfrm>
            <a:off x="900000" y="317520"/>
            <a:ext cx="3743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3"/>
          <p:cNvSpPr/>
          <p:nvPr/>
        </p:nvSpPr>
        <p:spPr>
          <a:xfrm>
            <a:off x="873000" y="260280"/>
            <a:ext cx="4635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780" name="Рисунок 4" descr=""/>
          <p:cNvPicPr/>
          <p:nvPr/>
        </p:nvPicPr>
        <p:blipFill>
          <a:blip r:embed="rId1"/>
          <a:stretch/>
        </p:blipFill>
        <p:spPr>
          <a:xfrm>
            <a:off x="6443640" y="18900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781" name="Прямоугольник 1"/>
          <p:cNvSpPr/>
          <p:nvPr/>
        </p:nvSpPr>
        <p:spPr>
          <a:xfrm>
            <a:off x="250920" y="2133720"/>
            <a:ext cx="8583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федерального статистического наблюдения  № 12 «Сведения о числе заболеваний, зарегистрированных  у  пациентов, проживающих в районе обслуживания  медицинской организации»,  составляется  всеми  медицинскими организациями, входящие в номенклатуру медицинских организаций, оказывающие  медицинскую  помощь  в  амбулаторных  условиях (приказ Минздрава  России  от 6  августа  2013 г.  № 529н «Об утверждении номенклатуры медицинских организаций», зарегистрирован Министерством юстиции Российской Федерации 13.09.2013 № 29950,в соответствии с приказом от 21 июля 2016 года № 355 «Об утверждении статистического  инструментария  для  организации  Министерством здравоохранения Российской Федерации федерального  статистического  наблюдения  в  сфере  охраны здоровья» Федеральной службы государственной статистики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Прямоугольник 1"/>
          <p:cNvSpPr/>
          <p:nvPr/>
        </p:nvSpPr>
        <p:spPr>
          <a:xfrm>
            <a:off x="611280" y="981000"/>
            <a:ext cx="806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Таблица 1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(Графа 12 за 2016 г) – (переходные дети в подростки) + (впервые взятые на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Д-учет в текущем году) + (вновь прибывшие) + (ранее стоящие на Д-учете «оторвавшиеся» и кому диагноз был ранее установлен, но на Д-учете не состоял) = графа 7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Таблица 2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(Графа 13 за 2016 г) – (переходные подростки во взрослые) + (впервые взятые на Д-учет в текущем году) + (вновь прибывшие) + (ранее стоящие на Д-учете «оторвавшиеся» и кому диагноз был ранее установлен, но на Д-учете не состоял) + (переходные из детей, таблицы 1000) = графа 6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Таблица 3000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(Графа 11 за 2016 г) + (впервые взятые на Д-учет в текущем году) + (вновь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6060"/>
                </a:solidFill>
                <a:latin typeface="Times New Roman"/>
                <a:ea typeface="굴림"/>
              </a:rPr>
              <a:t>прибывшие) + (ранее стоящие на Д-учете «оторвавшиеся» и кому диагноз был ранее установлен, но на Д-учете не состоял) + (переходные из подростков, таблицы 2000) = графа 5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45" name="Rectangle 33"/>
          <p:cNvSpPr/>
          <p:nvPr/>
        </p:nvSpPr>
        <p:spPr>
          <a:xfrm>
            <a:off x="900000" y="317520"/>
            <a:ext cx="4032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Прямоугольник 2"/>
          <p:cNvSpPr/>
          <p:nvPr/>
        </p:nvSpPr>
        <p:spPr>
          <a:xfrm>
            <a:off x="468360" y="285264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Графа 11 - трактовка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47" name="Rectangle 33"/>
          <p:cNvSpPr/>
          <p:nvPr/>
        </p:nvSpPr>
        <p:spPr>
          <a:xfrm>
            <a:off x="900000" y="317520"/>
            <a:ext cx="3888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Прямоугольник 2"/>
          <p:cNvSpPr/>
          <p:nvPr/>
        </p:nvSpPr>
        <p:spPr>
          <a:xfrm>
            <a:off x="468360" y="162864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Графа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11(т.1000), гр.12(т.2000),гр.10 (т.3000)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–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нято с диспансерного наблюдения (по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всем причинам: выздоровление, смерть, переезд на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другое место жительства и др.)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ереход в другую возрастную группу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не входит в графу «снято с диспансерного наблюдения»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49" name="Rectangle 33"/>
          <p:cNvSpPr/>
          <p:nvPr/>
        </p:nvSpPr>
        <p:spPr>
          <a:xfrm>
            <a:off x="900000" y="317520"/>
            <a:ext cx="35416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Прямоугольник 2"/>
          <p:cNvSpPr/>
          <p:nvPr/>
        </p:nvSpPr>
        <p:spPr>
          <a:xfrm>
            <a:off x="250920" y="206064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оответственно графа «»взято под диспансерное наблюдение» и графа «Снято с диспансерного наблюдения» не создают  движение диспансерной группы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о всем строкам таблиц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1000 (гр.7), 2000 (гр.6), 3000 (гр.5), 4000 (гр.5)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- минус графа «снято» равно графе «состоит на конец года»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-윤고딕140"/>
              </a:rPr>
              <a:t>в том числе и строкам раздела 6.0!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51" name="Rectangle 33"/>
          <p:cNvSpPr/>
          <p:nvPr/>
        </p:nvSpPr>
        <p:spPr>
          <a:xfrm>
            <a:off x="900000" y="317520"/>
            <a:ext cx="35416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Прямоугольник 2"/>
          <p:cNvSpPr/>
          <p:nvPr/>
        </p:nvSpPr>
        <p:spPr>
          <a:xfrm>
            <a:off x="250920" y="2060640"/>
            <a:ext cx="871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Таблица 15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Данная таблица не сравнивается с  другими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таблицами  формы 12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и другими формами годового отчет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53" name="Rectangle 33"/>
          <p:cNvSpPr/>
          <p:nvPr/>
        </p:nvSpPr>
        <p:spPr>
          <a:xfrm>
            <a:off x="900000" y="317520"/>
            <a:ext cx="35416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Прямоугольник 2"/>
          <p:cNvSpPr/>
          <p:nvPr/>
        </p:nvSpPr>
        <p:spPr>
          <a:xfrm>
            <a:off x="4406760" y="198360"/>
            <a:ext cx="42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Таблица 15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55" name="Rectangle 33"/>
          <p:cNvSpPr/>
          <p:nvPr/>
        </p:nvSpPr>
        <p:spPr>
          <a:xfrm>
            <a:off x="900000" y="317520"/>
            <a:ext cx="35416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856" name="Таблица 4" descr=""/>
          <p:cNvPicPr/>
          <p:nvPr/>
        </p:nvPicPr>
        <p:blipFill>
          <a:blip r:embed="rId1"/>
          <a:stretch/>
        </p:blipFill>
        <p:spPr>
          <a:xfrm>
            <a:off x="743040" y="1006560"/>
            <a:ext cx="758988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143000" y="333360"/>
            <a:ext cx="68580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900000" y="1412640"/>
            <a:ext cx="6858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w Cen MT"/>
              </a:rPr>
              <a:t>1001, 1002, 1003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w Cen MT"/>
              </a:rPr>
              <a:t>1601, 1650, 1700, 1800, 1900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w Cen MT"/>
              </a:rPr>
              <a:t>2001, 2003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w Cen MT"/>
              </a:rPr>
              <a:t>3002, 3003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w Cen MT"/>
              </a:rPr>
              <a:t>4001, 4003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w Cen MT"/>
              </a:rPr>
              <a:t>1100,2100,3100,4100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w Cen MT"/>
              </a:rPr>
              <a:t>ЗАПОЛНЯЮТСЯ В СООТВЕТСТВИИ С ТРЕБОВАНИЯМИ ПО ЗАПОЛНЕНИЮ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w Cen MT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w Cen MT"/>
              </a:rPr>
              <a:t>ФОРМЫ 1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9" name="Rectangle 33"/>
          <p:cNvSpPr/>
          <p:nvPr/>
        </p:nvSpPr>
        <p:spPr>
          <a:xfrm>
            <a:off x="900000" y="317520"/>
            <a:ext cx="47516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Прямоугольник 2"/>
          <p:cNvSpPr/>
          <p:nvPr/>
        </p:nvSpPr>
        <p:spPr>
          <a:xfrm>
            <a:off x="250920" y="206064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Таблица 2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61" name="Rectangle 33"/>
          <p:cNvSpPr/>
          <p:nvPr/>
        </p:nvSpPr>
        <p:spPr>
          <a:xfrm>
            <a:off x="900000" y="317520"/>
            <a:ext cx="35416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Прямоугольник 2"/>
          <p:cNvSpPr/>
          <p:nvPr/>
        </p:nvSpPr>
        <p:spPr>
          <a:xfrm>
            <a:off x="395280" y="1557360"/>
            <a:ext cx="8640720" cy="38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Контроль «девушки»: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всего» (гр.4) – «из них: юноши» (гр.5) = «всего девушки»;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с впервые в жизни ..» (гр.7) – «из заболеваний … юноши»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.11) = «девушки впервые»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Итого: «всего девушки»: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девушки впервые»  -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 должно быть отрицательных значений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63" name="Rectangle 33"/>
          <p:cNvSpPr/>
          <p:nvPr/>
        </p:nvSpPr>
        <p:spPr>
          <a:xfrm>
            <a:off x="900000" y="317520"/>
            <a:ext cx="4248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Прямоугольник 2"/>
          <p:cNvSpPr/>
          <p:nvPr/>
        </p:nvSpPr>
        <p:spPr>
          <a:xfrm>
            <a:off x="858960" y="1773360"/>
            <a:ext cx="7458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3000 и 4000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Контроль «врослых»: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начения в графоклетках таблицы 4000  не могут быть больше, чем в соответствующи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афоклетках таблицы 300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65" name="Rectangle 33"/>
          <p:cNvSpPr/>
          <p:nvPr/>
        </p:nvSpPr>
        <p:spPr>
          <a:xfrm>
            <a:off x="900000" y="317520"/>
            <a:ext cx="43196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8"/>
          <p:cNvSpPr/>
          <p:nvPr/>
        </p:nvSpPr>
        <p:spPr>
          <a:xfrm>
            <a:off x="179280" y="189000"/>
            <a:ext cx="6337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83" name="Прямоугольник 97"/>
          <p:cNvSpPr/>
          <p:nvPr/>
        </p:nvSpPr>
        <p:spPr>
          <a:xfrm>
            <a:off x="395280" y="69228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84" name="TextBox 1"/>
          <p:cNvSpPr/>
          <p:nvPr/>
        </p:nvSpPr>
        <p:spPr>
          <a:xfrm>
            <a:off x="302760" y="687240"/>
            <a:ext cx="35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Обратить внимание!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785" name="Схема 2" descr=""/>
          <p:cNvPicPr/>
          <p:nvPr/>
        </p:nvPicPr>
        <p:blipFill>
          <a:blip r:embed="rId1"/>
          <a:stretch/>
        </p:blipFill>
        <p:spPr>
          <a:xfrm>
            <a:off x="3992400" y="963720"/>
            <a:ext cx="5042160" cy="4583160"/>
          </a:xfrm>
          <a:prstGeom prst="rect">
            <a:avLst/>
          </a:prstGeom>
          <a:ln w="0">
            <a:noFill/>
          </a:ln>
        </p:spPr>
      </p:pic>
      <p:sp>
        <p:nvSpPr>
          <p:cNvPr id="786" name="TextBox 4"/>
          <p:cNvSpPr/>
          <p:nvPr/>
        </p:nvSpPr>
        <p:spPr>
          <a:xfrm>
            <a:off x="250920" y="1477800"/>
            <a:ext cx="3647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редоставлять формы статистического наблюдения за 2019 год по юридическому лицу без входящих подразделений!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-윤고딕140"/>
              </a:rPr>
              <a:t>Филиалы предоставляются отдельно!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Прямоугольник 2"/>
          <p:cNvSpPr/>
          <p:nvPr/>
        </p:nvSpPr>
        <p:spPr>
          <a:xfrm>
            <a:off x="684360" y="563400"/>
            <a:ext cx="784836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Некоторые острые  заболевания  и состояния (например: острый       отит, острый миокардит, острые  респираторные  инфекции  верхних и нижних  дыхательных  путей,  грипп, а  также травмы, за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исключением  по следствий и др.) регистрируются столько раз,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колько они возникают в течение отчетного года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ри этом графа 4 должна быть равна  графе  9  по  соответствующим  строкам  таблиц 1000, 1500, 2000, 3000 и  4000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На  начало года по данным строкам 0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Это не относится к тем заболеваниям, при которых 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острые формы могут переходить в хронические.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ри обострении хронических заболеваний регистрируют эти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хронические заболевания, а не их острые формы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67" name="Rectangle 33"/>
          <p:cNvSpPr/>
          <p:nvPr/>
        </p:nvSpPr>
        <p:spPr>
          <a:xfrm>
            <a:off x="900000" y="317520"/>
            <a:ext cx="395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Прямоугольник 2"/>
          <p:cNvSpPr/>
          <p:nvPr/>
        </p:nvSpPr>
        <p:spPr>
          <a:xfrm>
            <a:off x="34920" y="1341360"/>
            <a:ext cx="9001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обходимо  при составлении отчета о заболеваемости населения  сверять данные отдельных строк с профильными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ециалистами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ведения для заполнения отчета в различных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ипах учреждений берутся из различных источников: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кожно-венерологические заболева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уберкулез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нфекционные заболевания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болевания, которые требуют подачи экстренных извещений в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спотребнадзор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сихиатрические заболева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indent="457200" algn="just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др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69" name="Rectangle 33"/>
          <p:cNvSpPr/>
          <p:nvPr/>
        </p:nvSpPr>
        <p:spPr>
          <a:xfrm>
            <a:off x="900000" y="317520"/>
            <a:ext cx="4032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Прямоугольник 2"/>
          <p:cNvSpPr/>
          <p:nvPr/>
        </p:nvSpPr>
        <p:spPr>
          <a:xfrm>
            <a:off x="684360" y="278136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ОМНИТЕ О ПРЕЕМСТВЕННОСТИ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71" name="Rectangle 33"/>
          <p:cNvSpPr/>
          <p:nvPr/>
        </p:nvSpPr>
        <p:spPr>
          <a:xfrm>
            <a:off x="900000" y="317520"/>
            <a:ext cx="35416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Прямоугольник 2"/>
          <p:cNvSpPr/>
          <p:nvPr/>
        </p:nvSpPr>
        <p:spPr>
          <a:xfrm>
            <a:off x="755640" y="1052640"/>
            <a:ext cx="7777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98cb8"/>
                </a:solidFill>
                <a:latin typeface="Times New Roman"/>
                <a:ea typeface="-윤고딕140"/>
              </a:rPr>
              <a:t> 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   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Если пациент обратился за медицинской помощью, минуя поликлинику, в больницу, то «Талон  амбулаторного пациента» (далее - Талон) заполняют в поликлинике после выписки пациента из стационара на основании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"Выписного эпикриза". При этом если пациент пришел на прием, то в Талоне производится отметка о регистрации всех заболеваний для включения  этих сведений в форму федерального  статистического наблюдения № 12 и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носится отметка о посещении. Если  пациент на  прием  не  пришел, то в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Талоне регистрируются все заболевания без отметки о посещении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 Талоне также должно быть зарегистрировано  обращение  по поводу  заболевания, включающее в себя одно или несколько посещений, в результате 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которых цель обращения достигнута. При  заполнении  Талона  врач   также делает отметки о дате впервые выявленного основного и 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опутствующих заболеваний, взятии и снятии с диспансерного 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учета. Эта данные  необходимы для заполнения формы федерального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атистического наблюдения № 12.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73" name="Rectangle 33"/>
          <p:cNvSpPr/>
          <p:nvPr/>
        </p:nvSpPr>
        <p:spPr>
          <a:xfrm>
            <a:off x="900000" y="317520"/>
            <a:ext cx="35416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Прямоугольник 2"/>
          <p:cNvSpPr/>
          <p:nvPr/>
        </p:nvSpPr>
        <p:spPr>
          <a:xfrm>
            <a:off x="324000" y="1341360"/>
            <a:ext cx="842472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Класс 4. Болезни эндокринной системы, расстройства питания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и нарушения обмена веществ. Е00-Е90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   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-윤고딕140"/>
              </a:rPr>
              <a:t>Гиперплазия щитовидной железы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шифруется кодом – E04.0. Отставание в физическом развитии кодируют по эндокринной патологии–E45.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    Строки 5.4, 5.15 у взрослых и подростков диагноз «Гипофизарный нанизм, Гипопитуитаризм  юношеский» - всегда учитывается с «-»,  так  как  первично диагноз устанавливается еще в детском возрасте (код – Е23.0).   Причины возникновения нанизма (карликовости)  могут  быть различны, соответственно  и кодировать  его  нужно  по-разному. Пример: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гипопитуитаризм вызванный лекарственными средствами – Е23.1;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гипопитуитаризм, обусловленный гипофизэктомией – Е89.3,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гипопитуитаризм, обусловленный гормонально неактивной аденомой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гипофиза – Е23.6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75" name="Rectangle 33"/>
          <p:cNvSpPr/>
          <p:nvPr/>
        </p:nvSpPr>
        <p:spPr>
          <a:xfrm>
            <a:off x="900000" y="317520"/>
            <a:ext cx="35416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Прямоугольник 2"/>
          <p:cNvSpPr/>
          <p:nvPr/>
        </p:nvSpPr>
        <p:spPr>
          <a:xfrm>
            <a:off x="755640" y="1268280"/>
            <a:ext cx="784872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Класс 5. Психические расстройства и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расстройства поведения.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F00-F99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графы 4, 9, 15 формы 12 равны соответствующим графам и строкам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форм 10, 11, 36, 37 (за минусом *) и с обязательным движением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диспансерной группы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Распоряжение МЗ РФ 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77" name="Rectangle 33"/>
          <p:cNvSpPr/>
          <p:nvPr/>
        </p:nvSpPr>
        <p:spPr>
          <a:xfrm>
            <a:off x="900000" y="317520"/>
            <a:ext cx="35416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Прямоугольник 2"/>
          <p:cNvSpPr/>
          <p:nvPr/>
        </p:nvSpPr>
        <p:spPr>
          <a:xfrm>
            <a:off x="1008000" y="77760"/>
            <a:ext cx="784872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F00*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Деменция  при болезни Альцгеймера (G30.-+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F02*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Деменция при других болезнях, классифицированных в других рубриках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G30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Болезнь Альцгеймера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G30.1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Поздняя болезнь Альцгеймер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G30.8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Другие формы болезни Альцгеймера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G30.9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Болезнь Альцгеймера неуточненна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G20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Болезнь Паркинсона</a:t>
            </a:r>
            <a:br>
              <a:rPr sz="1000"/>
            </a:b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79" name="Прямоугольник 3"/>
          <p:cNvSpPr/>
          <p:nvPr/>
        </p:nvSpPr>
        <p:spPr>
          <a:xfrm>
            <a:off x="1979640" y="5454720"/>
            <a:ext cx="59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Диагнозы по неврологии показываются по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чке 7.0, по строке 6.0 не показываются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80" name="Rectangle 33"/>
          <p:cNvSpPr/>
          <p:nvPr/>
        </p:nvSpPr>
        <p:spPr>
          <a:xfrm>
            <a:off x="900000" y="220680"/>
            <a:ext cx="4032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Прямоугольник 2"/>
          <p:cNvSpPr/>
          <p:nvPr/>
        </p:nvSpPr>
        <p:spPr>
          <a:xfrm>
            <a:off x="1476360" y="0"/>
            <a:ext cx="6624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Класс 6. Болезни нервной системы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G00-G9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82" name="Прямоугольник 3"/>
          <p:cNvSpPr/>
          <p:nvPr/>
        </p:nvSpPr>
        <p:spPr>
          <a:xfrm>
            <a:off x="517680" y="1413000"/>
            <a:ext cx="784836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  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ка 7.0.  Вегетативные расстройства, которые проявляются в нарушении регуляции сердечно-сосудистой, дыхательной и др. систем организма, могут быть синдромом таких заболеваний, как: гипертоническая болезнь, хроническая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ишемическая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болезнь сердца, эндокринные нарушения и т.д.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 этом случае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учету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одлежит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основное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заболевание.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Расстройства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вегетативной нервной системы кодируются G90.8,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оматоформная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дисфункция вегетативной нервной системы F45.3 (диагноз ставит психиатр).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ки 7.6 и 7.9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сегда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больше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уммы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одстрочников. У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зрослых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в строку 7.9 должны быть включены последствия травм, ОНМК в виде парезов, параличей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(письмо МЗиСР РФ от 26 апреля 2011 г. №14-9/10/2-4150)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83" name="Rectangle 33"/>
          <p:cNvSpPr/>
          <p:nvPr/>
        </p:nvSpPr>
        <p:spPr>
          <a:xfrm>
            <a:off x="900000" y="317520"/>
            <a:ext cx="35416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Прямоугольник 1"/>
          <p:cNvSpPr/>
          <p:nvPr/>
        </p:nvSpPr>
        <p:spPr>
          <a:xfrm>
            <a:off x="179280" y="549360"/>
            <a:ext cx="8785440" cy="55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ходящие транзиторные церебральные ишемические приступы [атаки] и родственные синдромы (ТИА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45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здоровья, относящееся к группе эпизодические и пароксизмальные расстройств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зиторные ишемические атаки расцениваются врачами как предупредительный сигнал возникновения острого ишемического инсульта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ология. Хотя ТИА часто обусловлены атеросклерозом и эссенциальной артериальной гипертензией, возможны и другие состояния, включая кардиогенную эмболию, расслоение артериальной стенки, фибромиодисплазию, гематологические заболевания, мигрень, судорожные припадки, опухоль и субдуральную гематому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еская картина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о к пароксизмальным расстройствам можно отнести все заболевания нервной системы, проявляющиеся в виде приступов (пароксизмов) – это мигренозные атаки (приступообразные мучительные головные боли, начинающиеся в одной половине головы), и обмороки, возникающие при различных других болезнях, и внезапно развивающиеся головокружения при болезни или синдроме Меньера, и т.н. диэнцефальные кризы или панические атаки (вегетативные приступы, сопровождающиеся повышением артериального давления, учащением пульса, страхом, выраженным беспокойством), и собственно эпилептические приступы, которые могут протекать как с судорогами - так и без них, как с потерей сознания - так и без нее.</a:t>
            </a: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85" name="Rectangle 33"/>
          <p:cNvSpPr/>
          <p:nvPr/>
        </p:nvSpPr>
        <p:spPr>
          <a:xfrm>
            <a:off x="900000" y="317520"/>
            <a:ext cx="4032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Прямоугольник 1"/>
          <p:cNvSpPr/>
          <p:nvPr/>
        </p:nvSpPr>
        <p:spPr>
          <a:xfrm>
            <a:off x="1476360" y="1123920"/>
            <a:ext cx="66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Класс 7. Болезни глаза и его придаточного аппарата. Н00-Н59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87" name="Прямоугольник 2"/>
          <p:cNvSpPr/>
          <p:nvPr/>
        </p:nvSpPr>
        <p:spPr>
          <a:xfrm>
            <a:off x="468360" y="2536920"/>
            <a:ext cx="81360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ка 8.0 в графе «диспансерные» показываются: миопия и гиперметропия средней и высокой степени, паралитическое и не аккомадационное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косоглазие, сложный астигматизм ….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Миопия и гиперметропия лёгкой степени, аккомадационный астигматизм, спазм аккомодации и др. показываются только по графам «всего и впервые»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   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 строке 8.3 и 8.8 показывать катаракту и глаукому только приобретенные (врожденные соответственно показать по классу Q). Строка 8.12 включает в себя слепоту на один глаз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88" name="Rectangle 33"/>
          <p:cNvSpPr/>
          <p:nvPr/>
        </p:nvSpPr>
        <p:spPr>
          <a:xfrm>
            <a:off x="900000" y="317520"/>
            <a:ext cx="35416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3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88" name="TextBox 3"/>
          <p:cNvSpPr/>
          <p:nvPr/>
        </p:nvSpPr>
        <p:spPr>
          <a:xfrm>
            <a:off x="744480" y="80172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В соответствии с Порядком заполнения формы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федерального статистического наблюдения №12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-윤고딕140"/>
              </a:rPr>
              <a:t>все таблицы заполняются по всем строкам и графам</a:t>
            </a:r>
            <a:br>
              <a:rPr sz="2400"/>
            </a:b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89" name="TextBox 4"/>
          <p:cNvSpPr/>
          <p:nvPr/>
        </p:nvSpPr>
        <p:spPr>
          <a:xfrm>
            <a:off x="996840" y="23716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Закрещенные графоклетки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не заполняются!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90" name="TextBox 5"/>
          <p:cNvSpPr/>
          <p:nvPr/>
        </p:nvSpPr>
        <p:spPr>
          <a:xfrm>
            <a:off x="744480" y="3602160"/>
            <a:ext cx="789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Сведения о заболеваниях, выявленных у  больных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поступивших в стационар, минуя поликлинику, следует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включать в отчёт на общих основаниях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Статталон может быть заполнен в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-윤고딕140"/>
              </a:rPr>
              <a:t>стационаре и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-윤고딕140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-윤고딕140"/>
              </a:rPr>
              <a:t>передан в поликлиник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,    либо  заполнен в поликлинике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на основании выписки из карты стационарного больного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Прямоугольник 1"/>
          <p:cNvSpPr/>
          <p:nvPr/>
        </p:nvSpPr>
        <p:spPr>
          <a:xfrm>
            <a:off x="1332000" y="1413000"/>
            <a:ext cx="64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Класс 8. Болезни уха и сосцевидного отростка. Н60-Н95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90" name="Прямоугольник 2"/>
          <p:cNvSpPr/>
          <p:nvPr/>
        </p:nvSpPr>
        <p:spPr>
          <a:xfrm>
            <a:off x="684360" y="2367000"/>
            <a:ext cx="76327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ка 9.4 – включать врожденную глухоту (код H90.X), одностороннюю и смешанную тугоухость. Таким образом, она должна быть больше суммы своих подстрочников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91" name="Rectangle 33"/>
          <p:cNvSpPr/>
          <p:nvPr/>
        </p:nvSpPr>
        <p:spPr>
          <a:xfrm>
            <a:off x="900000" y="317520"/>
            <a:ext cx="35416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Прямоугольник 2"/>
          <p:cNvSpPr/>
          <p:nvPr/>
        </p:nvSpPr>
        <p:spPr>
          <a:xfrm>
            <a:off x="971640" y="90792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Класс 9. Болезни системы кровообращения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I00-I9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93" name="Прямоугольник 3"/>
          <p:cNvSpPr/>
          <p:nvPr/>
        </p:nvSpPr>
        <p:spPr>
          <a:xfrm>
            <a:off x="684360" y="1365120"/>
            <a:ext cx="77752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ациенты  с  острой  ревматической лихорадкой наблюдаются в течение 3-х месяцев, поэтому в графе 15 таблиц 1000, 2000, 3000 и 4000 показывают только тех пациентов, которые заболели в четвертом квартале отчетного года. Графа 4 таблиц 1000, 2000, 3000 и 4000 должна быть равна графе 7 по строке 10.1. Если заболевание перешло в хроническую форму, то пациента по строке 10.1 с учета снимают, а по строке 10.2 берут на учет, как впервые выявленное хроническое заболевание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ока 10.2 (хронические ревматические болезни сердца) Если было обострение заболевания, то учитывается по строке 10.1, а в строку 10.2 не включается (регистрируется с (+))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94" name="Rectangle 33"/>
          <p:cNvSpPr/>
          <p:nvPr/>
        </p:nvSpPr>
        <p:spPr>
          <a:xfrm>
            <a:off x="900000" y="317520"/>
            <a:ext cx="35416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Прямоугольник 1"/>
          <p:cNvSpPr/>
          <p:nvPr/>
        </p:nvSpPr>
        <p:spPr>
          <a:xfrm>
            <a:off x="611280" y="1989000"/>
            <a:ext cx="799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торичные гипертензии не учитываются в форме 12. Статталон не заполняется, а кодируется основное заболевание.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ример: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церебральный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атеросклероз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с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торичной гипертензией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– I67.2; или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церебральный атеросклероз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и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гипертоническая болезнь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– 2 талона (I67.2 и  I10) разносятся по двум строкам – строка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10.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6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и строка 10.3.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96" name="Rectangle 33"/>
          <p:cNvSpPr/>
          <p:nvPr/>
        </p:nvSpPr>
        <p:spPr>
          <a:xfrm>
            <a:off x="900000" y="317520"/>
            <a:ext cx="43196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Прямоугольник 1"/>
          <p:cNvSpPr/>
          <p:nvPr/>
        </p:nvSpPr>
        <p:spPr>
          <a:xfrm>
            <a:off x="684360" y="1268280"/>
            <a:ext cx="784836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енокардия (таблицы 2000, 3000 и 4000, строка 10.4.1) регистрируется как самостоятельное заболевание, впервые выявленное – первый раз в жизни (+), а затем – один раз в год со знаком (–).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лучаи приступов стенокардии при атеросклеротической болезни сердца как самостоятельные заболевания не регистрируются. Графы 4 и 9 не равны.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98" name="Rectangle 33"/>
          <p:cNvSpPr/>
          <p:nvPr/>
        </p:nvSpPr>
        <p:spPr>
          <a:xfrm>
            <a:off x="900000" y="317520"/>
            <a:ext cx="35416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Прямоугольник 1"/>
          <p:cNvSpPr/>
          <p:nvPr/>
        </p:nvSpPr>
        <p:spPr>
          <a:xfrm>
            <a:off x="1042920" y="2133720"/>
            <a:ext cx="7129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ка 10.4.1.1 –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I20.0 –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НЕСТАБИЛЬНАЯ СТЕНОКАРДИЯ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регистрируется раз в год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заполняются графы 4 и 9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графа 4 = графе 9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00" name="Rectangle 33"/>
          <p:cNvSpPr/>
          <p:nvPr/>
        </p:nvSpPr>
        <p:spPr>
          <a:xfrm>
            <a:off x="900000" y="317520"/>
            <a:ext cx="35416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Прямоугольник 1"/>
          <p:cNvSpPr/>
          <p:nvPr/>
        </p:nvSpPr>
        <p:spPr>
          <a:xfrm>
            <a:off x="733320" y="1268280"/>
            <a:ext cx="74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Нестабильная стенокардия – острое состояние   (впервые равно всего), Д-наблюдение либо по I25.8 (при переходе в ОИМ), либо по I20 (стр. 10.4.1) –  при стабилизации состояния.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900000" y="317520"/>
            <a:ext cx="4248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Прямоугольник 1"/>
          <p:cNvSpPr/>
          <p:nvPr/>
        </p:nvSpPr>
        <p:spPr>
          <a:xfrm>
            <a:off x="927000" y="1413000"/>
            <a:ext cx="7704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afbfe"/>
                </a:solidFill>
                <a:latin typeface="Times New Roman"/>
                <a:ea typeface="-윤고딕140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ациенты с острыми, повторными инфарктами миокарда острыми нарушениями мозгового кровообращения наблюдаются в течение 28 дней, а затем снимаются с диспансерного учета, поэтому в графе 15 таблиц 2000, 3000 и 4000 отмечают только тех пациентов, которые заболели в декабре месяце.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04" name="Rectangle 33"/>
          <p:cNvSpPr/>
          <p:nvPr/>
        </p:nvSpPr>
        <p:spPr>
          <a:xfrm>
            <a:off x="900000" y="317520"/>
            <a:ext cx="45356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Прямоугольник 1"/>
          <p:cNvSpPr/>
          <p:nvPr/>
        </p:nvSpPr>
        <p:spPr>
          <a:xfrm>
            <a:off x="611280" y="1341360"/>
            <a:ext cx="763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ка 10.5 включает пролапс митрального клапана (код I34.1)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ка 10.5.4 включает только идиопатические (самостоятельные)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формы заболеваний. </a:t>
            </a:r>
            <a:br>
              <a:rPr sz="3200"/>
            </a:b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06" name="Rectangle 33"/>
          <p:cNvSpPr/>
          <p:nvPr/>
        </p:nvSpPr>
        <p:spPr>
          <a:xfrm>
            <a:off x="900000" y="317520"/>
            <a:ext cx="45356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Прямоугольник 1"/>
          <p:cNvSpPr/>
          <p:nvPr/>
        </p:nvSpPr>
        <p:spPr>
          <a:xfrm>
            <a:off x="925560" y="907920"/>
            <a:ext cx="734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нфаркт миокарда всегда первичный (+), с (-) нет. Сколько инфарктов миокарда в году больной перенёс, столько должно и быть талонов с (+)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сли от начала заболевания уже прошло 28 дней, то его показывать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олько в графах 4 и 9, а диспансерных по ишемической болезни сердца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афа 15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первые выявленный постинфарктный кардиосклероз включает в себя состояния развившиеся только после острого инфаркта миокарда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08" name="Rectangle 33"/>
          <p:cNvSpPr/>
          <p:nvPr/>
        </p:nvSpPr>
        <p:spPr>
          <a:xfrm>
            <a:off x="900000" y="317520"/>
            <a:ext cx="4032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Прямоугольник 2"/>
          <p:cNvSpPr/>
          <p:nvPr/>
        </p:nvSpPr>
        <p:spPr>
          <a:xfrm>
            <a:off x="684360" y="1197000"/>
            <a:ext cx="78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ки 10.6.1 – 10.6.4 острое нарушение мозгового кровообращения всегда первичный (+), с (-) нет. Таким образом, гр. 4 всегда равна гр. 9. По диагнозу «Инсульт» больные подлежат диспансерному наблюдению по гр. 15  на протяжении 30 дней от момента начальных проявлений или более в пределах одного эпизода лечения. В дальнейшем диспансерное наблюдение осуществляется по последствиям инсульта – парезы, параличи, энцефалопатия, речевые нарушения и т.д. Необходимо помнить, что код I69 – используется только по- смертно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ка 10.8.2 - не включать флебит портальной вены (K75.1)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10" name="Rectangle 33"/>
          <p:cNvSpPr/>
          <p:nvPr/>
        </p:nvSpPr>
        <p:spPr>
          <a:xfrm>
            <a:off x="900000" y="317520"/>
            <a:ext cx="4392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3"/>
          <p:cNvSpPr/>
          <p:nvPr/>
        </p:nvSpPr>
        <p:spPr>
          <a:xfrm>
            <a:off x="855720" y="260280"/>
            <a:ext cx="5156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92" name="Прямоугольник 32"/>
          <p:cNvSpPr/>
          <p:nvPr/>
        </p:nvSpPr>
        <p:spPr>
          <a:xfrm>
            <a:off x="468360" y="50652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793" name="Рисунок 6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2143080" cy="2143440"/>
          </a:xfrm>
          <a:prstGeom prst="rect">
            <a:avLst/>
          </a:prstGeom>
          <a:ln w="0">
            <a:noFill/>
          </a:ln>
        </p:spPr>
      </p:pic>
      <p:sp>
        <p:nvSpPr>
          <p:cNvPr id="794" name="Прямоугольник 1"/>
          <p:cNvSpPr/>
          <p:nvPr/>
        </p:nvSpPr>
        <p:spPr>
          <a:xfrm>
            <a:off x="468360" y="2535120"/>
            <a:ext cx="84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, имеющая в своем составе подразделения,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ющие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ую помощь в амбулаторных условиях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едущая  только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ый прием, составляет форму по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щим строкам лишь в том случае,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данной организации у пациентов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олько выявляются  эти заболевания, но  и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их лечение,  а также  и диспансерное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 за пациентами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Прямоугольник 2"/>
          <p:cNvSpPr/>
          <p:nvPr/>
        </p:nvSpPr>
        <p:spPr>
          <a:xfrm>
            <a:off x="1042920" y="1557360"/>
            <a:ext cx="71294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98cb8"/>
                </a:solidFill>
                <a:latin typeface="Times New Roman"/>
                <a:ea typeface="-윤고딕140"/>
              </a:rPr>
              <a:t>      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ка 10.6.7 «последствия цереброваскулярных болезней» диагноз используется только в случае смерти пациента.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   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 строке 10.6.7 заполняются графы 4, 9 и они равны.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12" name="Rectangle 33"/>
          <p:cNvSpPr/>
          <p:nvPr/>
        </p:nvSpPr>
        <p:spPr>
          <a:xfrm>
            <a:off x="900000" y="317520"/>
            <a:ext cx="395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Прямоугольник 2"/>
          <p:cNvSpPr/>
          <p:nvPr/>
        </p:nvSpPr>
        <p:spPr>
          <a:xfrm>
            <a:off x="1187280" y="11970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Класс 10. Болезни органов дыхания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J00-J9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14" name="Прямоугольник 3"/>
          <p:cNvSpPr/>
          <p:nvPr/>
        </p:nvSpPr>
        <p:spPr>
          <a:xfrm>
            <a:off x="684360" y="1773360"/>
            <a:ext cx="7705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ациенты с острыми пневмониями наблюдаются в течение 6 месяцев, а затем снимаются с диспансерного учета, поэтому в графе 15 таблиц 1000, 2000, 3000 и 4000 показываются только те пациенты, которые заболели во втором полугодии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Дети по приказу №725 от 15.06.83г – 12 месяцев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 графе 15 таблицы 1500 показываются дети, которые заболели пневмонией во второй половине  первого года жизни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15" name="Rectangle 33"/>
          <p:cNvSpPr/>
          <p:nvPr/>
        </p:nvSpPr>
        <p:spPr>
          <a:xfrm>
            <a:off x="900000" y="317520"/>
            <a:ext cx="43196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Прямоугольник 2"/>
          <p:cNvSpPr/>
          <p:nvPr/>
        </p:nvSpPr>
        <p:spPr>
          <a:xfrm>
            <a:off x="684360" y="105264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-윤고딕140"/>
              </a:rPr>
              <a:t>   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У детей до 1 года жизни хронических заболеваний быть не должно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Часто болеющие дети шифруются кодами соответствующих заболеваний (пневмония, ОРВИ, острый бронхиты и т.д.)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 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невмония - графа 4 = графе 8, графа 7 = графе 9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    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Разница между выявлено и взято на Д-учет может быть за счет умерших, выбывших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17" name="Rectangle 33"/>
          <p:cNvSpPr/>
          <p:nvPr/>
        </p:nvSpPr>
        <p:spPr>
          <a:xfrm>
            <a:off x="900000" y="317520"/>
            <a:ext cx="3816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Прямоугольник 2"/>
          <p:cNvSpPr/>
          <p:nvPr/>
        </p:nvSpPr>
        <p:spPr>
          <a:xfrm>
            <a:off x="900000" y="907920"/>
            <a:ext cx="734400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  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овторно возникающие в течение года острые   пневмонии, острая ревматическая лихорадка, острые и повторные инфаркты миокарда, острые нарушения мозгового кровообращения регистрируются как острые (со знаком  +).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 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о этим строкам графы 4 и 8 таблиц 1000, 4 и 7 - 2000, 4 и 6- 3000 и 4 и 6- 4000 равны.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19" name="Rectangle 33"/>
          <p:cNvSpPr/>
          <p:nvPr/>
        </p:nvSpPr>
        <p:spPr>
          <a:xfrm>
            <a:off x="900000" y="317520"/>
            <a:ext cx="4032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Прямоугольник 1"/>
          <p:cNvSpPr/>
          <p:nvPr/>
        </p:nvSpPr>
        <p:spPr>
          <a:xfrm>
            <a:off x="0" y="1125360"/>
            <a:ext cx="88200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Класс 11. Болезни органов пищеварения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K00-K93</a:t>
            </a:r>
            <a:br>
              <a:rPr sz="2800"/>
            </a:b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21" name="Прямоугольник 2"/>
          <p:cNvSpPr/>
          <p:nvPr/>
        </p:nvSpPr>
        <p:spPr>
          <a:xfrm>
            <a:off x="755640" y="2781360"/>
            <a:ext cx="77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Заболевания зубов включают в форму 12 только в том </a:t>
            </a:r>
            <a:endParaRPr b="1" lang="en-US" sz="32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лучае, если больной подлежит диспансерному наблюдению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. </a:t>
            </a:r>
            <a:endParaRPr b="1" lang="en-US" sz="1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22" name="Rectangle 33"/>
          <p:cNvSpPr/>
          <p:nvPr/>
        </p:nvSpPr>
        <p:spPr>
          <a:xfrm>
            <a:off x="900000" y="317520"/>
            <a:ext cx="3888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Прямоугольник 1"/>
          <p:cNvSpPr/>
          <p:nvPr/>
        </p:nvSpPr>
        <p:spPr>
          <a:xfrm>
            <a:off x="611280" y="1268280"/>
            <a:ext cx="799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98cb8"/>
                </a:solidFill>
                <a:latin typeface="Times New Roman"/>
                <a:ea typeface="-윤고딕140"/>
              </a:rPr>
              <a:t>    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 форму 12 включаются заболевания, которые подлежат диспансерному наблюдению множественным прогрессирующим кариесом зубов (4 раза в год]; легкой формой пародонтита (1 раз в 6 мес], тяжелой формой (каждые 3 мес); пародонтозом (1 раз в 6 мес для профилактики осложнений); хроническими гингивитами, стоматитами,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хейлитами, глоссальгией (от 2 до 4 раз в год); одонтогенными невралгиями тройничного и невритами лицевого нервов (от 2 до 4 раз в год); хроническими остеомиелитами костей лица (2 раза в год); хроническим одонтогенным воспалением верхнечелюстной пазухи (2 раза в год); хроническим воспалением слюнных желез (2 раза в год); пре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-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драковыми заболеваниями челюстей и полости рта, злокачественными новообразованиями челюстей и полости рта (совместно с онкологами в зависимости от стадии заболевания); врожденными расщелинами челюстно-лицевой области (2 раза в год); зубочелюстными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аномалиями (2—3 раза в год); врожденными и приобретенными деформациями челюстей (2 раза в год)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24" name="Rectangle 33"/>
          <p:cNvSpPr/>
          <p:nvPr/>
        </p:nvSpPr>
        <p:spPr>
          <a:xfrm>
            <a:off x="900000" y="317520"/>
            <a:ext cx="395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Прямоугольник 1"/>
          <p:cNvSpPr/>
          <p:nvPr/>
        </p:nvSpPr>
        <p:spPr>
          <a:xfrm>
            <a:off x="1116000" y="119700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Класс 12. Болезни кожи и подкожной клетчатки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L00-L9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26" name="Прямоугольник 2"/>
          <p:cNvSpPr/>
          <p:nvPr/>
        </p:nvSpPr>
        <p:spPr>
          <a:xfrm>
            <a:off x="1042920" y="2060640"/>
            <a:ext cx="727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Класс 13. Болезни костно-мышечной системы и соединительной ткани. М00-М99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27" name="Прямоугольник 3"/>
          <p:cNvSpPr/>
          <p:nvPr/>
        </p:nvSpPr>
        <p:spPr>
          <a:xfrm>
            <a:off x="755640" y="2997360"/>
            <a:ext cx="76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Диспансерному учёту подлежат сколиозы, плоскостопие, остеохондропатии, остеохондроз. Нарушение осанки,  плоская стопа,  сутулость,  вальгусная  и  варусная  деформация  стоп  наблюдаются   по   списочному   составу  и  соответственно  в графе 15 (диспансерные) не показываются. Нарушение осанки,   сутулость – М53.2  Сколиоз – М41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28" name="Rectangle 33"/>
          <p:cNvSpPr/>
          <p:nvPr/>
        </p:nvSpPr>
        <p:spPr>
          <a:xfrm>
            <a:off x="900000" y="317520"/>
            <a:ext cx="4176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Прямоугольник 1"/>
          <p:cNvSpPr/>
          <p:nvPr/>
        </p:nvSpPr>
        <p:spPr>
          <a:xfrm>
            <a:off x="826920" y="1989000"/>
            <a:ext cx="770580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              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Плоско-вальгусная деформация стопы – М21.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Плосковарусная деформация стопы – М21.1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Плоскостопие и плоская стопа – М21.4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Таким  образом,  плоскостопие  включается  в  строку 14.1, а сколиозы, юношеский остеохондроз в строку 14.3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Нарушение осанки включать в строку 14.0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Прямоугольник 1"/>
          <p:cNvSpPr/>
          <p:nvPr/>
        </p:nvSpPr>
        <p:spPr>
          <a:xfrm>
            <a:off x="826920" y="1844640"/>
            <a:ext cx="8066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Остеохондроз у взрослых кодируется M50 – M54 и показывается по строке 14.0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М42.1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-윤고딕140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Остеохондроз позвоночника у взрослых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Остеохондроз позвоночника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клинические рекомендации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(М48.0, М 54, М50.0, М50.1, М50.2, М50.3, М50.8, М50.9, М51.0, М51.1, М51.2, М51.3, М51.8, М51.9, М53.2)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прошу обратить внимание специалистов на более точную формулировку диагнозов при остеохондрозе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31" name="Rectangle 33"/>
          <p:cNvSpPr/>
          <p:nvPr/>
        </p:nvSpPr>
        <p:spPr>
          <a:xfrm>
            <a:off x="1052640" y="469800"/>
            <a:ext cx="3951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Прямоугольник 1"/>
          <p:cNvSpPr/>
          <p:nvPr/>
        </p:nvSpPr>
        <p:spPr>
          <a:xfrm>
            <a:off x="755640" y="134136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Класс 14. Болезни мочеполовой системы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N00-N9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33" name="Прямоугольник 2"/>
          <p:cNvSpPr/>
          <p:nvPr/>
        </p:nvSpPr>
        <p:spPr>
          <a:xfrm>
            <a:off x="611280" y="2060640"/>
            <a:ext cx="799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ка 15.2 (почечная недостаточность) Показывается вся почечная недостаточность, как острая, так и хроническая. При сахарном диабете с почечной недостаточностью, сахарный диабет проходит по строке 5.2, а почечная недостаточность по строке 15.2 и т.д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Аденома простаты – N4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Расстройства менструаций - на (Д) учёт берётся олиго и аменорея 1,2 степени. У девочек до 17 лет эрозия шейки матки (если нет возможности лечить)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34" name="Rectangle 33"/>
          <p:cNvSpPr/>
          <p:nvPr/>
        </p:nvSpPr>
        <p:spPr>
          <a:xfrm>
            <a:off x="900000" y="317520"/>
            <a:ext cx="4464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3"/>
          <p:cNvSpPr/>
          <p:nvPr/>
        </p:nvSpPr>
        <p:spPr>
          <a:xfrm>
            <a:off x="855720" y="260280"/>
            <a:ext cx="5156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796" name="Прямоугольник 32"/>
          <p:cNvSpPr/>
          <p:nvPr/>
        </p:nvSpPr>
        <p:spPr>
          <a:xfrm>
            <a:off x="468360" y="50652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797" name="Рисунок 6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2143080" cy="2143440"/>
          </a:xfrm>
          <a:prstGeom prst="rect">
            <a:avLst/>
          </a:prstGeom>
          <a:ln w="0">
            <a:noFill/>
          </a:ln>
        </p:spPr>
      </p:pic>
      <p:sp>
        <p:nvSpPr>
          <p:cNvPr id="798" name="Прямоугольник 2"/>
          <p:cNvSpPr/>
          <p:nvPr/>
        </p:nvSpPr>
        <p:spPr>
          <a:xfrm>
            <a:off x="1886040" y="1268280"/>
            <a:ext cx="6985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ся форма 12 формируется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на основании сведений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о пациентах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 01 января по 31 декабря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2019 года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!!!</a:t>
            </a:r>
            <a:endParaRPr b="1" lang="en-US" sz="12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Прямоугольник 1"/>
          <p:cNvSpPr/>
          <p:nvPr/>
        </p:nvSpPr>
        <p:spPr>
          <a:xfrm>
            <a:off x="900000" y="1052640"/>
            <a:ext cx="748980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ка 15.7 – всегда больше строки 15.7.1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      Строка 15.8 - эндометриоз с Д-учёта снимается посмертно или в глубокой менопаузе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ка 15.9 - расстройства менструаций – на Д-учёт берётся олиго- и аменорея 1, 2 степени. У девочек до 17 лет эрозия шейки матки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(если нет возможности лечить)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Альгодисменорею в графе «диспансерные» показывать не нужно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        Строка 15.10 (т. 3000) – женщины с бесплодием снимаются с учета если они родили, перешагнули детородный возраст, выбыли, умерли. </a:t>
            </a:r>
            <a:br>
              <a:rPr sz="1100"/>
            </a:b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36" name="Rectangle 33"/>
          <p:cNvSpPr/>
          <p:nvPr/>
        </p:nvSpPr>
        <p:spPr>
          <a:xfrm>
            <a:off x="900000" y="317520"/>
            <a:ext cx="5112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Прямоугольник 1"/>
          <p:cNvSpPr/>
          <p:nvPr/>
        </p:nvSpPr>
        <p:spPr>
          <a:xfrm>
            <a:off x="900000" y="12682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Класс 15. Беременность, роды и послеродовый период. О00-О9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38" name="Прямоугольник 2"/>
          <p:cNvSpPr/>
          <p:nvPr/>
        </p:nvSpPr>
        <p:spPr>
          <a:xfrm>
            <a:off x="828720" y="209556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Включаются случаи акушерской патологии. Данные этой строки  должны  определённым  образом соотноситься с данными по форме № 32 таблицы 2130 (все нозологии) и  таблицы  2111  (учитывая  патологию,   требующую   дальнейшего диспансерного наблюдения)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Если соматическое заболевание возникло во время беременности  –  кодировать его необходимо по классу О.   Ранее известную  (и  зарегистрированную)  соматическую патологию, обнаруживаемую у женщины во время беременности, следует также учитывать по классу О с соответствующей заменой ранее заполненного по другому классу статистического талона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.</a:t>
            </a:r>
            <a:endParaRPr b="1" lang="en-US" sz="11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39" name="Rectangle 33"/>
          <p:cNvSpPr/>
          <p:nvPr/>
        </p:nvSpPr>
        <p:spPr>
          <a:xfrm>
            <a:off x="900000" y="317520"/>
            <a:ext cx="43196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Прямоугольник 1"/>
          <p:cNvSpPr/>
          <p:nvPr/>
        </p:nvSpPr>
        <p:spPr>
          <a:xfrm>
            <a:off x="900000" y="1052640"/>
            <a:ext cx="7559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Класс 16. Отдельные состояния, возникающие в перинатальном периоде. Р00-Р96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41" name="Прямоугольник 2"/>
          <p:cNvSpPr/>
          <p:nvPr/>
        </p:nvSpPr>
        <p:spPr>
          <a:xfrm>
            <a:off x="755640" y="2160720"/>
            <a:ext cx="784872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ка 17.0 таблиц 2000 и 3000 заполняется только в случаях перинатальной смертности  и касается состояния здоровья матери.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Данные случаи кодируются кодами Р00-Р04, а не кодами  класса 15 «Беременность, роды и послеродовый период».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 таблице 1000 коды МКБ-10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P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05-Р96.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42" name="Rectangle 33"/>
          <p:cNvSpPr/>
          <p:nvPr/>
        </p:nvSpPr>
        <p:spPr>
          <a:xfrm>
            <a:off x="900000" y="317520"/>
            <a:ext cx="45356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Прямоугольник 1"/>
          <p:cNvSpPr/>
          <p:nvPr/>
        </p:nvSpPr>
        <p:spPr>
          <a:xfrm>
            <a:off x="684360" y="917640"/>
            <a:ext cx="770544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У детей, заболевания регистрируются как острые (таблица 1000 и 1500), дети наблюдаются в  течение 1 месяца, поэтому в графе 15 на конец отчетного периода  показывают  детей, у которых эти состояния развились в декабре месяце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Остатков с прошлого года нет (0) т.к. за год формируется патология, которая кодируется другим классом. Данная строка равна  (крайне редко) или больше данных по форме  № 32,  т.к.  частично  диагнозы выставляются в поликлинике педиатрами, неврологами и др. врачами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нимание:  из  выписки родильного  отделения в поликлинике кодируем только то, что вынесено в диагноз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се текстовые описания кодированию не подлежат.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br>
              <a:rPr sz="1100"/>
            </a:br>
            <a:br>
              <a:rPr sz="1000"/>
            </a:b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44" name="Rectangle 33"/>
          <p:cNvSpPr/>
          <p:nvPr/>
        </p:nvSpPr>
        <p:spPr>
          <a:xfrm>
            <a:off x="900000" y="317520"/>
            <a:ext cx="4248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Прямоугольник 1"/>
          <p:cNvSpPr/>
          <p:nvPr/>
        </p:nvSpPr>
        <p:spPr>
          <a:xfrm>
            <a:off x="755640" y="934920"/>
            <a:ext cx="799308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Класс 17. Врожденные аномалии (пороки развития), деформации и хромосомные нарушения.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Q00-Q9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46" name="Прямоугольник 2"/>
          <p:cNvSpPr/>
          <p:nvPr/>
        </p:nvSpPr>
        <p:spPr>
          <a:xfrm>
            <a:off x="179280" y="2565360"/>
            <a:ext cx="864072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Класс 18. Симптомы, признаки и отклонения от нормы, выявленные пр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клинических и лабораторных исследованиях, не классифицированные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в других рубрика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R00-R99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47" name="Прямоугольник 3"/>
          <p:cNvSpPr/>
          <p:nvPr/>
        </p:nvSpPr>
        <p:spPr>
          <a:xfrm>
            <a:off x="322200" y="4443480"/>
            <a:ext cx="8497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остояния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из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18 класса (стр. 19.0), не должны регистрироваться как заболевания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48" name="Rectangle 33"/>
          <p:cNvSpPr/>
          <p:nvPr/>
        </p:nvSpPr>
        <p:spPr>
          <a:xfrm>
            <a:off x="900000" y="317520"/>
            <a:ext cx="4248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Прямоугольник 1"/>
          <p:cNvSpPr/>
          <p:nvPr/>
        </p:nvSpPr>
        <p:spPr>
          <a:xfrm>
            <a:off x="611280" y="1413000"/>
            <a:ext cx="8064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Класс 19. Травмы, отравления и некоторые другие последствия воздействия внешних причин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S00-T98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50" name="Прямоугольник 2"/>
          <p:cNvSpPr/>
          <p:nvPr/>
        </p:nvSpPr>
        <p:spPr>
          <a:xfrm>
            <a:off x="539640" y="2781360"/>
            <a:ext cx="8209080" cy="26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Состояния  должны соответствовать патологическим состояниям, указанным в форме №57 «Сведения  о  травмах, отравлениях и  некоторых  других  последствиях  воздействия внешних причин»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Графы  «всего» и «впервые»  могут быть не  равны.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51" name="Rectangle 33"/>
          <p:cNvSpPr/>
          <p:nvPr/>
        </p:nvSpPr>
        <p:spPr>
          <a:xfrm>
            <a:off x="900000" y="317520"/>
            <a:ext cx="41036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Прямоугольник 1"/>
          <p:cNvSpPr/>
          <p:nvPr/>
        </p:nvSpPr>
        <p:spPr>
          <a:xfrm>
            <a:off x="684360" y="1773360"/>
            <a:ext cx="792000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римеры шифрования последствий травм: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Отдалённые последствия перелома можно шифровать  -  М84.1 – несрастание перелома,  М82.2 – замедленное сращение перелома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оследствия ЧМТ кодируются в зависимости от клиники проявлений: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хроническая посттравматическая  головная боль G44.3, 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травматическая  транзиторная  церебральная  ишемия  G45.8, 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др. уточнённое  поражение головного мозга, в том числе травматическая болезнь мозга G93.8, 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энцефалопатия   посттравматическая  F07.2,   энцефалопатия  неуточнённая  G93.4,  относящиеся к патологии нервной системы.</a:t>
            </a: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br>
              <a:rPr sz="1800"/>
            </a:br>
            <a:br>
              <a:rPr sz="1000"/>
            </a:br>
            <a:endParaRPr b="1" lang="en-US" sz="2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53" name="Rectangle 33"/>
          <p:cNvSpPr/>
          <p:nvPr/>
        </p:nvSpPr>
        <p:spPr>
          <a:xfrm>
            <a:off x="900000" y="317520"/>
            <a:ext cx="3959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Прямоугольник 1"/>
          <p:cNvSpPr/>
          <p:nvPr/>
        </p:nvSpPr>
        <p:spPr>
          <a:xfrm>
            <a:off x="971640" y="112536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Класс 21. Факторы, влияющие на состояние здоровья населения и обращения в учреждения здравоохранения.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Z00-Z9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55" name="Прямоугольник 2"/>
          <p:cNvSpPr/>
          <p:nvPr/>
        </p:nvSpPr>
        <p:spPr>
          <a:xfrm>
            <a:off x="755640" y="2874960"/>
            <a:ext cx="763272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В класс Z  входят  данные  о здоровых людях, у которых отклонения от нормы еще не  трансформировались в определенную патологию. </a:t>
            </a:r>
            <a:endParaRPr b="1" lang="en-US" sz="28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98cb8"/>
                </a:solidFill>
                <a:latin typeface="Times New Roman"/>
                <a:ea typeface="-윤고딕140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56" name="Rectangle 33"/>
          <p:cNvSpPr/>
          <p:nvPr/>
        </p:nvSpPr>
        <p:spPr>
          <a:xfrm>
            <a:off x="900000" y="317520"/>
            <a:ext cx="4032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Прямоугольник 1"/>
          <p:cNvSpPr/>
          <p:nvPr/>
        </p:nvSpPr>
        <p:spPr>
          <a:xfrm>
            <a:off x="971640" y="1125360"/>
            <a:ext cx="770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Таблицы 2000, 3000, 400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ки: 5.1.1, 5.11, 5.12, 5.13, 5.14, 5.15, 7.8.2, 18.2, 18.5, 18.6, 18.7, 18.9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о графе «впервые в жизни» – (Х – должен стоять 0) стоит число – представить пояснительную записку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Талица 400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троки: 5.7, 5.8, 7.10, 3.1, 15.9, 15.11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о графа 9 – (Х – должен стоять 0) стоит число – проверить первичную документацию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-윤고딕140"/>
              </a:rPr>
              <a:t>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58" name="Прямоугольник 2"/>
          <p:cNvSpPr/>
          <p:nvPr/>
        </p:nvSpPr>
        <p:spPr>
          <a:xfrm>
            <a:off x="755640" y="2852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 </a:t>
            </a:r>
            <a:endParaRPr b="1" lang="en-US" sz="18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59" name="Rectangle 33"/>
          <p:cNvSpPr/>
          <p:nvPr/>
        </p:nvSpPr>
        <p:spPr>
          <a:xfrm>
            <a:off x="900000" y="317520"/>
            <a:ext cx="4248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indent="0" algn="ctr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962" name="Picture 2" descr=""/>
          <p:cNvPicPr/>
          <p:nvPr/>
        </p:nvPicPr>
        <p:blipFill>
          <a:blip r:embed="rId1"/>
          <a:stretch/>
        </p:blipFill>
        <p:spPr>
          <a:xfrm>
            <a:off x="793800" y="1724040"/>
            <a:ext cx="7975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3"/>
          <p:cNvSpPr/>
          <p:nvPr/>
        </p:nvSpPr>
        <p:spPr>
          <a:xfrm>
            <a:off x="855720" y="260280"/>
            <a:ext cx="5156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00" name="Прямоугольник 32"/>
          <p:cNvSpPr/>
          <p:nvPr/>
        </p:nvSpPr>
        <p:spPr>
          <a:xfrm>
            <a:off x="468360" y="50652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801" name="Рисунок 6" descr=""/>
          <p:cNvPicPr/>
          <p:nvPr/>
        </p:nvPicPr>
        <p:blipFill>
          <a:blip r:embed="rId1"/>
          <a:stretch/>
        </p:blipFill>
        <p:spPr>
          <a:xfrm>
            <a:off x="-360360" y="2602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02" name="Прямоугольник 1"/>
          <p:cNvSpPr/>
          <p:nvPr/>
        </p:nvSpPr>
        <p:spPr>
          <a:xfrm>
            <a:off x="1042920" y="650880"/>
            <a:ext cx="770580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12 формируется по 6 разделам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(0-14 лет включительно) - 1000, 1001, 1002, 1003, 1100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ети первых трех лет жизни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0, 1600, 1601, 1650,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00, 1800, 1900.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(15-17 лет включительно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00, 2001, 2003, 2100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более) - 3000, 3002, 3003, 3100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 старше  трудоспособного  возраста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  55 лет  у женщин и 60 лет у мужчин)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000, 4001, 4003, 4100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ансеризация студентов высших учебных заведений – 5000, 5100.                   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object 3"/>
          <p:cNvSpPr/>
          <p:nvPr/>
        </p:nvSpPr>
        <p:spPr>
          <a:xfrm>
            <a:off x="395280" y="115920"/>
            <a:ext cx="8373960" cy="649080"/>
          </a:xfrm>
          <a:custGeom>
            <a:avLst/>
            <a:gdLst/>
            <a:ahLst/>
            <a:rect l="l" t="t" r="r" b="b"/>
            <a:pathLst>
              <a:path w="8374380" h="649605">
                <a:moveTo>
                  <a:pt x="0" y="649287"/>
                </a:moveTo>
                <a:lnTo>
                  <a:pt x="8373999" y="649287"/>
                </a:lnTo>
                <a:lnTo>
                  <a:pt x="8373999" y="0"/>
                </a:lnTo>
                <a:lnTo>
                  <a:pt x="0" y="0"/>
                </a:lnTo>
                <a:lnTo>
                  <a:pt x="0" y="649287"/>
                </a:lnTo>
                <a:close/>
              </a:path>
            </a:pathLst>
          </a:custGeom>
          <a:solidFill>
            <a:srgbClr val="006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793800" y="178920"/>
            <a:ext cx="757872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indent="0" algn="ctr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ТОРЫЕ ВОПРОСЫ ПО СОСТАВЛЕНИЮ ФОРМЫ ФЕДЕРАЛЬНОГО СТАТИСТИЧЕСКОГО НАБЛЮДЕНИЯ № 12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5" name="Прямоугольник 4"/>
          <p:cNvSpPr/>
          <p:nvPr/>
        </p:nvSpPr>
        <p:spPr>
          <a:xfrm>
            <a:off x="163440" y="789120"/>
            <a:ext cx="883944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Приказы Минздрава от 29.03.19 г. № 173н и от 02.04.19 г. № 190н не регламентируют порядок статистического учета, который осуществляется в соответствии с МКБ-10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Состояния, классифицируемые рубриками R73.0 «Нарушение толерантности к глюкозе» и R73.9 «Неуточненная гипергликемия» относятся к классу XVIII «Симптомы, признаки и отклонения от нормы, выявленные при клинических и лабораторных исследованиях»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Эти состояния являются: первое – результатом проведенного теста на толерантность к глюкозе, а второе – результатом лабораторного исследования крови на содержание глюкозы. Оба результата не являются диагнозом какого-либо заболевания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При наличии характерных жалоб, объективных данных и данных дополнительных инструментальных и лабораторных исследований должны быть установлены следующие диагнозы: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1. Подозрение на сахарный диабет – код Z03.8 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2. Сахарный диабет – коды Е10-Е14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3. Другие заболевания с гипергликемией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Пациенты с конкретными диагнозами, а не симптомами (!) и должны быть зарегистрированы в форме № 12 и взяты под диспансерное наблюдение.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-윤고딕140"/>
              </a:rPr>
              <a:t>Пациентов с любыми результатами анализов, исследований, проб без установления  диагноза или с симптомами не регистрируют в форме № 12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Тоже касается рубрики R54 «Старость, или старческая астения». Данное состояние является симптомом и может быть указано только в качестве предварительного диагноза. В госпитальной практике в течение трех дней должен быть установлен клинический диагноз в соответствии с правилами МКБ-10 (том 2, стр. 107)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Указание симптома в качестве основного состояния в конце эпизода оказания медицинской помощи в соответствии с МКБ-10 является для врача-статистика или медицинского статистика основанием для возврата медицинской карты стационарного больного и карты выбывшего из стационара лечащему врачу для исправления. Данные документы не должны быть приняты в статистическую  разработку.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В статистике заболеваемости рубрика I69 «Последствия цереброваскулярных болезней» не используется, так как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-윤고딕140"/>
              </a:rPr>
              <a:t>включает в себя несколько различных нозологических единиц (энцефалопатии, нарушения речи, параличи, парезы и т.д.), каждая из которых должна быть выставлена в качестве самостоятельного заболевания, зарегистрирована в форме №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12 и при необходимости взята под диспансерное наблюдение соответствующим  специалистом. 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В статистике смертности рубрика I69 используется без расшифровки.</a:t>
            </a: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3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67" name="Прямоугольник 1"/>
          <p:cNvSpPr/>
          <p:nvPr/>
        </p:nvSpPr>
        <p:spPr>
          <a:xfrm>
            <a:off x="684360" y="646200"/>
            <a:ext cx="7777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Обязательно проводить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нутриформенный, межформенный 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и межгодовой контроли!!!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Разница по любому показателю в годовом отчете более, чем на 5% требует объяснения!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Проводите сверку с мониторингами!</a:t>
            </a:r>
            <a:br>
              <a:rPr sz="3600"/>
            </a:b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3"/>
          <p:cNvSpPr/>
          <p:nvPr/>
        </p:nvSpPr>
        <p:spPr>
          <a:xfrm>
            <a:off x="875160" y="260280"/>
            <a:ext cx="3591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69" name="Прямоугольник 1"/>
          <p:cNvSpPr/>
          <p:nvPr/>
        </p:nvSpPr>
        <p:spPr>
          <a:xfrm>
            <a:off x="704880" y="3284640"/>
            <a:ext cx="7848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Чурсина И.И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Тел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89821539623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Email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chursinaii@miacugra.ru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970" name="TextBox 1"/>
          <p:cNvSpPr/>
          <p:nvPr/>
        </p:nvSpPr>
        <p:spPr>
          <a:xfrm>
            <a:off x="1403640" y="1774800"/>
            <a:ext cx="645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Благодарю за внимание!</a:t>
            </a:r>
            <a:endParaRPr b="1" lang="en-US" sz="4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Text Box 3"/>
          <p:cNvSpPr/>
          <p:nvPr/>
        </p:nvSpPr>
        <p:spPr>
          <a:xfrm>
            <a:off x="855720" y="260280"/>
            <a:ext cx="5156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04" name="Прямоугольник 32"/>
          <p:cNvSpPr/>
          <p:nvPr/>
        </p:nvSpPr>
        <p:spPr>
          <a:xfrm>
            <a:off x="468360" y="50652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805" name="Рисунок 6" descr=""/>
          <p:cNvPicPr/>
          <p:nvPr/>
        </p:nvPicPr>
        <p:blipFill>
          <a:blip r:embed="rId1"/>
          <a:stretch/>
        </p:blipFill>
        <p:spPr>
          <a:xfrm>
            <a:off x="7553160" y="5300640"/>
            <a:ext cx="1576440" cy="1576440"/>
          </a:xfrm>
          <a:prstGeom prst="rect">
            <a:avLst/>
          </a:prstGeom>
          <a:ln w="0">
            <a:noFill/>
          </a:ln>
        </p:spPr>
      </p:pic>
      <p:sp>
        <p:nvSpPr>
          <p:cNvPr id="806" name="Прямоугольник 1"/>
          <p:cNvSpPr/>
          <p:nvPr/>
        </p:nvSpPr>
        <p:spPr>
          <a:xfrm>
            <a:off x="30240" y="1027080"/>
            <a:ext cx="886284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анный  отчет  включаются сведения об общем числе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регистрированных заболеваний в данном   учреждении у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циентов и о больных с заболеваниями, по поводу которых     осуществляется диспансеризация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форму  включают  один  раз в  год сведения об основном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овом, конкурирующем  и сопутствующем  заболеваниях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сложнениях  основного  и других заболеваний в форму не включают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енты, имеющие  два  и более  заболевания, показываются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оответствующим  строкам по  числу  выявленных   и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егистрированных заболеваний.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3"/>
          <p:cNvSpPr/>
          <p:nvPr/>
        </p:nvSpPr>
        <p:spPr>
          <a:xfrm>
            <a:off x="855720" y="260280"/>
            <a:ext cx="5156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Times New Roman"/>
                <a:ea typeface="돋움"/>
              </a:rPr>
              <a:t>БУ «Медицинский информационно-аналитический центр»</a:t>
            </a:r>
            <a:endParaRPr b="1" lang="en-US" sz="1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08" name="Прямоугольник 32"/>
          <p:cNvSpPr/>
          <p:nvPr/>
        </p:nvSpPr>
        <p:spPr>
          <a:xfrm>
            <a:off x="468360" y="50652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-윤고딕140"/>
              </a:rPr>
              <a:t>      </a:t>
            </a:r>
            <a:endParaRPr b="1" lang="en-US" sz="2400" spc="-1" strike="noStrike">
              <a:solidFill>
                <a:srgbClr val="dafbfe"/>
              </a:solidFill>
              <a:latin typeface="-윤고딕140"/>
            </a:endParaRPr>
          </a:p>
        </p:txBody>
      </p:sp>
      <p:pic>
        <p:nvPicPr>
          <p:cNvPr id="809" name="Рисунок 6" descr=""/>
          <p:cNvPicPr/>
          <p:nvPr/>
        </p:nvPicPr>
        <p:blipFill>
          <a:blip r:embed="rId1"/>
          <a:stretch/>
        </p:blipFill>
        <p:spPr>
          <a:xfrm>
            <a:off x="5651640" y="3500280"/>
            <a:ext cx="3492360" cy="3168720"/>
          </a:xfrm>
          <a:prstGeom prst="rect">
            <a:avLst/>
          </a:prstGeom>
          <a:ln w="0">
            <a:noFill/>
          </a:ln>
        </p:spPr>
      </p:pic>
      <p:sp>
        <p:nvSpPr>
          <p:cNvPr id="810" name="Прямоугольник 2"/>
          <p:cNvSpPr/>
          <p:nvPr/>
        </p:nvSpPr>
        <p:spPr>
          <a:xfrm>
            <a:off x="0" y="736560"/>
            <a:ext cx="889308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В форму 12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не включают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сведения о заболеваниях с </a:t>
            </a: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кодами по МКБ-10, 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-윤고딕140"/>
              </a:rPr>
              <a:t>отмеченных  звездочкой (*)</a:t>
            </a:r>
            <a:br>
              <a:rPr sz="2400"/>
            </a:br>
            <a:endParaRPr b="1" lang="en-US" sz="4000" spc="-1" strike="noStrike">
              <a:solidFill>
                <a:srgbClr val="dafbfe"/>
              </a:solidFill>
              <a:latin typeface="-윤고딕140"/>
            </a:endParaRPr>
          </a:p>
        </p:txBody>
      </p:sp>
      <p:sp>
        <p:nvSpPr>
          <p:cNvPr id="811" name="TextBox 3"/>
          <p:cNvSpPr/>
          <p:nvPr/>
        </p:nvSpPr>
        <p:spPr>
          <a:xfrm>
            <a:off x="247680" y="4176720"/>
            <a:ext cx="5156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-윤고딕140"/>
              </a:rPr>
              <a:t>В форму 12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-윤고딕140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-윤고딕140"/>
              </a:rPr>
              <a:t>не включают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-윤고딕140"/>
              </a:rPr>
              <a:t>сведения о подозрении 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-윤고딕140"/>
              </a:rPr>
              <a:t>на заболевание!</a:t>
            </a: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afbfe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2:45:16Z</dcterms:created>
  <dc:creator>hong</dc:creator>
  <dc:description/>
  <dc:language>en-US</dc:language>
  <cp:lastModifiedBy>Чурсина Ирина Ильдаровна</cp:lastModifiedBy>
  <cp:lastPrinted>2019-12-16T07:46:53Z</cp:lastPrinted>
  <dcterms:modified xsi:type="dcterms:W3CDTF">2019-12-16T08:23:02Z</dcterms:modified>
  <cp:revision>607</cp:revision>
  <dc:subject/>
  <dc:title>슬라이드 1</dc:title>
</cp:coreProperties>
</file>