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C00E-B98B-4419-823B-F4D89344F1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CB74-7D76-437C-9667-2AA7DA2B891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629-2355-4C3E-B212-A20A112B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2B8-EE39-4FA0-8A37-17846829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D30-5BC2-4A79-860D-9AA461CE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4B6-B123-40B8-BDAF-0EFE5CFD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70B7-C251-4238-B0D0-FF5AC63A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522A-0563-4320-BD2E-E0481BDA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9375-F583-4890-A959-8FA540E0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B576-D6D9-434E-9DB8-817C7E91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0E89-88AE-4AAE-B17A-C973E2BB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A90B-B010-4C4A-AFCC-572595EF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3252-1F0A-45CB-A82D-787505E4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BE3-8CAD-4FB0-88EF-3118A943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03C9-3B71-4C84-9194-4918B63A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22DD-E221-429B-9E88-761B6333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F34E-12A4-43F4-B627-EF9229DF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91D7-0D87-4949-B39E-27B91709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03F7-9820-4BEC-B6A9-A5E6B627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A0CFD-397F-44ED-97E0-3E9704B8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0941D-7359-47D9-8614-54383D7B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FE57C-4B1C-44EC-9819-CDD5641A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F68F-8BD6-45BC-9961-308152C1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6E387-6435-449B-AEFC-853C81BF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4EC-85E7-49CD-B361-F23498E6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8397A-26CA-41B0-B19C-97DB4016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13932-E88C-4793-B575-9FA2D692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6152A-A8BE-43C0-8AF4-0D33A58B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1C3F6-5F73-41C4-B733-DBE7F713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D5A28-BAD5-4CA5-8E5D-ED7CEEEA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375B2-754B-42A1-86EE-D9621FE4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A0D94-1AE1-4FDA-A69F-D940DA91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7C63F-69AC-4DEC-B521-61400DDC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F9F85-3639-45A7-8AB9-A5AF8697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98F0B-A245-4185-9B7F-40505EE8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51E-3E78-4138-AFD6-2D71E5A3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9E516-5FF2-450A-B786-28EEC08B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F4B00-22ED-46A0-A26F-844B237C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F137E-4646-473C-94AC-60E23033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E9537-5A57-49BE-A3B8-184CD5E1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E7E9C-427F-499D-A224-D07F4223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80915-A56A-43A9-B30E-6D1EC437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9F855-D7B7-46F0-AE20-52A2EEAF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B9E38-477F-46F5-80CA-20C4FDE8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1696A-F0BC-4255-B810-60287141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E58B-8BCE-47E0-BAAF-C92AC159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692-CF97-4749-A61B-78D66940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500-07FD-4BF4-A32D-7B24D2AB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734-0DD1-49ED-A8C1-600D6604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C1E-9948-4479-BB51-D892B9DD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FD3F-9133-45C6-868A-FEFAF57FBBE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5169-7606-46E6-894B-461CFDE09F4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7CA1-4CB8-482E-BDEF-60B52C10E35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9744-E52A-4AE8-B574-D678C50AB08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676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я сбора и обработк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тивной информац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  СМК  ФМБА  Росс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28540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4" name="Таблица 6" descr=""/>
          <p:cNvPicPr/>
          <p:nvPr/>
        </p:nvPicPr>
        <p:blipFill>
          <a:blip r:embed="rId1"/>
          <a:stretch/>
        </p:blipFill>
        <p:spPr>
          <a:xfrm>
            <a:off x="371520" y="695160"/>
            <a:ext cx="5522760" cy="393732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9" name="Таблица 4" descr=""/>
          <p:cNvPicPr/>
          <p:nvPr/>
        </p:nvPicPr>
        <p:blipFill>
          <a:blip r:embed="rId1"/>
          <a:stretch/>
        </p:blipFill>
        <p:spPr>
          <a:xfrm>
            <a:off x="219240" y="781200"/>
            <a:ext cx="8699400" cy="4529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1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4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5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6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1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4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1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6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9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5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1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К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2" dur="1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12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9" dur="1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8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1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1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6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3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5440" y="4680"/>
            <a:ext cx="36784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ЕЦ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366840" y="9907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ка ФОРМА №55, таблица 2000 (стр. 29, 40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685800" y="1752480"/>
          <a:ext cx="7948440" cy="2951280"/>
        </p:xfrm>
        <a:graphic>
          <a:graphicData uri="http://schemas.openxmlformats.org/drawingml/2006/table">
            <a:tbl>
              <a:tblPr/>
              <a:tblGrid>
                <a:gridCol w="2004840"/>
                <a:gridCol w="609840"/>
                <a:gridCol w="761760"/>
                <a:gridCol w="685800"/>
                <a:gridCol w="914400"/>
                <a:gridCol w="838440"/>
                <a:gridCol w="761760"/>
                <a:gridCol w="685800"/>
                <a:gridCol w="685800"/>
              </a:tblGrid>
              <a:tr h="630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рач-метод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спет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609480" y="4952880"/>
          <a:ext cx="8015400" cy="1252800"/>
        </p:xfrm>
        <a:graphic>
          <a:graphicData uri="http://schemas.openxmlformats.org/drawingml/2006/table">
            <a:tbl>
              <a:tblPr/>
              <a:tblGrid>
                <a:gridCol w="2340000"/>
                <a:gridCol w="274680"/>
                <a:gridCol w="2616120"/>
                <a:gridCol w="276480"/>
                <a:gridCol w="25081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лжно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И.О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п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 _________20__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мер контактного телефо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ата со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Прямоугольник 6"/>
          <p:cNvSpPr/>
          <p:nvPr/>
        </p:nvSpPr>
        <p:spPr>
          <a:xfrm rot="19653000">
            <a:off x="3484080" y="5149800"/>
            <a:ext cx="2362320" cy="6094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 Е Ч А Т 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28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9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0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1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2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125280" y="4724280"/>
            <a:ext cx="8599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 сбора и обработки оперативной информаци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У  СМК  ФМБА Росси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19240" y="1689120"/>
            <a:ext cx="8712000" cy="17859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74680" y="2073240"/>
            <a:ext cx="8710560" cy="17859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1760" y="1633680"/>
            <a:ext cx="8218440" cy="32004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67932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82760" y="1049400"/>
          <a:ext cx="8458200" cy="233352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914400"/>
                <a:gridCol w="762120"/>
                <a:gridCol w="609480"/>
                <a:gridCol w="609840"/>
                <a:gridCol w="990360"/>
                <a:gridCol w="838440"/>
                <a:gridCol w="1041120"/>
                <a:gridCol w="787680"/>
              </a:tblGrid>
              <a:tr h="41112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423720" y="3429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3798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158840" y="500364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457200" y="5780160"/>
            <a:ext cx="86868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закон № 323 от 21.11.2011г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сновах охраны здоровья граждан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с 31 по 3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Администратор</cp:lastModifiedBy>
  <cp:lastPrinted>2016-12-07T09:58:05Z</cp:lastPrinted>
  <dcterms:modified xsi:type="dcterms:W3CDTF">2020-12-02T06:47:34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