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1C6-A8FA-45B2-ABD5-1BBD488B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592-3016-46B0-AC14-198E42D8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5D9-D1FC-416D-AF95-8ABCC753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693-66A5-453F-9686-441E7078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EFF-07A3-4272-8073-459BCE75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6CC-2C25-4A36-BE4D-1265942B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F5A-1564-4C54-8ED4-1D301044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3AD-66AF-4FCC-9C76-62604902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237-65DE-456C-A210-7077365D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58D-5DBE-4DA2-A716-8D6157DB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ABA-61DA-4C39-B269-A443AF5F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ACF-3DF4-4D6B-9BDB-7CC7DDE7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F1C8-4736-4882-A4A2-BF8365E96BE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357120"/>
            <a:ext cx="77929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№ 14 дс «Сведения о деятельности дневных стационаров медицинских организаций» за 2018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1628640"/>
          <a:ext cx="8229600" cy="4664160"/>
        </p:xfrm>
        <a:graphic>
          <a:graphicData uri="http://schemas.openxmlformats.org/drawingml/2006/table">
            <a:tbl>
              <a:tblPr/>
              <a:tblGrid>
                <a:gridCol w="1235160"/>
                <a:gridCol w="420480"/>
                <a:gridCol w="730440"/>
                <a:gridCol w="730080"/>
                <a:gridCol w="731880"/>
                <a:gridCol w="730440"/>
                <a:gridCol w="730080"/>
                <a:gridCol w="730440"/>
                <a:gridCol w="730080"/>
                <a:gridCol w="730440"/>
                <a:gridCol w="730080"/>
              </a:tblGrid>
              <a:tr h="614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-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4 «Всего» не следует указывать прочий персона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(всего) должна быть равна сумме строк 1, 2, 3 по графам 3, 4, 5, 6, 7, 8, 9, 10, 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штатных должностей в дневных стационарах медицинских организаций, оказывающих помощь в стационарных условиях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 = 141.1000.1.03 + 141.1000.2.03 +141.1000.3.03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 1.01 = 30.1001.16.04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650.46.04+47.650.51.04+47.660.46.04+47.660.51.04+47.670.46.04+47.670.51.04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650.46.05+47.650.51.05 + 47.660.46.05+47.660.51.05 + 47.670.46.05 +47.67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853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4637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172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9640" y="162864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заполняются сведения о числе коек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№ 438 от 9 декабря 1999 г.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4000" y="1052640"/>
          <a:ext cx="8640720" cy="5684760"/>
        </p:xfrm>
        <a:graphic>
          <a:graphicData uri="http://schemas.openxmlformats.org/drawingml/2006/table">
            <a:tbl>
              <a:tblPr/>
              <a:tblGrid>
                <a:gridCol w="1295280"/>
                <a:gridCol w="433440"/>
                <a:gridCol w="647640"/>
                <a:gridCol w="647640"/>
                <a:gridCol w="576360"/>
                <a:gridCol w="720720"/>
                <a:gridCol w="718920"/>
                <a:gridCol w="720720"/>
                <a:gridCol w="719280"/>
                <a:gridCol w="720720"/>
                <a:gridCol w="720720"/>
                <a:gridCol w="719280"/>
              </a:tblGrid>
              <a:tr h="44136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-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-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сомат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TextBox 8"/>
          <p:cNvSpPr/>
          <p:nvPr/>
        </p:nvSpPr>
        <p:spPr>
          <a:xfrm>
            <a:off x="3492360" y="4581360"/>
            <a:ext cx="11509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2195640" y="4941720"/>
            <a:ext cx="11523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2195640" y="5805360"/>
            <a:ext cx="11523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5364000" y="4941720"/>
            <a:ext cx="7146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7524720" y="494172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5364000" y="580536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7524720" y="580536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5364000" y="544500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7524720" y="544500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3564000" y="6308640"/>
            <a:ext cx="11509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24000" y="1196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 в дневных стационарах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60.46.06. + 47.660.5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 в дневных стационара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7. + 47.660.51.07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8. + 47.660.51.08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8. = 47.660.46.09. + 47.660.5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1341360"/>
            <a:ext cx="83008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10. + 47.660.51.10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11. + 47.660.51.11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2. + 47.660.51.12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в дневных стационара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3. + 47.660.51.13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29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0040" y="1214280"/>
          <a:ext cx="8229600" cy="4316400"/>
        </p:xfrm>
        <a:graphic>
          <a:graphicData uri="http://schemas.openxmlformats.org/drawingml/2006/table">
            <a:tbl>
              <a:tblPr/>
              <a:tblGrid>
                <a:gridCol w="785880"/>
                <a:gridCol w="58572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64800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Заголовок 1"/>
          <p:cNvSpPr/>
          <p:nvPr/>
        </p:nvSpPr>
        <p:spPr>
          <a:xfrm>
            <a:off x="500040" y="5715000"/>
            <a:ext cx="8329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280" y="1413000"/>
            <a:ext cx="83012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следует заполнять целыми числ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стационарах на до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зрослых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3. = 47.670.46.06. + 47.670.5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т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5. = 47.670.46.07. + 47.670.51.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268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7. = 47.670.46.08. + 47.670.51.08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8. = 47.670.46.09. + 47.670.51.09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9. = 47.670.46.10. + 47.670.51.10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196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 контрол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10. = 47.670.46.11. + 47.670.51.11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11. = 47.670.46.12. + 47.670.51.12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12. = 47.670.46.13. + 47.670.51.13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5 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6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1500120"/>
            <a:ext cx="795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4920" y="836640"/>
            <a:ext cx="853596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5. = 141.3000.1.12.+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6. = 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2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3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3840" y="6018120"/>
            <a:ext cx="8929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7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0 графам 10, 11,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28760" y="928800"/>
          <a:ext cx="8286480" cy="514332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460440"/>
                <a:gridCol w="552600"/>
                <a:gridCol w="552240"/>
                <a:gridCol w="552600"/>
                <a:gridCol w="554040"/>
                <a:gridCol w="552240"/>
                <a:gridCol w="552600"/>
                <a:gridCol w="552600"/>
                <a:gridCol w="552240"/>
                <a:gridCol w="461880"/>
              </a:tblGrid>
              <a:tr h="11268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400" y="6214680"/>
            <a:ext cx="871524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1 графам 10, 11, 1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714240"/>
          <a:ext cx="8001000" cy="5392800"/>
        </p:xfrm>
        <a:graphic>
          <a:graphicData uri="http://schemas.openxmlformats.org/drawingml/2006/table">
            <a:tbl>
              <a:tblPr/>
              <a:tblGrid>
                <a:gridCol w="2298600"/>
                <a:gridCol w="281160"/>
                <a:gridCol w="466560"/>
                <a:gridCol w="561960"/>
                <a:gridCol w="560520"/>
                <a:gridCol w="560520"/>
                <a:gridCol w="561960"/>
                <a:gridCol w="560160"/>
                <a:gridCol w="560520"/>
                <a:gridCol w="560520"/>
                <a:gridCol w="561960"/>
                <a:gridCol w="466560"/>
              </a:tblGrid>
              <a:tr h="1065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3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268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 = 141.2000.1.07.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дневных стациона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 = 141.2000.1.09.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3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 = 141.2000.1.17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дневных стациона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 = 141.2000.1.19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3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10. + 141.3000.20.10. = 141.2100.1.07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10. + 141.3500.21.10. = 141.2100.1.09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413 от 30 декабря 2002 г.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8435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№ 413 от 30.12.2002 г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548 от 13 ноября 2003 г. «Об утверждении инструкции по заполнению отчетной формы по дневным стационарам»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dcterms:modified xsi:type="dcterms:W3CDTF">2018-12-10T19:14:28Z</dcterms:modified>
  <cp:revision>254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