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3F3-17D8-48DF-A573-7F8EC5D0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48C-2B40-4F4F-B75F-0E8605CD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AEA-A9AD-4A7D-AB4D-D262C019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6C0-B78E-43CF-85FF-CCDED06F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DBB-6A59-4717-8814-1E43D7D0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CF1-EF42-49B4-B8EF-B405F530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D33-D3D2-4BD6-9832-F7134CC5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7FF-7346-41CB-8290-E13DB74D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48B-7C70-4A4B-9F2A-D9AF42CC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F48-BAA2-464F-844D-4699ED39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8DF-A7ED-4FE4-AE53-09A626E3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9BF-D497-4683-8184-C2A01931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>
                <a:gd name="textAreaLeft" fmla="*/ -360 w 9172440"/>
                <a:gd name="textAreaRight" fmla="*/ 9172440 w 9172440"/>
                <a:gd name="textAreaTop" fmla="*/ 0 h 1307880"/>
                <a:gd name="textAreaBottom" fmla="*/ 1308240 h 1307880"/>
              </a:gdLst>
              <a:ahLst/>
              <a:rect l="textAreaLeft" t="textAreaTop" r="textAreaRight" b="textAreaBottom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>
                <a:gd name="textAreaLeft" fmla="*/ 0 w 9167760"/>
                <a:gd name="textAreaRight" fmla="*/ 9168120 w 9167760"/>
                <a:gd name="textAreaTop" fmla="*/ 0 h 1265040"/>
                <a:gd name="textAreaBottom" fmla="*/ 1265400 h 1265040"/>
              </a:gdLst>
              <a:ahLst/>
              <a:rect l="textAreaLeft" t="textAreaTop" r="textAreaRight" b="textAreaBottom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>
                <a:gd name="textAreaLeft" fmla="*/ 0 w 6643440"/>
                <a:gd name="textAreaRight" fmla="*/ 6643800 w 6643440"/>
                <a:gd name="textAreaTop" fmla="*/ 0 h 1006920"/>
                <a:gd name="textAreaBottom" fmla="*/ 1007280 h 1006920"/>
              </a:gdLst>
              <a:ahLst/>
              <a:rect l="textAreaLeft" t="textAreaTop" r="textAreaRight" b="textAreaBottom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C4B2-CE4D-43BA-9A6F-CD96A7CBA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4700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: руководители организаций и их заместители (организаторы здравоохранения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Прямоугольник 3"/>
          <p:cNvSpPr/>
          <p:nvPr/>
        </p:nvSpPr>
        <p:spPr>
          <a:xfrm>
            <a:off x="2197080" y="3621240"/>
            <a:ext cx="6634080" cy="1190160"/>
          </a:xfrm>
          <a:prstGeom prst="rect">
            <a:avLst/>
          </a:prstGeom>
          <a:solidFill>
            <a:srgbClr val="277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8b00"/>
                </a:solidFill>
                <a:latin typeface="Times New Roman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8b00"/>
                </a:solidFill>
                <a:latin typeface="Times New Roman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4000" y="1327320"/>
          <a:ext cx="8450280" cy="49496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08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из распорядительного акта органа государственной власти или организации, создавших аттестационную комиссию, о присвоении специалистам, прошедшим аттестацию, квалификационных категор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 и фармацевтическим работникам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</a:tr>
            </a:tbl>
          </a:graphicData>
        </a:graphic>
      </p:graphicFrame>
      <p:sp>
        <p:nvSpPr>
          <p:cNvPr id="83" name="Text Box 541"/>
          <p:cNvSpPr/>
          <p:nvPr/>
        </p:nvSpPr>
        <p:spPr>
          <a:xfrm>
            <a:off x="7067520" y="4149720"/>
            <a:ext cx="1471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! Добавлены графы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c84700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</a:tr>
            </a:tbl>
          </a:graphicData>
        </a:graphic>
      </p:graphicFrame>
      <p:sp>
        <p:nvSpPr>
          <p:cNvPr id="87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839880" y="4151160"/>
            <a:ext cx="7578720" cy="1555560"/>
            <a:chOff x="839880" y="4151160"/>
            <a:chExt cx="7578720" cy="1555560"/>
          </a:xfrm>
        </p:grpSpPr>
        <p:sp>
          <p:nvSpPr>
            <p:cNvPr id="91" name="AutoShape 8"/>
            <p:cNvSpPr/>
            <p:nvPr/>
          </p:nvSpPr>
          <p:spPr>
            <a:xfrm>
              <a:off x="839880" y="4151160"/>
              <a:ext cx="7578720" cy="124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1277640" y="4186440"/>
              <a:ext cx="667044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фа 15 + Графа 16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 может быть больше Графы 9 по всем строкам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3"/>
          <p:cNvGrpSpPr/>
          <p:nvPr/>
        </p:nvGrpSpPr>
        <p:grpSpPr>
          <a:xfrm>
            <a:off x="798480" y="5356080"/>
            <a:ext cx="7578720" cy="1502280"/>
            <a:chOff x="798480" y="5356080"/>
            <a:chExt cx="7578720" cy="1502280"/>
          </a:xfrm>
        </p:grpSpPr>
        <p:sp>
          <p:nvSpPr>
            <p:cNvPr id="94" name="AutoShape 8"/>
            <p:cNvSpPr/>
            <p:nvPr/>
          </p:nvSpPr>
          <p:spPr>
            <a:xfrm>
              <a:off x="798480" y="5356080"/>
              <a:ext cx="7578720" cy="1292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1236240" y="5392800"/>
              <a:ext cx="6670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В 2017-2018 годах проходила процедура Первичной аккредитации (выпускники Вузов), т.е. у данных специалистов нет сертификата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74760" y="801720"/>
          <a:ext cx="8450280" cy="218916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257480" y="162000"/>
            <a:ext cx="659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841320" y="3570120"/>
            <a:ext cx="7559640" cy="2852640"/>
            <a:chOff x="841320" y="3570120"/>
            <a:chExt cx="7559640" cy="2852640"/>
          </a:xfrm>
        </p:grpSpPr>
        <p:sp>
          <p:nvSpPr>
            <p:cNvPr id="101" name="AutoShape 8"/>
            <p:cNvSpPr/>
            <p:nvPr/>
          </p:nvSpPr>
          <p:spPr>
            <a:xfrm>
              <a:off x="841320" y="3570120"/>
              <a:ext cx="7559640" cy="2852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998280" y="3651120"/>
              <a:ext cx="702648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Графа 17: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е включаются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лица, находящиеся по поводу временной или частичной утраты трудоспособности.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c00000"/>
                  </a:solidFill>
                  <a:latin typeface="Arial"/>
                </a:rPr>
                <a:t>В гр. 17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учитываются лица </a:t>
              </a:r>
              <a:r>
                <a:rPr b="1" i="1" lang="ru-RU" sz="1600" spc="-1" strike="noStrike">
                  <a:solidFill>
                    <a:srgbClr val="c00000"/>
                  </a:solidFill>
                  <a:latin typeface="Arial"/>
                </a:rPr>
                <a:t>из числа основных работников, находящихся в декретном отпуске (отпуск по беременности и родам ), отпуск по уходу за ребенком  до достижения им возраста 3-х лет, отпуске без сохранения заработной платы (по семейным и другим уважительным причинам) в течении отчетного года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174600" y="542880"/>
            <a:ext cx="8796240" cy="149976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РОССИЙСКОЙ ФЕДЕР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8 июля 2018 г. N 16-5/10/2-4709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оведения аккредитации специалистов регламентируется приказом Минздрава России от 02.06.2016 N 334н "Об утверждении положения об аккредитации специалиста" (далее - Положение)…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01600" y="2376360"/>
            <a:ext cx="8744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-стоматолог»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Стоматология общей практики»),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-терапевт участковый»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Лечебное дело»),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-педиатр участковый»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Педиатрия»),</a:t>
            </a:r>
            <a:r>
              <a:rPr b="1" lang="ru-RU" sz="1200" spc="-1" strike="noStrike">
                <a:solidFill>
                  <a:srgbClr val="c84700"/>
                </a:solidFill>
                <a:latin typeface="Arial"/>
                <a:ea typeface="Times New Roman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 клинической лабораторной диагностики»           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47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цинская биохимия»),</a:t>
            </a:r>
            <a:r>
              <a:rPr b="1" lang="ru-RU" sz="1200" spc="-1" strike="noStrike">
                <a:solidFill>
                  <a:srgbClr val="c84700"/>
                </a:solidFill>
                <a:latin typeface="Arial"/>
                <a:ea typeface="Times New Roman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 функциональной диагностики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цинская                             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физика»),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-статистик»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цинская кибернетика»),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-эпидемиолог» и «Врач по общей гигиен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ко-профилактическое дело»)</a:t>
            </a:r>
            <a:r>
              <a:rPr b="1" lang="ru-RU" sz="1200" spc="-1" strike="noStrike">
                <a:solidFill>
                  <a:srgbClr val="c84700"/>
                </a:solidFill>
                <a:latin typeface="Arial"/>
                <a:ea typeface="Times New Roman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Провизор» и «Провизор-технолог»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Фармация»)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98080" y="225360"/>
            <a:ext cx="6900840" cy="90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редитация специалистов со средним медицинским и фармацевтическим образованием в 2018 год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3120" y="1196640"/>
            <a:ext cx="859968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Фельдшер»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Лечебное дело»),</a:t>
            </a:r>
            <a:r>
              <a:rPr b="1" lang="ru-RU" sz="12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Медицинская сестра», «Медицинская сестра участковая», «Медицинская сестра патронажная», «Медицинская сестра приемного отделения», «Медицинская сестра палатная (постовая)», «Медицинская сестра перевязочной», «Медицинская сестра процедурной», «Медицинская сестра стерилизационной»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(специальность «Сестринское дело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Фармацевт»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Фармация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Акушерка»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Акушерское дело»),</a:t>
            </a:r>
            <a:r>
              <a:rPr b="1" lang="ru-RU" sz="12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Медицинская сестра по массажу/медицинский брат по массажу»</a:t>
            </a:r>
            <a:r>
              <a:rPr b="1" lang="ru-RU" sz="24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(                                                                                                                                                       специальность «Медицинский массаж»)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Зубной техник»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томатология ортопедическая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Медицинский технолог», «Медицинский лабораторный техник (фельдшер-лаборант)» и «Лаборант»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Лабораторная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Гигиенист стоматологический»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томатология профилактическая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Медицинский оптик-оптометрист»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Медицинская оптика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Помощник врача по эпидемиологии» и «Помощник врача по гигиене»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                                                                                                                         специальность «Медико-профилактическое дело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84700"/>
                          </a:solidFill>
                          <a:latin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84700"/>
                          </a:solidFill>
                          <a:latin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о. должность «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 сохраняется для специалистов с высшим профессиональным (немедицинским) образованием, принятых на работу до 01.10.1999 года. Эти работники могут продолжать профессиональную деятельность в занимаемых должностях без сертификата специалис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00160" y="1143000"/>
          <a:ext cx="8721720" cy="5416560"/>
        </p:xfrm>
        <a:graphic>
          <a:graphicData uri="http://schemas.openxmlformats.org/drawingml/2006/table">
            <a:tbl>
              <a:tblPr/>
              <a:tblGrid>
                <a:gridCol w="1828800"/>
                <a:gridCol w="479160"/>
                <a:gridCol w="669960"/>
                <a:gridCol w="595440"/>
                <a:gridCol w="745920"/>
                <a:gridCol w="665280"/>
                <a:gridCol w="746280"/>
                <a:gridCol w="663480"/>
                <a:gridCol w="1163520"/>
                <a:gridCol w="1163880"/>
              </a:tblGrid>
              <a:tr h="9442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ой лабораторной диагностик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,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25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0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 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75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25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: лаборантов             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47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6969240" y="4081320"/>
            <a:ext cx="1617480" cy="346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ая прямоугольная выноска 9"/>
          <p:cNvSpPr/>
          <p:nvPr/>
        </p:nvSpPr>
        <p:spPr>
          <a:xfrm>
            <a:off x="5207040" y="3222720"/>
            <a:ext cx="1739880" cy="635040"/>
          </a:xfrm>
          <a:prstGeom prst="wedgeRoundRectCallout">
            <a:avLst>
              <a:gd name="adj1" fmla="val 36912"/>
              <a:gd name="adj2" fmla="val 95833"/>
              <a:gd name="adj3" fmla="val 16667"/>
            </a:avLst>
          </a:prstGeom>
          <a:solidFill>
            <a:srgbClr val="464a72"/>
          </a:solidFill>
          <a:ln w="9360">
            <a:solidFill>
              <a:srgbClr val="464a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a8b00"/>
                </a:solidFill>
                <a:latin typeface="Arial"/>
              </a:rPr>
              <a:t>Высшее медицинское образовани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7"/>
          <p:cNvSpPr/>
          <p:nvPr/>
        </p:nvSpPr>
        <p:spPr>
          <a:xfrm rot="2580000">
            <a:off x="6078240" y="4719240"/>
            <a:ext cx="1782720" cy="1355760"/>
          </a:xfrm>
          <a:custGeom>
            <a:avLst/>
            <a:gdLst>
              <a:gd name="textAreaLeft" fmla="*/ 261000 w 1782720"/>
              <a:gd name="textAreaRight" fmla="*/ 1521720 w 1782720"/>
              <a:gd name="textAreaTop" fmla="*/ 198360 h 1355760"/>
              <a:gd name="textAreaBottom" fmla="*/ 1157400 h 1355760"/>
            </a:gdLst>
            <a:ahLst/>
            <a:rect l="textAreaLeft" t="textAreaTop" r="textAreaRight" b="textAreaBottom"/>
            <a:pathLst>
              <a:path w="21600" h="21600">
                <a:moveTo>
                  <a:pt x="18094" y="10228"/>
                </a:moveTo>
                <a:cubicBezTo>
                  <a:pt x="17796" y="6420"/>
                  <a:pt x="14619" y="3483"/>
                  <a:pt x="10800" y="3483"/>
                </a:cubicBezTo>
                <a:cubicBezTo>
                  <a:pt x="10762" y="3482"/>
                  <a:pt x="10724" y="3483"/>
                  <a:pt x="10687" y="3483"/>
                </a:cubicBezTo>
                <a:lnTo>
                  <a:pt x="10633" y="1"/>
                </a:lnTo>
                <a:cubicBezTo>
                  <a:pt x="10689" y="0"/>
                  <a:pt x="10744" y="-1"/>
                  <a:pt x="10800" y="0"/>
                </a:cubicBezTo>
                <a:cubicBezTo>
                  <a:pt x="16437" y="0"/>
                  <a:pt x="21126" y="4335"/>
                  <a:pt x="21566" y="9955"/>
                </a:cubicBezTo>
                <a:lnTo>
                  <a:pt x="24258" y="9744"/>
                </a:lnTo>
                <a:lnTo>
                  <a:pt x="20179" y="14520"/>
                </a:lnTo>
                <a:lnTo>
                  <a:pt x="15402" y="10439"/>
                </a:lnTo>
                <a:lnTo>
                  <a:pt x="18094" y="102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7772400" y="4649760"/>
            <a:ext cx="1122480" cy="409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ая прямоугольная выноска 12"/>
          <p:cNvSpPr/>
          <p:nvPr/>
        </p:nvSpPr>
        <p:spPr>
          <a:xfrm>
            <a:off x="2795760" y="5170320"/>
            <a:ext cx="3917880" cy="635040"/>
          </a:xfrm>
          <a:prstGeom prst="wedgeRoundRectCallout">
            <a:avLst>
              <a:gd name="adj1" fmla="val -38675"/>
              <a:gd name="adj2" fmla="val -79606"/>
              <a:gd name="adj3" fmla="val 16667"/>
            </a:avLst>
          </a:prstGeom>
          <a:solidFill>
            <a:srgbClr val="464a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a8b00"/>
                </a:solidFill>
                <a:latin typeface="Arial"/>
              </a:rPr>
              <a:t>Увеличение штатной численности и физлиц не должно быть. Вновь принятые специалисты  - на должность «Биолог»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517680" y="1143000"/>
          <a:ext cx="8173800" cy="329256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108"/>
          <p:cNvSpPr/>
          <p:nvPr/>
        </p:nvSpPr>
        <p:spPr>
          <a:xfrm>
            <a:off x="577800" y="4587840"/>
            <a:ext cx="808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азываем все должности врачей приемного отдел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братить внимание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оказываем должности «врач приемного отделения», независимо от специаль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8680" y="1316160"/>
            <a:ext cx="842472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8b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м учреждении штатное расписание </a:t>
            </a:r>
            <a:r>
              <a:rPr b="1" lang="ru-RU" sz="2000" spc="-1" strike="noStrike">
                <a:solidFill>
                  <a:srgbClr val="ea8b00"/>
                </a:solidFill>
                <a:latin typeface="Arial"/>
              </a:rPr>
              <a:t>составляется отдельно по бюджетным подразделениям, ОМС и оказывающим платные медицинские услуг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составлении в первую очередь учитывается установленный фонд оплаты труда и нормативная численность структурных подразделени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ea8b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55680" y="207504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920"/>
                <a:gridCol w="583920"/>
                <a:gridCol w="1024200"/>
                <a:gridCol w="87768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2"/>
          <p:cNvSpPr/>
          <p:nvPr/>
        </p:nvSpPr>
        <p:spPr>
          <a:xfrm>
            <a:off x="1719360" y="947880"/>
            <a:ext cx="657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7"/>
          <p:cNvSpPr/>
          <p:nvPr/>
        </p:nvSpPr>
        <p:spPr>
          <a:xfrm flipH="1">
            <a:off x="6984720" y="529272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7"/>
          <p:cNvSpPr/>
          <p:nvPr/>
        </p:nvSpPr>
        <p:spPr>
          <a:xfrm rot="18274800">
            <a:off x="7524720" y="4836600"/>
            <a:ext cx="731880" cy="817560"/>
          </a:xfrm>
          <a:custGeom>
            <a:avLst/>
            <a:gdLst>
              <a:gd name="textAreaLeft" fmla="*/ 106920 w 731880"/>
              <a:gd name="textAreaRight" fmla="*/ 624960 w 731880"/>
              <a:gd name="textAreaTop" fmla="*/ 119520 h 817560"/>
              <a:gd name="textAreaBottom" fmla="*/ 698040 h 817560"/>
            </a:gdLst>
            <a:ahLst/>
            <a:rect l="textAreaLeft" t="textAreaTop" r="textAreaRight" b="textAreaBottom"/>
            <a:pathLst>
              <a:path w="21600" h="21600">
                <a:moveTo>
                  <a:pt x="18094" y="10228"/>
                </a:moveTo>
                <a:cubicBezTo>
                  <a:pt x="17796" y="6420"/>
                  <a:pt x="14619" y="3483"/>
                  <a:pt x="10800" y="3483"/>
                </a:cubicBezTo>
                <a:cubicBezTo>
                  <a:pt x="10762" y="3482"/>
                  <a:pt x="10724" y="3483"/>
                  <a:pt x="10687" y="3483"/>
                </a:cubicBezTo>
                <a:lnTo>
                  <a:pt x="10633" y="1"/>
                </a:lnTo>
                <a:cubicBezTo>
                  <a:pt x="10689" y="0"/>
                  <a:pt x="10744" y="-1"/>
                  <a:pt x="10800" y="0"/>
                </a:cubicBezTo>
                <a:cubicBezTo>
                  <a:pt x="16437" y="0"/>
                  <a:pt x="21126" y="4335"/>
                  <a:pt x="21566" y="9955"/>
                </a:cubicBezTo>
                <a:lnTo>
                  <a:pt x="24258" y="9744"/>
                </a:lnTo>
                <a:lnTo>
                  <a:pt x="20179" y="14520"/>
                </a:lnTo>
                <a:lnTo>
                  <a:pt x="15402" y="10439"/>
                </a:lnTo>
                <a:lnTo>
                  <a:pt x="18094" y="102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и «скорой медицинской помощи», работающие в кабинетах неотложной помощи или в больницах скорой медицинской помощи указываются по графам «в амбулаторных условиях» или «в стационарных условиях» соответственно, при условии наличия должности «врач скорой медицинской помощи» в штатном расписании 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53880" y="620640"/>
          <a:ext cx="8533080" cy="594540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1280"/>
                <a:gridCol w="661680"/>
                <a:gridCol w="597240"/>
                <a:gridCol w="826920"/>
                <a:gridCol w="949320"/>
                <a:gridCol w="94788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84700"/>
                          </a:solidFill>
                          <a:latin typeface="Times New Roman"/>
                          <a:ea typeface="Times New Roman"/>
                        </a:rPr>
                        <a:t>терапевты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847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участковые цеховых врачебных участков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амбулатор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1538"/>
          <p:cNvSpPr/>
          <p:nvPr/>
        </p:nvSpPr>
        <p:spPr>
          <a:xfrm>
            <a:off x="2482920" y="3757680"/>
            <a:ext cx="6362640" cy="133020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96 может быть больше суммы строк с 97 по 100 за счет заведующих терапевтическим отделением и врачей-терапевтов (дневного стационара при поликлинике, консультативного кабинета, кабинета неотложной помощи …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60280" y="1424160"/>
          <a:ext cx="8532720" cy="320040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8b00"/>
                </a:solidFill>
                <a:latin typeface="Times New Roman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8b00"/>
                </a:solidFill>
                <a:latin typeface="Times New Roman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52360" y="363600"/>
          <a:ext cx="8672400" cy="59659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47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AutoShape 627"/>
          <p:cNvSpPr/>
          <p:nvPr/>
        </p:nvSpPr>
        <p:spPr>
          <a:xfrm>
            <a:off x="2257560" y="4906800"/>
            <a:ext cx="6553080" cy="787680"/>
          </a:xfrm>
          <a:prstGeom prst="wedgeRoundRectCallout">
            <a:avLst>
              <a:gd name="adj1" fmla="val 7148"/>
              <a:gd name="adj2" fmla="val 116912"/>
              <a:gd name="adj3" fmla="val 16667"/>
            </a:avLst>
          </a:prstGeom>
          <a:solidFill>
            <a:srgbClr val="3f4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8b00"/>
                </a:solidFill>
                <a:latin typeface="Times New Roman"/>
              </a:rPr>
              <a:t>Указываются сведения о числе физических лиц врачей, имеющих два и более сертификат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28"/>
          <p:cNvSpPr/>
          <p:nvPr/>
        </p:nvSpPr>
        <p:spPr>
          <a:xfrm>
            <a:off x="2259000" y="3924360"/>
            <a:ext cx="6591240" cy="87300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8b00"/>
                </a:solidFill>
                <a:latin typeface="Times New Roman"/>
                <a:ea typeface="Times New Roman"/>
              </a:rPr>
              <a:t>Сумма строк 124 и 125 равна строке 1. По подчиненности (федеральные учреждения, подчинение субъекта РФ) медицинские организации распределяются по состоянию на конец отчетного год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29"/>
          <p:cNvSpPr/>
          <p:nvPr/>
        </p:nvSpPr>
        <p:spPr>
          <a:xfrm>
            <a:off x="2279520" y="2921040"/>
            <a:ext cx="6607440" cy="762120"/>
          </a:xfrm>
          <a:prstGeom prst="rect">
            <a:avLst/>
          </a:prstGeom>
          <a:solidFill>
            <a:srgbClr val="f3c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84700"/>
                </a:solidFill>
                <a:latin typeface="Times New Roman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14160" y="906480"/>
            <a:ext cx="830556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700"/>
              </a:spcBef>
              <a:buClr>
                <a:srgbClr val="992f5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2f57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2f57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000" spc="-1" strike="noStrike">
                <a:solidFill>
                  <a:srgbClr val="992f57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47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84700"/>
                </a:solidFill>
                <a:latin typeface="Times New Roman"/>
              </a:rPr>
              <a:t>врачи токсикологи (добавле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7"/>
          <p:cNvSpPr/>
          <p:nvPr/>
        </p:nvSpPr>
        <p:spPr>
          <a:xfrm>
            <a:off x="649440" y="5900760"/>
            <a:ext cx="462744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57040" y="453960"/>
          <a:ext cx="8734680" cy="623088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915"/>
          <p:cNvSpPr/>
          <p:nvPr/>
        </p:nvSpPr>
        <p:spPr>
          <a:xfrm>
            <a:off x="3040200" y="3105000"/>
            <a:ext cx="5744880" cy="870120"/>
          </a:xfrm>
          <a:prstGeom prst="rect">
            <a:avLst/>
          </a:prstGeom>
          <a:solidFill>
            <a:srgbClr val="b3de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17"/>
          <p:cNvSpPr/>
          <p:nvPr/>
        </p:nvSpPr>
        <p:spPr>
          <a:xfrm>
            <a:off x="3125880" y="4444920"/>
            <a:ext cx="5586480" cy="452520"/>
          </a:xfrm>
          <a:prstGeom prst="rect">
            <a:avLst/>
          </a:prstGeom>
          <a:solidFill>
            <a:srgbClr val="b3de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Выноска со стрелкой вправо 2"/>
          <p:cNvSpPr/>
          <p:nvPr/>
        </p:nvSpPr>
        <p:spPr>
          <a:xfrm>
            <a:off x="2978280" y="5500800"/>
            <a:ext cx="685800" cy="1154160"/>
          </a:xfrm>
          <a:prstGeom prst="rightArrowCallout">
            <a:avLst>
              <a:gd name="adj1" fmla="val 25013"/>
              <a:gd name="adj2" fmla="val 25010"/>
              <a:gd name="adj3" fmla="val 25000"/>
              <a:gd name="adj4" fmla="val 64977"/>
            </a:avLst>
          </a:prstGeom>
          <a:solidFill>
            <a:srgbClr val="41adc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17"/>
          <p:cNvSpPr/>
          <p:nvPr/>
        </p:nvSpPr>
        <p:spPr>
          <a:xfrm>
            <a:off x="3706920" y="5796000"/>
            <a:ext cx="5087880" cy="39672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r>
              <a:rPr b="1" lang="ru-RU" sz="1600" spc="-1" strike="noStrike">
                <a:solidFill>
                  <a:srgbClr val="ea8b00"/>
                </a:solidFill>
                <a:latin typeface="Times New Roman"/>
              </a:rPr>
              <a:t> Добавлены строки 135,136,137,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93561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Показываются специалисты с высшим или средним медицинским образованием, имеющие данную специальность, независимо от должности, которую они занимают в среднем мед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992f57"/>
                </a:solidFill>
                <a:latin typeface="Times New Roman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992f5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(стр. 143)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3de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3de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3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8b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8b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719"/>
          <p:cNvSpPr/>
          <p:nvPr/>
        </p:nvSpPr>
        <p:spPr>
          <a:xfrm>
            <a:off x="2527200" y="3151080"/>
            <a:ext cx="6189840" cy="1374840"/>
          </a:xfrm>
          <a:prstGeom prst="rect">
            <a:avLst/>
          </a:prstGeom>
          <a:solidFill>
            <a:srgbClr val="b0d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992f57"/>
                </a:solidFill>
                <a:uFillTx/>
                <a:latin typeface="Times New Roman"/>
              </a:rPr>
              <a:t>в строке 150</a:t>
            </a: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04"/>
          <p:cNvSpPr/>
          <p:nvPr/>
        </p:nvSpPr>
        <p:spPr>
          <a:xfrm>
            <a:off x="2494080" y="4781520"/>
            <a:ext cx="6273720" cy="1758960"/>
          </a:xfrm>
          <a:prstGeom prst="rect">
            <a:avLst/>
          </a:prstGeom>
          <a:solidFill>
            <a:srgbClr val="b0d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992f57"/>
                </a:solidFill>
                <a:uFillTx/>
                <a:latin typeface="Times New Roman"/>
              </a:rPr>
              <a:t>в строке 202</a:t>
            </a: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 указывать должности помощников: врача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эпидемиолога, врача-паразитолога, врача по гигиене детей 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подростков, врача по гигиене питания, врача по гигиене труда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врача по гигиеническому воспитанию, врача по коммунально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62080" y="636480"/>
          <a:ext cx="8609040" cy="6007320"/>
        </p:xfrm>
        <a:graphic>
          <a:graphicData uri="http://schemas.openxmlformats.org/drawingml/2006/table">
            <a:tbl>
              <a:tblPr/>
              <a:tblGrid>
                <a:gridCol w="1758960"/>
                <a:gridCol w="412560"/>
                <a:gridCol w="636480"/>
                <a:gridCol w="617760"/>
                <a:gridCol w="807840"/>
                <a:gridCol w="728640"/>
                <a:gridCol w="657360"/>
                <a:gridCol w="581040"/>
                <a:gridCol w="804960"/>
                <a:gridCol w="801720"/>
                <a:gridCol w="80172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Прямоугольник 2"/>
          <p:cNvSpPr/>
          <p:nvPr/>
        </p:nvSpPr>
        <p:spPr>
          <a:xfrm>
            <a:off x="2486160" y="2921040"/>
            <a:ext cx="6368760" cy="490320"/>
          </a:xfrm>
          <a:prstGeom prst="rect">
            <a:avLst/>
          </a:prstGeom>
          <a:solidFill>
            <a:srgbClr val="41adc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9 больше или равна сумме строк с 160 по 162 по графам 9, 12-17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2486160" y="3921120"/>
            <a:ext cx="6367320" cy="658800"/>
          </a:xfrm>
          <a:prstGeom prst="rect">
            <a:avLst/>
          </a:prstGeom>
          <a:solidFill>
            <a:srgbClr val="41adc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63 больше или равна сумме строк с 164 по 166 по графам 9, 12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2486160" y="5067360"/>
            <a:ext cx="6356160" cy="716040"/>
          </a:xfrm>
          <a:prstGeom prst="rect">
            <a:avLst/>
          </a:prstGeom>
          <a:solidFill>
            <a:srgbClr val="41adc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 по строке 198 (медицинские технологи) больше или равна сумме строк с 199 по 201 по графам 9, 12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одзаголовок 2"/>
          <p:cNvSpPr/>
          <p:nvPr/>
        </p:nvSpPr>
        <p:spPr>
          <a:xfrm>
            <a:off x="1582560" y="244440"/>
            <a:ext cx="6048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"/>
          <p:cNvPicPr/>
          <p:nvPr/>
        </p:nvPicPr>
        <p:blipFill>
          <a:blip r:embed="rId1"/>
          <a:srcRect l="9003" t="6800" r="9057" b="6080"/>
          <a:stretch/>
        </p:blipFill>
        <p:spPr>
          <a:xfrm>
            <a:off x="324000" y="1125360"/>
            <a:ext cx="8540640" cy="5543640"/>
          </a:xfrm>
          <a:prstGeom prst="rect">
            <a:avLst/>
          </a:prstGeom>
          <a:ln w="0">
            <a:noFill/>
          </a:ln>
        </p:spPr>
      </p:pic>
      <p:sp>
        <p:nvSpPr>
          <p:cNvPr id="61" name="Овал 4"/>
          <p:cNvSpPr/>
          <p:nvPr/>
        </p:nvSpPr>
        <p:spPr>
          <a:xfrm>
            <a:off x="468360" y="3059280"/>
            <a:ext cx="2311200" cy="62064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477720" y="1146240"/>
          <a:ext cx="8229600" cy="4635360"/>
        </p:xfrm>
        <a:graphic>
          <a:graphicData uri="http://schemas.openxmlformats.org/drawingml/2006/table">
            <a:tbl>
              <a:tblPr/>
              <a:tblGrid>
                <a:gridCol w="2813040"/>
                <a:gridCol w="716040"/>
                <a:gridCol w="47005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Бактериолог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истология, Лабораторное дело, Лабораторная диагностика, </a:t>
                      </a:r>
                      <a:r>
                        <a:rPr b="1" lang="ru-RU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Судебно-медицинская экспертиз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Бактериолог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истология, Лабораторное дело, Лабораторная диагностика, </a:t>
                      </a:r>
                      <a:r>
                        <a:rPr b="1" lang="ru-RU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Судебно-медицинская экспертиз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1538"/>
          <p:cNvSpPr/>
          <p:nvPr/>
        </p:nvSpPr>
        <p:spPr>
          <a:xfrm>
            <a:off x="4025880" y="2427120"/>
            <a:ext cx="4683240" cy="763920"/>
          </a:xfrm>
          <a:prstGeom prst="rect">
            <a:avLst/>
          </a:prstGeom>
          <a:solidFill>
            <a:srgbClr val="b0d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Разница =159-160-161-162: бактериология, судебно-медицинская экспертиз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38"/>
          <p:cNvSpPr/>
          <p:nvPr/>
        </p:nvSpPr>
        <p:spPr>
          <a:xfrm>
            <a:off x="4021200" y="4575240"/>
            <a:ext cx="4684680" cy="763560"/>
          </a:xfrm>
          <a:prstGeom prst="rect">
            <a:avLst/>
          </a:prstGeom>
          <a:solidFill>
            <a:srgbClr val="b0d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Разница =163-164-165-166: бактериология, судебно-медицинская экспертиз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 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859"/>
          <p:cNvSpPr/>
          <p:nvPr/>
        </p:nvSpPr>
        <p:spPr>
          <a:xfrm>
            <a:off x="2490840" y="4408560"/>
            <a:ext cx="6345360" cy="91440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Строка 167 должна быть больше суммы строк с 168 по 170. То есть специалисты с высш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62"/>
          <p:cNvSpPr/>
          <p:nvPr/>
        </p:nvSpPr>
        <p:spPr>
          <a:xfrm>
            <a:off x="2475000" y="2806560"/>
            <a:ext cx="6370560" cy="1041480"/>
          </a:xfrm>
          <a:prstGeom prst="rect">
            <a:avLst/>
          </a:prstGeom>
          <a:solidFill>
            <a:srgbClr val="b0d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В строках 168-173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63"/>
          <p:cNvSpPr/>
          <p:nvPr/>
        </p:nvSpPr>
        <p:spPr>
          <a:xfrm>
            <a:off x="2482920" y="5415120"/>
            <a:ext cx="6337080" cy="91440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Строка 167 должна быть больше суммы строк с 171 по 173. То есть специалисты со средн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91960" y="193680"/>
          <a:ext cx="8629920" cy="6216480"/>
        </p:xfrm>
        <a:graphic>
          <a:graphicData uri="http://schemas.openxmlformats.org/drawingml/2006/table">
            <a:tbl>
              <a:tblPr/>
              <a:tblGrid>
                <a:gridCol w="1643040"/>
                <a:gridCol w="532080"/>
                <a:gridCol w="538200"/>
                <a:gridCol w="633240"/>
                <a:gridCol w="676440"/>
                <a:gridCol w="615960"/>
                <a:gridCol w="661680"/>
                <a:gridCol w="601920"/>
                <a:gridCol w="723960"/>
                <a:gridCol w="992160"/>
                <a:gridCol w="1011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7: анестез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885"/>
          <p:cNvSpPr/>
          <p:nvPr/>
        </p:nvSpPr>
        <p:spPr>
          <a:xfrm>
            <a:off x="2516040" y="3195720"/>
            <a:ext cx="6321600" cy="44424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Строка 167 может быть больше суммы строк с 174 по 19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85"/>
          <p:cNvSpPr/>
          <p:nvPr/>
        </p:nvSpPr>
        <p:spPr>
          <a:xfrm>
            <a:off x="2490840" y="4038480"/>
            <a:ext cx="6264360" cy="52416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2f57"/>
                </a:solidFill>
                <a:latin typeface="Times New Roman"/>
              </a:rPr>
              <a:t>Главная медсестра включается только в строку 16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676440"/>
                <a:gridCol w="59976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52"/>
          <p:cNvSpPr/>
          <p:nvPr/>
        </p:nvSpPr>
        <p:spPr>
          <a:xfrm>
            <a:off x="446040" y="5267160"/>
            <a:ext cx="8361360" cy="7700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r>
              <a:rPr b="1" lang="ru-RU" sz="1800" spc="-1" strike="noStrike">
                <a:solidFill>
                  <a:srgbClr val="ea8b00"/>
                </a:solidFill>
                <a:latin typeface="Times New Roman"/>
                <a:ea typeface="Times New Roman"/>
              </a:rPr>
              <a:t>Удалена строка «Инструкторы по лечебной физкультуре (без среднего медицинского образования)» (ранее строка 213, ф.№30 за 2017 год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58840" y="272880"/>
          <a:ext cx="8602560" cy="4038840"/>
        </p:xfrm>
        <a:graphic>
          <a:graphicData uri="http://schemas.openxmlformats.org/drawingml/2006/table">
            <a:tbl>
              <a:tblPr/>
              <a:tblGrid>
                <a:gridCol w="1636560"/>
                <a:gridCol w="425520"/>
                <a:gridCol w="642960"/>
                <a:gridCol w="630360"/>
                <a:gridCol w="674640"/>
                <a:gridCol w="612720"/>
                <a:gridCol w="658800"/>
                <a:gridCol w="600120"/>
                <a:gridCol w="722160"/>
                <a:gridCol w="990720"/>
                <a:gridCol w="1008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ладшие медицинские сестры по уходу за больны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550"/>
          <p:cNvSpPr/>
          <p:nvPr/>
        </p:nvSpPr>
        <p:spPr>
          <a:xfrm>
            <a:off x="2438280" y="2522520"/>
            <a:ext cx="6237360" cy="91764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Строка 217 может быть больше суммы строк 218, 219 за счет санитар-водителей, сестры-хозяйки, фасовщик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52"/>
          <p:cNvSpPr/>
          <p:nvPr/>
        </p:nvSpPr>
        <p:spPr>
          <a:xfrm>
            <a:off x="326880" y="4311720"/>
            <a:ext cx="8575920" cy="126216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На должность младшей медицинской сестры по  уходу  за  больными назначается лицо, имеющее: 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92f5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среднее (полное) общее образование и дополнительную подготовку на курсах младших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       </a:t>
            </a: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медицинских  сестер по уходу за больными без предъявления требований к стажу работы; 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- Среднее профессиональное образование по специальностям "Сестринское дело", "Лечебное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дело", "Акушерское дело" – образовательные программы подготовки квалифицированных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рабочих (служащих) по должности "Младшая медицинская сестра по уходу за больными"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53"/>
          <p:cNvSpPr/>
          <p:nvPr/>
        </p:nvSpPr>
        <p:spPr>
          <a:xfrm>
            <a:off x="291960" y="5673600"/>
            <a:ext cx="8542440" cy="94932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Санитар — младший медицинский работник, выполняющий вспомогательные функции в медицинской практике. Работа санитаром не требует медицинского образования.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Среднее общее образование и профессиональное обучение по должности "Санитар"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14280" y="336600"/>
          <a:ext cx="8460000" cy="4552920"/>
        </p:xfrm>
        <a:graphic>
          <a:graphicData uri="http://schemas.openxmlformats.org/drawingml/2006/table">
            <a:tbl>
              <a:tblPr/>
              <a:tblGrid>
                <a:gridCol w="1609920"/>
                <a:gridCol w="417240"/>
                <a:gridCol w="631800"/>
                <a:gridCol w="619200"/>
                <a:gridCol w="666720"/>
                <a:gridCol w="600120"/>
                <a:gridCol w="650880"/>
                <a:gridCol w="588960"/>
                <a:gridCol w="711360"/>
                <a:gridCol w="974520"/>
                <a:gridCol w="98928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социальные работн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 скор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-специал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601"/>
          <p:cNvSpPr/>
          <p:nvPr/>
        </p:nvSpPr>
        <p:spPr>
          <a:xfrm>
            <a:off x="2427120" y="2787480"/>
            <a:ext cx="6289920" cy="143064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2f57"/>
                </a:solidFill>
                <a:latin typeface="Times New Roman"/>
              </a:rPr>
              <a:t>В строку 220 включаются: </a:t>
            </a: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экономисты, программисты, инженеры, юристы, операторы, бухгалтеры, завхозы, работники кухонь, истопники, шоферы и другие категории работников, не относящиеся к медицинскому персонал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02"/>
          <p:cNvSpPr/>
          <p:nvPr/>
        </p:nvSpPr>
        <p:spPr>
          <a:xfrm>
            <a:off x="2617920" y="4398840"/>
            <a:ext cx="6114960" cy="1044720"/>
          </a:xfrm>
          <a:prstGeom prst="wedgeRoundRectCallout">
            <a:avLst>
              <a:gd name="adj1" fmla="val -56231"/>
              <a:gd name="adj2" fmla="val -17324"/>
              <a:gd name="adj3" fmla="val 16667"/>
            </a:avLst>
          </a:prstGeom>
          <a:solidFill>
            <a:srgbClr val="ffd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в строку 223 включаются: программист, инженер-программист, администратор компьютерных сетей, специалист по информационным системам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276120" y="5705640"/>
            <a:ext cx="87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личие сертификата и категории по прочему персоналу (строка 220) указывается только для педагогических работников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44520" y="979560"/>
          <a:ext cx="8570880" cy="4714920"/>
        </p:xfrm>
        <a:graphic>
          <a:graphicData uri="http://schemas.openxmlformats.org/drawingml/2006/table">
            <a:tbl>
              <a:tblPr/>
              <a:tblGrid>
                <a:gridCol w="2333520"/>
                <a:gridCol w="500040"/>
                <a:gridCol w="527040"/>
                <a:gridCol w="587520"/>
                <a:gridCol w="615960"/>
                <a:gridCol w="581040"/>
                <a:gridCol w="681120"/>
                <a:gridCol w="652320"/>
                <a:gridCol w="676440"/>
                <a:gridCol w="733320"/>
                <a:gridCol w="68256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</a:t>
                      </a:r>
                      <a:r>
                        <a:rPr b="0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немедицинским образованием, занимающих должности врач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рачей:  лаборантов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694"/>
          <p:cNvSpPr/>
          <p:nvPr/>
        </p:nvSpPr>
        <p:spPr>
          <a:xfrm>
            <a:off x="374760" y="5673600"/>
            <a:ext cx="8523000" cy="9651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8b00"/>
                </a:solidFill>
                <a:latin typeface="Times New Roman"/>
              </a:rPr>
              <a:t>Строки с 225 по 232 заполняются по графам 9, 10, 11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8b00"/>
                </a:solidFill>
                <a:latin typeface="Times New Roman"/>
              </a:rPr>
              <a:t>Строки с 225 по 232 по графам с 3 по 8, с 12 по 15 не заполнят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без медицинского образования занимающих должности 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их регистраторов, медицинских дезинфекторов, инструкторов по лечебной физкультуре</a:t>
            </a:r>
            <a:r>
              <a:rPr b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. </a:t>
            </a:r>
            <a:r>
              <a:rPr b="1" i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ез медицинского образования </a:t>
            </a:r>
            <a:r>
              <a:rPr b="1" lang="ru-RU" sz="1400" spc="-1" strike="noStrike">
                <a:solidFill>
                  <a:srgbClr val="732341"/>
                </a:solidFill>
                <a:latin typeface="Times New Roman"/>
                <a:ea typeface="Times New Roman"/>
              </a:rPr>
              <a:t>(в том числе студентов медицинских Вузов, имеющих 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33280" y="250920"/>
          <a:ext cx="8720280" cy="6245280"/>
        </p:xfrm>
        <a:graphic>
          <a:graphicData uri="http://schemas.openxmlformats.org/drawingml/2006/table">
            <a:tbl>
              <a:tblPr/>
              <a:tblGrid>
                <a:gridCol w="2855880"/>
                <a:gridCol w="527040"/>
                <a:gridCol w="1400400"/>
                <a:gridCol w="788760"/>
                <a:gridCol w="781200"/>
                <a:gridCol w="782640"/>
                <a:gridCol w="803160"/>
                <a:gridCol w="781200"/>
              </a:tblGrid>
              <a:tr h="4568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без медицинского образования занимающих должности среднего медицинского персонала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1108"/>
          <p:cNvSpPr/>
          <p:nvPr/>
        </p:nvSpPr>
        <p:spPr>
          <a:xfrm>
            <a:off x="3762360" y="2625840"/>
            <a:ext cx="5275440" cy="131292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2341"/>
                </a:solidFill>
                <a:latin typeface="Times New Roman"/>
              </a:rPr>
              <a:t>Всего физических лиц в медицинских организациях равно сумме строк 224+225+229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"/>
          <p:cNvSpPr/>
          <p:nvPr/>
        </p:nvSpPr>
        <p:spPr>
          <a:xfrm>
            <a:off x="3794040" y="4803840"/>
            <a:ext cx="5211720" cy="1471680"/>
          </a:xfrm>
          <a:prstGeom prst="rect">
            <a:avLst/>
          </a:prstGeom>
          <a:solidFill>
            <a:srgbClr val="464a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c59"/>
                </a:solidFill>
                <a:latin typeface="Times New Roman"/>
                <a:ea typeface="Times New Roman"/>
              </a:rPr>
              <a:t>Внимание! Строки 225 и 229 включают в себ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ФИЗИЧЕСКИЕ ЛИЦА </a:t>
            </a:r>
            <a:r>
              <a:rPr b="1" lang="ru-RU" sz="1800" spc="-1" strike="noStrike">
                <a:solidFill>
                  <a:srgbClr val="ffbc59"/>
                </a:solidFill>
                <a:latin typeface="Times New Roman"/>
                <a:ea typeface="Times New Roman"/>
              </a:rPr>
              <a:t>специалистов с ВНО и лиц без медицинского образования,  занимающие должности врачей и среднего медицинского 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отделений (кабинетов) профилактики (из таблицы 1100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1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Таблица измен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ru-RU" sz="1600" spc="-1" strike="noStrike">
                <a:solidFill>
                  <a:srgbClr val="a93561"/>
                </a:solidFill>
                <a:latin typeface="Times New Roman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Выноска 1 (с границей) 1"/>
          <p:cNvSpPr/>
          <p:nvPr/>
        </p:nvSpPr>
        <p:spPr>
          <a:xfrm>
            <a:off x="7542360" y="677880"/>
            <a:ext cx="1601640" cy="10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297" y="35221"/>
                </a:moveTo>
                <a:lnTo>
                  <a:pt x="-1028" y="2404"/>
                </a:lnTo>
              </a:path>
              <a:path w="21600" h="21600">
                <a:moveTo>
                  <a:pt x="-1028" y="0"/>
                </a:moveTo>
                <a:lnTo>
                  <a:pt x="-1028" y="21600"/>
                </a:lnTo>
              </a:path>
            </a:pathLst>
          </a:custGeom>
          <a:solidFill>
            <a:srgbClr val="41adc3"/>
          </a:solidFill>
          <a:ln w="1584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 графы «штатные должности», «физические лица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3"/>
          <p:cNvSpPr/>
          <p:nvPr/>
        </p:nvSpPr>
        <p:spPr>
          <a:xfrm>
            <a:off x="9777240" y="2013120"/>
            <a:ext cx="254160" cy="1307880"/>
          </a:xfrm>
          <a:prstGeom prst="line">
            <a:avLst/>
          </a:prstGeom>
          <a:ln w="19080">
            <a:solidFill>
              <a:srgbClr val="3ca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9360" y="1050840"/>
            <a:ext cx="86644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ea8b00"/>
                </a:solidFill>
                <a:latin typeface="Arial"/>
              </a:rPr>
              <a:t>Штатное расписание определяет структуру учрежд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исленность должностей по каждому наименованию в конкретных подразделениях и в целом по учреждению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Штатная структура и штатное расписание </a:t>
            </a:r>
            <a:r>
              <a:rPr b="1" lang="ru-RU" sz="1800" spc="-1" strike="noStrike">
                <a:solidFill>
                  <a:srgbClr val="ea8b00"/>
                </a:solidFill>
                <a:latin typeface="Arial"/>
              </a:rPr>
              <a:t>разрабатываются учреждениями здравоохранения самостоятельно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Штатное расписание составляется утверждается по состоянию на 1 января ежегодно. </a:t>
            </a:r>
            <a:r>
              <a:rPr b="1" lang="ru-RU" sz="1800" spc="-1" strike="noStrike">
                <a:solidFill>
                  <a:srgbClr val="ea8b00"/>
                </a:solidFill>
                <a:latin typeface="Arial"/>
              </a:rPr>
              <a:t>Переутверждение штатного расписания на предстоящий год не обязательно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ли в него не вносились изменения или вносились незначительные изменения. В этом случае оформляется перечень изменени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штатном расписании проставляется </a:t>
            </a:r>
            <a:r>
              <a:rPr b="1" lang="ru-RU" sz="1800" spc="-1" strike="noStrike">
                <a:solidFill>
                  <a:srgbClr val="ea8b00"/>
                </a:solidFill>
                <a:latin typeface="Arial"/>
              </a:rPr>
              <a:t>итоговая численность должно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 численность должностей врачебного, среднего и младшего медицинского и фармацевтического 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Должности, по которым предусматривается содержание неполной штатной единицы, </a:t>
            </a:r>
            <a:r>
              <a:rPr b="1" lang="ru-RU" sz="1800" spc="-1" strike="noStrike">
                <a:solidFill>
                  <a:srgbClr val="ea8b00"/>
                </a:solidFill>
                <a:latin typeface="Arial"/>
              </a:rPr>
              <a:t>указываются в соответствующих доля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,25, 0,50, 0,75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428840" y="38088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3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77800" y="3581280"/>
            <a:ext cx="819468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дения по всем строкам не должны превышать данные в таблице 1100 строка 143 графы 5, 6 и 10 соответственн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личие должностей в кабинете указывается в том случае, когда организован кабинет, то есть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имеется выделенное для него помещение, аппаратура и оборудовани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существляется учет в установленном порядк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утверждено положение о кабинет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00240" y="838080"/>
          <a:ext cx="6686640" cy="2498760"/>
        </p:xfrm>
        <a:graphic>
          <a:graphicData uri="http://schemas.openxmlformats.org/drawingml/2006/table">
            <a:tbl>
              <a:tblPr/>
              <a:tblGrid>
                <a:gridCol w="5014800"/>
                <a:gridCol w="776160"/>
                <a:gridCol w="895680"/>
              </a:tblGrid>
              <a:tr h="5796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32341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смотровых кабинетов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32341"/>
                          </a:solidFill>
                          <a:latin typeface="Times New Roman"/>
                          <a:ea typeface="Times New Roman"/>
                        </a:rPr>
                        <a:t>(из таблицы 1100)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должностей среднего медицинского персонала (стр. 143)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смотровом кабинете: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 основных работников на занятых должност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486080" y="26676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9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61800" y="765000"/>
          <a:ext cx="8553600" cy="5973840"/>
        </p:xfrm>
        <a:graphic>
          <a:graphicData uri="http://schemas.openxmlformats.org/drawingml/2006/table">
            <a:tbl>
              <a:tblPr/>
              <a:tblGrid>
                <a:gridCol w="2208240"/>
                <a:gridCol w="507960"/>
                <a:gridCol w="344520"/>
                <a:gridCol w="781200"/>
                <a:gridCol w="787320"/>
                <a:gridCol w="800280"/>
                <a:gridCol w="771480"/>
                <a:gridCol w="782640"/>
                <a:gridCol w="785880"/>
                <a:gridCol w="784080"/>
              </a:tblGrid>
              <a:tr h="3049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и фармацевтические работни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лных лет по состоянию на конец отчетного год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4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-5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-6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и боле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организации здравоохранения (на должностях руководителей и их заместителей)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Rectangle 1038"/>
          <p:cNvSpPr/>
          <p:nvPr/>
        </p:nvSpPr>
        <p:spPr>
          <a:xfrm>
            <a:off x="3513240" y="2425680"/>
            <a:ext cx="5230800" cy="1981080"/>
          </a:xfrm>
          <a:prstGeom prst="rect">
            <a:avLst/>
          </a:prstGeom>
          <a:solidFill>
            <a:srgbClr val="eea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Суммы строк по полу по должностям в таблице должны быть равны  соответствующим данным таблицы 110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Например, сумма строк 1+2 по графе 4 должна быть равна строке 1 по графе 9 таблицы 110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Возраст работников берется по состоянию на конец отчетного года (полных лет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40"/>
          <p:cNvSpPr/>
          <p:nvPr/>
        </p:nvSpPr>
        <p:spPr>
          <a:xfrm>
            <a:off x="3554280" y="5213520"/>
            <a:ext cx="5187960" cy="609480"/>
          </a:xfrm>
          <a:prstGeom prst="rect">
            <a:avLst/>
          </a:prstGeom>
          <a:solidFill>
            <a:srgbClr val="eea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Сумма строк 11 и 12 по графе 4 должна быть равна строке 127 по графе 9 таблицы 110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42"/>
          <p:cNvSpPr/>
          <p:nvPr/>
        </p:nvSpPr>
        <p:spPr>
          <a:xfrm>
            <a:off x="3537000" y="4437000"/>
            <a:ext cx="5229000" cy="60984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Сумма строк 3 и 4 по графе 4 должна быть равна строке 4 по графе 9 таблицы 110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40"/>
          <p:cNvSpPr/>
          <p:nvPr/>
        </p:nvSpPr>
        <p:spPr>
          <a:xfrm>
            <a:off x="3538440" y="5951520"/>
            <a:ext cx="5205600" cy="60948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Графа 4 должна быть равна сумме граф с 5 по 10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486080" y="29700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1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4"/>
          <p:cNvSpPr/>
          <p:nvPr/>
        </p:nvSpPr>
        <p:spPr>
          <a:xfrm>
            <a:off x="2809800" y="23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86"/>
          <p:cNvSpPr/>
          <p:nvPr/>
        </p:nvSpPr>
        <p:spPr>
          <a:xfrm>
            <a:off x="3343320" y="305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92000" y="838080"/>
          <a:ext cx="7412040" cy="3932280"/>
        </p:xfrm>
        <a:graphic>
          <a:graphicData uri="http://schemas.openxmlformats.org/drawingml/2006/table">
            <a:tbl>
              <a:tblPr/>
              <a:tblGrid>
                <a:gridCol w="882720"/>
                <a:gridCol w="587520"/>
                <a:gridCol w="631800"/>
                <a:gridCol w="644400"/>
                <a:gridCol w="447840"/>
                <a:gridCol w="639720"/>
                <a:gridCol w="779400"/>
                <a:gridCol w="771480"/>
                <a:gridCol w="447840"/>
                <a:gridCol w="685800"/>
                <a:gridCol w="893520"/>
              </a:tblGrid>
              <a:tr h="30492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, находящихся в декретном и долгосрочном отпуске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работающи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Терапевт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Педиатр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ВОП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с терапевтами участковы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с педиатрами участковы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с ВОП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497"/>
          <p:cNvSpPr/>
          <p:nvPr/>
        </p:nvSpPr>
        <p:spPr>
          <a:xfrm>
            <a:off x="415800" y="5132520"/>
            <a:ext cx="8410680" cy="1425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10 «Число физических лиц основных работников, находящихся в декретном и долгосрочном отпуске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а, в связи с внесением изменений в таблицу 1100, где добавлена графа 17 «Находятся в декретном и долгосрочном отпуске (из гр.9), чел.)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02"/>
          <p:cNvSpPr/>
          <p:nvPr/>
        </p:nvSpPr>
        <p:spPr>
          <a:xfrm>
            <a:off x="3867120" y="1279440"/>
            <a:ext cx="508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 ТАБЛИЦА УДАЛ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2"/>
          <p:cNvSpPr/>
          <p:nvPr/>
        </p:nvSpPr>
        <p:spPr>
          <a:xfrm>
            <a:off x="1747800" y="604800"/>
            <a:ext cx="8496360" cy="4184640"/>
          </a:xfrm>
          <a:prstGeom prst="line">
            <a:avLst/>
          </a:prstGeom>
          <a:ln w="38160">
            <a:solidFill>
              <a:srgbClr val="3ca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5"/>
          <p:cNvSpPr/>
          <p:nvPr/>
        </p:nvSpPr>
        <p:spPr>
          <a:xfrm flipH="1">
            <a:off x="1676160" y="549360"/>
            <a:ext cx="7956360" cy="4464000"/>
          </a:xfrm>
          <a:prstGeom prst="line">
            <a:avLst/>
          </a:prstGeom>
          <a:ln w="38160">
            <a:solidFill>
              <a:srgbClr val="3ca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4700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568440" y="1483920"/>
            <a:ext cx="8281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700"/>
                </a:solidFill>
                <a:latin typeface="Arial"/>
                <a:ea typeface="Times New Roman"/>
              </a:rPr>
              <a:t>Наименования должностей заместителей руководите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цинской организации (главного врача, директора, заведующего, начальника) дополняются наименованием раздела работы, руководство которой он осуществляет. Например, "заместитель главного врача по медицинской части", "заместитель главного врача по работе с сестринским персоналом" и др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700"/>
                </a:solidFill>
                <a:latin typeface="Arial"/>
                <a:ea typeface="Times New Roman"/>
              </a:rPr>
              <a:t>Наименования должностей руководителей структурных подразделен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делов, отделений, лабораторий, кабинетов, отрядов и др.) дополняются наименованием врачебной должности, соответствующей специальности по профилю структурного подразделения. Например, "заведующий хирургическим отделением - врач-хирург"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9e12"/>
                </a:solidFill>
                <a:latin typeface="Arial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5f9e12"/>
                </a:solidFill>
                <a:latin typeface="Arial"/>
              </a:rPr>
              <a:t>                            Должность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5120" y="3151080"/>
          <a:ext cx="8305920" cy="280368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f9e12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f9e12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28600" y="1371600"/>
          <a:ext cx="8686800" cy="435600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 стати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апевт участко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чебное дело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врачебная практика (семейная медицина)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ап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8b00"/>
                </a:solidFill>
                <a:latin typeface="Times New Roman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ea8b00"/>
                </a:solidFill>
                <a:latin typeface="Times New Roman"/>
              </a:rPr>
              <a:t>особого типа</a:t>
            </a:r>
            <a:r>
              <a:rPr b="1" lang="ru-RU" sz="1600" spc="-1" strike="noStrike">
                <a:solidFill>
                  <a:srgbClr val="ea8b00"/>
                </a:solidFill>
                <a:latin typeface="Times New Roman"/>
              </a:rPr>
              <a:t>,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8b00"/>
                </a:solidFill>
                <a:latin typeface="Times New Roman"/>
              </a:rPr>
              <a:t>При этом если такая 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user</cp:lastModifiedBy>
  <cp:lastPrinted>2018-11-27T04:13:37Z</cp:lastPrinted>
  <dcterms:modified xsi:type="dcterms:W3CDTF">2018-12-14T07:03:31Z</dcterms:modified>
  <cp:revision>1141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