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02B-C958-45AA-994E-6D640BB4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189-11B7-4C2B-B405-F7573A7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E60-1245-4473-84DD-F64128CD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DCA-182D-46AB-B544-40B6ED23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C01-BBF4-49B1-8EFC-1A4D7C2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A7-CDE8-4A62-85F2-CB3D2783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381-8788-4543-8BB2-7E0548B0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0ED-748A-4843-BCDB-E418324E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37A-798D-486F-9653-083EE103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20F-9CB5-4080-A046-61D7E88F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8C0-F011-4FFE-B9E8-BD3F4FC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A6E-86B5-47CC-8BDA-8F1FF5C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D746-A2BF-4853-9771-165E4303EE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8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499760"/>
            <a:ext cx="83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х должностей в дневных стационарах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 = 141.1000.1.04. + 141.1000.2.04. +141.1000.3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физических лиц в дневных стационарах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 = 141.1000.1.05. + 141.1000.2.05. +141.1000.3.05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амбулато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=141.1000.1.06. + 141.1000.2.06. + 141.1000.3.0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760" y="1499760"/>
            <a:ext cx="83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х должностей в дневных стационарах медицинских организаций, оказывающих помощь в амбулато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 = 141.1000.1.07. + 141.1000.2.07. +141.1000.3.07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физических лиц в дневных стационарах медицинских организаций, оказывающих помощь в амбулато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 = 141.1000.1.08. + 141.1000.2.08. +141.1000.3.08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6760" y="1499760"/>
            <a:ext cx="83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стационаре на д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. = 141.1000.1.09. + 141.1000.2.09. + 141.1000.3.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х должностей в стационаре на д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. = 141.1000.1.10. + 141.1000.2.10. +141.1000.3.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физических лиц в стационаре на д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. = 141.1000.1.11. + 141.1000.2.11. +141.1000.3.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162864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ых стационарах указываются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казываются сведения о пациентах старше трудоспособного возраста на койках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о числе коек для взрослых в дневных стационарах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о числе коек для детей в дневных стационарах для взросл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752472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3564000" y="630864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4920" y="836640"/>
            <a:ext cx="85359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920" y="836640"/>
            <a:ext cx="85359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медицинских организаций, в том числе амбулаторно-поликлинических, больничных организац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71320" y="1357200"/>
            <a:ext cx="8086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3000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сведения о числе выписанных и умерших пациентов в возрасте 18 лет и старше по классам болезней по дневным стационарам и стационарам на дому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71320" y="1357200"/>
            <a:ext cx="8086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3500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сведения о числе выписанных и умерших пациентов в возрасте от 0 до 17 лет включительно по классам болезней по дневным стационарам и стационарам на дому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1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435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5 от 13 ноября 2003 г. «Об утверждений инструкций по заполнению учетной медицинской документации»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8-12-13T20:32:24Z</dcterms:modified>
  <cp:revision>263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