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FBA8-6637-484C-A39A-B8A7AD0D51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 лет существует проблема сопоставимости одних и тех же данных по туберкулезу в разных отчетных формах, а также проблема методов учета одних и тех же явлений в разных службах.  Начнем с ф.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8112-7767-40D2-97A5-D7E89AD771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4767-1B8F-4864-BBA7-45BBABFC48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CCD2-A0FB-4BD7-A2D8-3D277096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16BA-50D1-4BE2-921C-4E04788A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1C72-43EB-4527-B1D3-45C35845E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A48B-5BAB-4141-9E74-28669ED43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53C7-54F5-4E36-991D-90AC609D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6212-8A85-4916-9F62-E78B2E81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4BE4-6DC0-4330-B871-31E47C76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1622-351C-48C6-A2FF-EB711C34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8C34-EC0C-45CF-B5BE-79430C38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BE9C-00AE-4924-86F6-61AD1448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468F-01B0-4172-AEF0-0E3051C8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5D07-1CCB-446D-BD87-D32B552E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EA6B-14D8-407C-8F77-AE67965DBA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ормирование и контроль корректности отчетов федерального статистического наблюд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вный специалист Федерального центра мониторинга противодействия распространению туберкулеза в РФ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рдина Александра Вадим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лефон:  +7909921716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-mail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ordina@mednet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2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становление Правительства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оссийской Федерации от 1 декабря 2004 г. № 715 «Об утверждении перечня социально значимых заболеваний и перечня заболеваний, представляющих опасность для окружающих» и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иказ Минздрава Росси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 29 июня 2015 г. № 384н «Об утверждении перечня инфекционных заболеваний, представляющих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пасность для окружающих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являющихся основанием для отказа в выдаче либо аннулирования разрешения на временное проживание иностранных граждан и лиц без гражданства, или вида на жительство, или патента, или разрешения на работу в Российской Федерации, а  также Порядка подтверждения их наличия или отсутствия, а также формы медицинского заключения о наличии (об отсутствии) указанных заболеваний»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В перечень входит туберкуле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тановление Правительства Российской Федерации от 25  декабря 2001 г. № 892 «О  реализации Федерального закона “О предупреждении распространения туберкулеза в Российской Федерации”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0" y="170028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филактическим медицинским осмотрам в целях выявления ТБ подлежат один раз в год мигранты, беженцы, вынужденные переселенцы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чету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регистра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ри ведении государственного статистического наблюдения в целях предупреждения распространения ТБ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длежат как граждане Российской Федерации, так и иностранные граждане и лица без гражданства при выявлении у них активной формы ТБ впервые. Учету и регистраци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ведении государ- ственного статистического наблюдения в целях предупреждения распространения ТБ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подлежат все случаи смерти больных Т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0" y="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тановление Главного государственного санитарного врача Российской Федерации от 22 октября 2013 г. № 60 «Профилактика туберкулеза. Санитарно-эпидемиологические прав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 3.1.2.3114-13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остранные граждане и лица без гражданств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обращении за получением разрешения на временное проживание на территории Российской Федерации, вида на жительство, гражданства или разрешения на работу в Российской Федерации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 внеочередном порядке проходят профилактический медицинский осмотр на ТБ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а далее – один раз в год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и выявлении у них активной формы ТБ впервые - подлежат учету и регистрации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рамках государственного статистического наблюдения.  Организация профилактических осмотров на ТБ и контроль за их проведением осуществляются органами исполнительной власти субъектов Российской Федерации в области охраны здоровья граж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 принятия решения о нежелательности пребывания им будет проводиться лечение туберкулеза в соответствии с действующими на территории России рекомендациями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5000400"/>
          </a:xfrm>
          <a:prstGeom prst="rect">
            <a:avLst/>
          </a:prstGeom>
          <a:ln w="0">
            <a:noFill/>
          </a:ln>
        </p:spPr>
      </p:pic>
      <p:sp>
        <p:nvSpPr>
          <p:cNvPr id="78" name="TextBox 5"/>
          <p:cNvSpPr/>
          <p:nvPr/>
        </p:nvSpPr>
        <p:spPr>
          <a:xfrm>
            <a:off x="142920" y="5357880"/>
            <a:ext cx="8858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Сумма строк 9-10 и 11-12 больше общего числа впервые выявленных бактериовыдел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Сумма по нозологиям внелегочного туберкулеза (стр.17-25) меньше, чем всего (стр.15-16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.к. перечислены не все возможные локализ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Обязательно заполнять строки ФСИН (30-31), иностранцы (28-29), БОМЖ (32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Если больной выявлен посмертно и одновременно он иностранец или из ФСИН, или БОМЖ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о указывать его только один раз в строках 33-34 – посмертное выявл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3712680" y="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блица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6357600" y="4929120"/>
            <a:ext cx="98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Ж                       3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3129120" y="404640"/>
            <a:ext cx="29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блица 1000 продол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8070840" cy="105876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/>
          <p:cNvSpPr/>
          <p:nvPr/>
        </p:nvSpPr>
        <p:spPr>
          <a:xfrm>
            <a:off x="285840" y="2060640"/>
            <a:ext cx="860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 Рецидивы (стр.35-36) не включаются в строки 1-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6. Бактериовыделители (стр.37-38) указываются 1 раз, а не так, как у впервые выявлен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179280" y="4714920"/>
            <a:ext cx="8786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7. Жители других территорий включают как иностранцев (стр.28-29), так и жителей других субъектов Р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8. При проверке баланса между 8 и 33 формой (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того, как Вы сделаете контроли по МЕДСТАТУ и не получите 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разница получается за счет больных из МО, ФМБА и других ведомств, имеющих свои тубучрежд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Данные ФМС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 впервые выявленным при освидетельствовании на право работы или проживания в России больным  туберкулезом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обязательно включать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 строки «иностранец» и/или житель другой территор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3129840" y="263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блица 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13"/>
          <p:cNvSpPr/>
          <p:nvPr/>
        </p:nvSpPr>
        <p:spPr>
          <a:xfrm>
            <a:off x="5796000" y="3284640"/>
            <a:ext cx="428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684360" y="3141720"/>
            <a:ext cx="9612000" cy="131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3"/>
          <a:stretch/>
        </p:blipFill>
        <p:spPr>
          <a:xfrm>
            <a:off x="6300720" y="3141720"/>
            <a:ext cx="9612360" cy="1317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ая соединительная линия 17"/>
          <p:cNvSpPr/>
          <p:nvPr/>
        </p:nvSpPr>
        <p:spPr>
          <a:xfrm>
            <a:off x="7596360" y="3284640"/>
            <a:ext cx="4284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1"/>
          <p:cNvSpPr/>
          <p:nvPr/>
        </p:nvSpPr>
        <p:spPr>
          <a:xfrm>
            <a:off x="3129840" y="4076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блица 1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4"/>
          <a:stretch/>
        </p:blipFill>
        <p:spPr>
          <a:xfrm>
            <a:off x="571680" y="4500720"/>
            <a:ext cx="9612000" cy="1317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ая соединительная линия 24"/>
          <p:cNvSpPr/>
          <p:nvPr/>
        </p:nvSpPr>
        <p:spPr>
          <a:xfrm>
            <a:off x="4000680" y="4572000"/>
            <a:ext cx="4284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2630160" y="3500280"/>
            <a:ext cx="26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ычно проблем не возник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Типичные ошиб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28400" y="928440"/>
            <a:ext cx="87152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заполнены строки ФС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войной учет посмертно выявле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правильное формирование строк «Иностранные жители» и «Жители других территорий». Не надо бояться увеличения показателя заболеваемости за счет мигрант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пытка подогнать значения строк по выявлению бактериовыделителей среди в/в так, чтобы сумма выявления разными методами равнялась количеству людей-бактериовыдел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ставляется головным ПТУ субъекта РФ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ммированием данных из форм, присланных районными ПТД и другими учреждениями МЗ РФ, имеющими фтизиатрические отделения (кабинеты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основе «Карты диспансерного наблюдения» ф.030-4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 которой нет сведений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о методе выявления туберкулеза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жественной лекарственной устойчивости МБТ, сочетанной ТБ-ВИЧ инфекции и прочего.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         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о используютс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№ 081/у «Медицинская карта больного туберкулёзом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№ 066/у «Статистическая карта выбывшего из стационара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. № 106/у «Врачебное свидетельство о смерти»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ф. № 035/у «Журнал для записи заключений ЦВКК»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ф. № 04-ТБ/у «Журнал регистрации микроскопических      исследований на туберкулёз»</a:t>
            </a:r>
            <a:br>
              <a:rPr sz="2900"/>
            </a:br>
            <a:br>
              <a:rPr sz="29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4572000" y="285840"/>
            <a:ext cx="714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341928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.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0" y="57168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каз Минздрава России от 15 ноября 2012 г. №932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Порядок оказания медицинской помощи больным туберкулезом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риказом утверждается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рядо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казания медицинской помощи пациентам с установленным туберкулезом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а также при подозрении на туберкулез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вне зависимости от гражданства и места жительств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0" y="371484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сли ФМБА имеет свои тубучреждения и там лечит больных ТБ, то их больные в ф.33 не включа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сли больные, живущие в населенных пунктах, относящихся к ФМБА, лечатся в ПТ диспансере  или ПТ стационаре МЗ, и наблюдаются в ПТД МЗ, то они  включаются в ф.33, как состоящие на учете (табл.2100)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00040" y="214200"/>
            <a:ext cx="8229600" cy="34434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571680" y="4000680"/>
            <a:ext cx="8001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Данные по впервые выявленным больным в ф.33 должны быть меньше, чем в ф.8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.к. там все ведомства, а в ф.33 только М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Другие локализации туберкулеза (стр.6 ф.33) соответствуют термину туберкулез внелегочных локализаций (стр.15-16 ф.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Инвалидность стр.8 больше суммы строк 9 и 10, т.к. еще есть 3 груп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Обследовано на АТ к ВИЧ (стр.11) относится только к больным туберкулез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 Положительный результат иммуноблотинга среди контингентов (стр.12 гр.7 )должен быть меньше или равен данным  ф61 табл.2000 стр.3 гр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6. Число больных ТБ+ВИЧ (стр.13) может быть больше стр.12, т.к. включает в себя не только больных ТБ, у которых выявлен ВИЧ, но и больных ВИЧ, у которых выявлен ТБ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858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анные по учету больных ТБ+ВИЧ в ф.61 и ф.33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а не меняе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0560" y="571680"/>
            <a:ext cx="86072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/в всег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1000стр(5+6)гр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установлен диагноз впервые, но еще не взяты на диспансерный учет с диагнозом В20.0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gt; ф61т2000стр2.1гр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lt;ф33т2100стр13гр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. учет с диагнозами А15-А19 и В20.0 – 23.0; Z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/в 0-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1000стр(5+6)гр(6-1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установлен диагноз впервые, но еще не 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gt;ф61т2000стр2.1гр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lt;ф33т2100стр13гр(5+6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. учет с диагн. А15-А19 и В20.0 – 23.0; Z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конец г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сег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2000стр2.1гр15= ф33т2100стр13гр7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разницу объясн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-17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2000стр2.1гр18= ф33т2100стр13гр(8+9)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ницу объясн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азницу объясни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3 больше ф33т2100стр11гр(4+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(4+56+6) больше ф33т2100стр11гр(5+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7 больше ф33т2100стр11гр(6+9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абл6000стр17гр 3 больше ф33табл2200стр12гр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блемы несогласования данных по туберкулезу в разных отчетных форм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5700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8 и Ф.1 Роспотребнадзора – в/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3 и ф.61 - сочетанная инфекция ВИЧ/ТБ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3 и Росстат - умершие от Т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3 и Росстат – инвалиды по Т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2(роддома) и ф.6 Роспотребнадзора – вакцинированные 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G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новорожденны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0 и ф.33 выявленные ФЛГ и бактериоскопией больные туберкулезо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12 различается кодировка детей из 6 группы учета по 109 приказу (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76.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и по инструкции к ф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Z03.0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8 и ф.7ТБ-ФСИН различаются по количеству впервые выявленных больных во ФСИ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324000" y="285840"/>
            <a:ext cx="8619840" cy="13683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304920" y="1628640"/>
            <a:ext cx="865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В таблицах 2110 и 2120 бывают только арифметические ошиб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В таблице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213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часто не обращают внимание на скобку, где указано из стр.1 гр.7, т.е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только больные Т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607120" y="2254320"/>
            <a:ext cx="39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Выявление больных и некоторых групп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блица 2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42960" y="2786040"/>
          <a:ext cx="6095880" cy="2514600"/>
        </p:xfrm>
        <a:graphic>
          <a:graphicData uri="http://schemas.openxmlformats.org/drawingml/2006/table">
            <a:tbl>
              <a:tblPr/>
              <a:tblGrid>
                <a:gridCol w="5651640"/>
                <a:gridCol w="444240"/>
              </a:tblGrid>
              <a:tr h="304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 выявлено больных туберкулезом из числа осмотренных на туберкуле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именением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инодиагност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ена туберкулезного рекомбинантного в стандартном развед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рограф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логических мето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методом бактериоскоп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на учет в IIIА группу диспансерного уче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на учет в V группу диспансерного учета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42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42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 умерло больных от туберкулеза постоянных жителей, диагноз у которых установлен посмерт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 умерло больных от ВИЧ-инфекции постоянных жителей, диагноз туберкулеза у которых установлен посмерт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TextBox 9"/>
          <p:cNvSpPr/>
          <p:nvPr/>
        </p:nvSpPr>
        <p:spPr>
          <a:xfrm>
            <a:off x="324000" y="5429160"/>
            <a:ext cx="864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Сумма строк 2,4,5 должна быть равна строке 1 . Один больной показывается один раз, хотя он может быть обследован разными методами, но указывается только один метод вы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Не забыть, что данные стр.3 входят как часть в строку 2, а данные стр.6 -в стр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Сумма строк 11 и 12 меньше, чем сумма строк ф.8 табл.1000 стр.(33+34) гр.5 (посмертное выявление ТБ), т.к. табл. 2200 постоянные жители, а ф.8 – в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ject 26" descr=""/>
          <p:cNvPicPr/>
          <p:nvPr/>
        </p:nvPicPr>
        <p:blipFill>
          <a:blip r:embed="rId1"/>
          <a:stretch/>
        </p:blipFill>
        <p:spPr>
          <a:xfrm>
            <a:off x="714240" y="285840"/>
            <a:ext cx="9367920" cy="228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85840" y="2714760"/>
            <a:ext cx="842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Основная проблема – переход по возрасту из детей в подростки и из подростков во взрослые, перешедших по возрасту учитываем как выбывших в своей возрастной категории, а в следующей возрастной категории – как   прибывших. Иначе межгодовой баланс не сходи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Умерших учитываем только из состоявших на уче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Object 27" descr=""/>
          <p:cNvPicPr/>
          <p:nvPr/>
        </p:nvPicPr>
        <p:blipFill>
          <a:blip r:embed="rId2"/>
          <a:stretch/>
        </p:blipFill>
        <p:spPr>
          <a:xfrm>
            <a:off x="285840" y="3860640"/>
            <a:ext cx="8707320" cy="9367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"/>
          <p:cNvSpPr/>
          <p:nvPr/>
        </p:nvSpPr>
        <p:spPr>
          <a:xfrm>
            <a:off x="428760" y="5143680"/>
            <a:ext cx="842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графах 4,5,6 табл.2310 дополнительно к стр.7 табл.2300 указываются умершие от туберкулеза, не состоявшие на учете в ПТУ М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графах 2 (умерло от ТБ больных ТБ+ВИЧ)и 7(из умерших от других причин, умерло больных  ТБ+ВИЧ)  наоборот, показывают часть больных из строк 7 и 8 табл.2300 соответственно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227160" y="642960"/>
            <a:ext cx="8916840" cy="37227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4"/>
          <p:cNvSpPr/>
          <p:nvPr/>
        </p:nvSpPr>
        <p:spPr>
          <a:xfrm>
            <a:off x="179280" y="4643280"/>
            <a:ext cx="8785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сновная проблема – не сходится межгодовой баланс просто из-за невнима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явлено больных с активным ТБ 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ы табл.2400 стр.3 гр.6 рав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абл.2300 стр.2 гр.(3-4-5) +(9-10-11) (рецидивы 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ы 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зято в текущем году в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A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у строка 8 гр.3 не должно быть меньше, чем в табл.2200 стр.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42920" y="428760"/>
            <a:ext cx="8794800" cy="25225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357120" y="3143160"/>
            <a:ext cx="8429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сновная проблема – не сходится межгодовой баланс просто из-за невнима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следовано на МЛУ (стр.2) баланс не счита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явлена МЛУ (стр.3) по вертикали в графах 6-13 может быть больше строки 1 из-за бактериовыделителей, выявленных в прошлом году, у которых МЛУ выявлена в отчетном г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Если баклаборатория не делает посевы или анализы на ЛЧ, надо это отдельно отмет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0" y="4581360"/>
            <a:ext cx="10152000" cy="4795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500040" y="507204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следовано на МБТ (сумма граф 1 и 2) должна быть больше количества в/в больных ТОД, т.к. каждого больного положено обследовать и скопией, и посе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3"/>
          <a:stretch/>
        </p:blipFill>
        <p:spPr>
          <a:xfrm>
            <a:off x="0" y="5715000"/>
            <a:ext cx="9223200" cy="4348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8"/>
          <p:cNvSpPr/>
          <p:nvPr/>
        </p:nvSpPr>
        <p:spPr>
          <a:xfrm>
            <a:off x="864360" y="6143760"/>
            <a:ext cx="28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  Обычно проблем не возник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214200" y="549360"/>
          <a:ext cx="8678880" cy="3178080"/>
        </p:xfrm>
        <a:graphic>
          <a:graphicData uri="http://schemas.openxmlformats.org/drawingml/2006/table">
            <a:tbl>
              <a:tblPr/>
              <a:tblGrid>
                <a:gridCol w="3372120"/>
                <a:gridCol w="309240"/>
                <a:gridCol w="766800"/>
                <a:gridCol w="881280"/>
                <a:gridCol w="776160"/>
                <a:gridCol w="879480"/>
                <a:gridCol w="846000"/>
                <a:gridCol w="847800"/>
              </a:tblGrid>
              <a:tr h="172800">
                <a:tc row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помощ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ых, состоящих на учете 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впервые в жизни установленным диагнозом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14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14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60"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спитализировано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2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86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2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 marL="142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актериовыделител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1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6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дневные стационары  (из строки 01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санатории  (из строки 01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6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9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ы хирургические  методы лечения (всего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туберкулеза органов дыхания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по поводу ФКТ легки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но-суставного  туберкулез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а мочеполовых орган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туберкулезом женских половых орган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а периферических лимфатических узл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в стационаре от туберкулеза больных, состоявших на  учете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8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Rectangle 1"/>
          <p:cNvSpPr/>
          <p:nvPr/>
        </p:nvSpPr>
        <p:spPr>
          <a:xfrm>
            <a:off x="2933640" y="189720"/>
            <a:ext cx="16289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6. Больничная и санаторная помощь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(2600)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д по ОКЕИ: человек - 79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179280" y="3714840"/>
            <a:ext cx="8964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аблица составлена наоборот сначала про контингенты, а потом про в/в.  Иногда пута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оспитализировано всего (строка 1) указываются люди, а не госпитализа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дин и тот же человек может быть госпитализирован сначала в стационар, потом в дневной стационар, потом в санаторий.  Показывать в строках (1,3,4) людей отдельно. Ничего не суммиро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отличие от табл.2130, в строке 4 пишем всех, прошедших санаторное лечение, а не только больных Т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Хирургия (стр.5) тоже люди, а одному человеку можно сделать много операций по поводу разных локализаций, т.е. тоже пишем в каждую строку (6-11) людей, а не опе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мерло в стационаре от туберкулеза из состоявших на учете – это часть из табл.2300 стр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0" y="6070680"/>
            <a:ext cx="9647280" cy="6444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7"/>
          <p:cNvSpPr/>
          <p:nvPr/>
        </p:nvSpPr>
        <p:spPr>
          <a:xfrm>
            <a:off x="825480" y="6478560"/>
            <a:ext cx="41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Заполняют только те, кто использует этот мет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250920" y="5538960"/>
            <a:ext cx="874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261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 Кроме того, умерло от туберкулеза в туберкулезном стационаре больных, не состоявших на учете: взрослых  1___подростков 15-17 лет 2_______ детей 0 -14 лет   3_________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полнение к стр.12 табл. 2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81080" y="378000"/>
            <a:ext cx="8638920" cy="42033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179280" y="4508640"/>
            <a:ext cx="8964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лавное – правильно посчитать количество больных из формы прошлого года в строке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первые выявленные больные ТОД  (графы 3,5,6) берутся соответственно из табл.2100 строк 1,4, 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.4 прошлого года, а гр.4 из табл.2500 стр.1  гр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цидивы всего - из табл.2300 стр.1 гр.3 прошлого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цидивы бактериовыделители - из табл.2500 сумма граф 9 и 10 из строки 1 (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ы и из снятых с учета) прошлого го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ереведено в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у (стр8) меньше разницы строк (1-2-3-4–5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179280" y="6165720"/>
            <a:ext cx="8496360" cy="2620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834120" y="6381720"/>
            <a:ext cx="28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  Обычно проблем не возник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0117080" cy="25192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"/>
          <p:cNvSpPr/>
          <p:nvPr/>
        </p:nvSpPr>
        <p:spPr>
          <a:xfrm>
            <a:off x="611280" y="3151080"/>
            <a:ext cx="8246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нные заполняются из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. № 081/у «Медицинская карта больного туберкулёзом», т.к. ф.030-4/у на этих больных не заводи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Часто, после выявления ТБ, при осмотре для поступления на работу, больных туберкулезом высылают из субъекта и дальше про них ничего не известно. Есть субъекты, которые даже не включают их в ф.8, т.к. не заполняют на них ф.089/у, что недопустим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Если больной все-таки лечился в данном учреждении, то его учитывают в строках 3-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Если больной умер во время лечения или без лечения, но диспансеру известно, что болел, то включаем его в строки 6 (всего) и 7(в стационар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нные о смерти из строки 6 включаются в табл.2310 строку1 графы 4-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нные о смерти в стационаре из строки 7 включаются в  табл.2610 строку 1 графы 1-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з раздела 6 «Больничная и санаторная помощ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Конта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760480"/>
            <a:ext cx="82296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ы  2-ТБ, 7-ТБ, 8-ТБ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ы ЕСН ВР-1Ф, ВР-2Д, ВР-4БЛ, ВР-5МЛ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ргей Александрович Стерл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л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9255078221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rlikov@list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оугольник 3"/>
          <p:cNvSpPr/>
          <p:nvPr/>
        </p:nvSpPr>
        <p:spPr>
          <a:xfrm>
            <a:off x="285840" y="785880"/>
            <a:ext cx="857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ственного специалиста Федерального центра мониторинга противодействия распространению туберкулеза в РФ, которому можно задать вопросы по формам отраслевого и единовременного статистического наблю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омплектность подаваемых форм 50 приказа на бумажном носител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а 2-ТБ по гражданскому сектору – 1 эк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а 7-ТБ по гражданскому сектору – 1 эк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а 8-ТБ по гражданскому сектору – 1 эк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а 2-ТБ по ФСИН – 1 эк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а 7-ТБ по ФСИН – 1 эк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а 8-ТБ по ФСИН – 1 эк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формы должным быть подписаны специалистом органа управления здравоохранением субъекта Российской Федерации и заверены печать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285840" y="5715000"/>
            <a:ext cx="88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пичная ошиб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сдаче отчета по 50 Приказ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ача неполного комплекта фор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ипичная ошибка заполнения форм 50 прика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004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Не выполнение положений информационного письма 17-7-8635 от 10.12.2014 г.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ациенты с впервые выявленным туберкулёзом лёгких или с рецидивом туберкулёза лёгких, которым назначен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режим химиотерапии, вне зависимости от известных к началу отчётного периода результатах лечения, включаются в графу 7 в верхнюю часть дроби как случаи «Неэффективного курса химиотерапии, подтвержденные клинико-рентгенологически»  и в нижнюю часть дроби, как перерегистрированные для лечения на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режим химиотерапии, либо продолжающие лечение по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режиму химиотерап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3"/>
          <p:cNvSpPr/>
          <p:nvPr/>
        </p:nvSpPr>
        <p:spPr>
          <a:xfrm>
            <a:off x="214200" y="5143680"/>
            <a:ext cx="892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мните!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сли впервые выявленному пациенту с туберкулёзом или пациенту с рецидивом туберкулёза назначен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режим химиотерапии, он обязательно должен пройти по числителю и знаменателю графы 7 формы 8-ТБ, и никак иначе. Исход курса химиотерапии пациентов, которым был назначен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режим химиотерапии будет оцениваться по форме ВР-5М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полнение данных по профилактическим осмотрам на туберкулез в форм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3880" y="713880"/>
            <a:ext cx="7858440" cy="35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33 табл 2200                          и                              Ф30 табл 25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57120" y="1071720"/>
          <a:ext cx="3929040" cy="2717640"/>
        </p:xfrm>
        <a:graphic>
          <a:graphicData uri="http://schemas.openxmlformats.org/drawingml/2006/table">
            <a:tbl>
              <a:tblPr/>
              <a:tblGrid>
                <a:gridCol w="2419560"/>
                <a:gridCol w="226800"/>
                <a:gridCol w="476280"/>
                <a:gridCol w="428760"/>
                <a:gridCol w="377640"/>
              </a:tblGrid>
              <a:tr h="101880"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0-14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 выявлено больных туберкулезом из числа осмотренных на туберкуле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именением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инодиагност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45360" rIns="453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аллергена туберкулезного рекомбинантного в стандартном разведен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рограф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логических метод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методом бактериоскоп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Содержимое 10" descr="2512.jpg"/>
          <p:cNvPicPr/>
          <p:nvPr/>
        </p:nvPicPr>
        <p:blipFill>
          <a:blip r:embed="rId1"/>
          <a:stretch/>
        </p:blipFill>
        <p:spPr>
          <a:xfrm>
            <a:off x="4359240" y="1071720"/>
            <a:ext cx="4326120" cy="357156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11"/>
          <p:cNvSpPr/>
          <p:nvPr/>
        </p:nvSpPr>
        <p:spPr>
          <a:xfrm>
            <a:off x="428760" y="3811680"/>
            <a:ext cx="38574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а строк 2,4,5 должна быть равна строке 1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больной показывается один раз, хотя он может быть обследован разными методами, но указывается только один ведущий метод вы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.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забы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данные стр.3 входят как часть в строку 2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данные стр.6 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онтроли с  ф.3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3=ф30т2512стр1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4=ф30т2512стр(1.1+1.2)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5=ф30т2512стр1.3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(2-3)гр(4+5)=ф30т2512стр4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3гр(4+5)=ф30т2512стр5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4гр3=ф30т2512стр2гр5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6гр3=ф30т2512стр3гр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14880" y="4785840"/>
            <a:ext cx="492912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marL="2192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равнение идет по 5 столбц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ы не все методы выявления и для детей, и для взросл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роке 1 показываются все методы выявления но,                     также как в 33 форме, 1 человек – 1 метод (ведущ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ка 1 больше суммы 2+3+4+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зрослых  стр.1 больше суммы строк  2 и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етей  (1.1+1.2+1.3) больше суммы 4+5+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ка  6 частично входит в строку 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к учитывать результаты молекулярно-генетических методов при составлении отчёта по формам №№ 8, 33, 7-ТБ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икак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ществующая система мониторинга не рассчитана на учёт результатов молекулярно-генетических методов исследований. При этом, хотя результаты молекулярно-генетических методов исследования не используются в отчёте, они могут служить основанием для назначения режима, учитываемого в форме 2-ТБ как режим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назначенный по результатам теста на лекарственную чувствитель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3"/>
          <p:cNvSpPr/>
          <p:nvPr/>
        </p:nvSpPr>
        <p:spPr>
          <a:xfrm>
            <a:off x="142920" y="4786200"/>
            <a:ext cx="878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ании выявления МГМ устойчив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рифампицину, может быть назначен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тест режим химиотерап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этом, данный  пациент, получая лечение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жиму химиотерапии, не будет считаться пациентом с МЛУ-Т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к учитывать результаты посевов с использованием автоматических бактериологических анализаторов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 составлении отчёт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 формам №№ 8, 33, 7-ТБ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3733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к результаты посе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0" y="99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Таблица 1000 заполняются строки 1.0 и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457200" y="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Ф.12 по туберкулезу (дети 0-1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0" y="1357200"/>
            <a:ext cx="9144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рафа 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формируется так: (ф.33 табл.2100 стр7 гр8 прошло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ф.8 т.1000 стр(1+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35+36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гр(6+7+8) отчетно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рафы 5 и 6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олнить не можем, т.к. нет разбивки по возрастам в ф.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рафа 8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(ф.33 табл.2100 стр7 гр8 прошл. года +ф.33 табл.2100 стр 7 гр.5 отчетн.год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рафа 9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ф.8 т.1000 стр(1+2)гр(6+7+8) отчетно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рафа 10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ф.33 табл.2100 стр 7 гр.5 отчетно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рафа 11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ф.33 табл.2200 стр 1 гр.4 отчетно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рафа 1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графы(4-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рафа 15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ф.33 табл.2100 стр.7 гр.8 отчетно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Таблица 1001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о заболеваний=число физических лиц при туберкулез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Таблица 1002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олнить не можем, т.к. нет разбивки по возрастам в ф.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Таблица 1100: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0 группа – стр. 1.1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V группа – стр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.2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II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группа  - стр. 1.2.1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I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группа – стр. 1.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Таблица 1500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олняем только в/выявленных в отчетном году из ф8 т 1001 стр1гр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Таблица 1600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олняем аналогично 1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9"/>
          <p:cNvSpPr/>
          <p:nvPr/>
        </p:nvSpPr>
        <p:spPr>
          <a:xfrm>
            <a:off x="142920" y="714240"/>
            <a:ext cx="87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лько больных выявили – ф.8, сколько взяли на учет – ф.3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0" y="1080720"/>
            <a:ext cx="914400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Таблица 2000 заполняются строки 1.0 и 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рафа 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формируется так: (ф.33 табл.2100 стр7 гр9 прошло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ф.8 т.1000 стр(1+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35+36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гр 9 отчетно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рафу 7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олнить не можем, т.к. нет разбивки по полу в ф.3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рафа 8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(ф.33 табл.2100 стр7 гр9 прошл.года + ф.33 табл.2100 стр 7 гр.6 отчетн. год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рафа 9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ф.8 т.1000 стр(1+2)гр 9 отчетно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рафа 10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ф.33 табл.2100 стр 7 гр 6 отчетно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рафа 11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ф.33 табл.2200 стр 1 гр 5 отчетно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рафу 12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олнить не можем, нет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рафу 13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олнить не можем, т.к. нет разбивки по полу в ф.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рафа 1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графы(4-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рафа 15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ф.33 табл.2100 стр.7 гр.9 отчетно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рафу16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заполнить не можем, т.к. нет разбивки по полу в ф.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Таблица 2001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о заболеваний = число физических ли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Таблица 2100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олняем аналогично 1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457200" y="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Ф.12 по туберкулезу (дети 15-1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0" y="6429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лько больных выявили – ф.8, сколько взяли на учет – ф.3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0" y="1443600"/>
            <a:ext cx="9144000" cy="51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Таблица 3000 заполняются строки 1.0 и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графа 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формируется так: ф.33 табл.2100 стр7 гр(7-8-9) прошло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+ф.8 т.1000 стр.(1+2+35+36)графы с 10 по 15 отчетно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графа 8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= ф.33 табл.2100 стр7 гр(7-8-9) прошл.го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+ ф.33 табл.2100 стр. 7 гр.4 отчетн.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афа 9= ф.8 т.1000 стр.(1+2) графы с 10 по 15 отчетно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рафа 10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ф.33 табл.2100 стр 7 гр (4-5-6) отчетно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рафа 11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ф.33 табл.2200 стр 1 гр (3-4-5) отчетно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графа 12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33 т 2200 стр.1 гр.(3-4-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рафа 1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графы(4-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графа 15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.33 табл.2100 стр.7 гр.(7-8-9) отчетно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Таблица 3002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о заболеваний =число физических лиц при туберкулез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Таблица 3100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полняется аналогично 1100 с добавлением 1.4.1,  1.4.2,  и т.д. какие сведения е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Таблица 4000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полняем только впервые выявленных в отчетном году из ф.8 т.1000 стр1гр15+стр.2гр(14+15) отчетно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Таблица 4001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болеваний = число физических лиц при туберкулезе</a:t>
            </a: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Таблица 4100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олняем аналогично  31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Таблица 500 и 5100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олня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35712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Ф.12 по туберкулезу (взрослые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0" y="6429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лько больных выявили – ф.8, сколько взяли на учет – ф.3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31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ила заполнен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рм №№ 8 и 33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пичные ошибк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.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0004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ставляется головным ПТУ субъекта РФ, ведущим территориальный регистр (картотеку) больных туберкулезом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только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на основе извещения ф.089у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торое заполняется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на каждого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первые выявленного больного туберкулезом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или рецидив и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присылаетс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в головное ПТУ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медучреждениями любой подчиненност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(Минздрав, ФСИН, ФМБА, МО, ФМС, РЖД, психинтернат, детский дом и т.д. и т.п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4"/>
          <p:cNvSpPr/>
          <p:nvPr/>
        </p:nvSpPr>
        <p:spPr>
          <a:xfrm>
            <a:off x="324000" y="18900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едеральный закон и Российской Федерации от 30 марта 1999 г. № 52-ФЗ «О санитарно- эпидемиологическом благополучии населения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285840" y="1225440"/>
            <a:ext cx="864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Больные инфекционными заболеваниям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лица с подозрением на такие заболевания и контактировавшие с больными инфекционными заболеваниями лица, а также лица, являющиеся носителями возбудителей инфекционных болезней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длежат лабораторному обследованию и медицинскому наблюдению или лечению и в случае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если они представляют опасность для окружающих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обязательной госпитализац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ли изоляции в порядке, установленном законодательством Российской Федерации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е случа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нфекционных заболеваний и массовых неинфекционных заболеваний (отравлени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одлежат регистрации по месту выявления таких заболевани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государственному учету и ведению отчетности по ним органами, осуществляющими федеральный государственный санитарно-эпидемиологический надз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07:54:17Z</dcterms:created>
  <dc:creator>User</dc:creator>
  <dc:description/>
  <dc:language>en-US</dc:language>
  <cp:lastModifiedBy>a.gordina</cp:lastModifiedBy>
  <dcterms:modified xsi:type="dcterms:W3CDTF">2017-12-25T17:40:12Z</dcterms:modified>
  <cp:revision>66</cp:revision>
  <dc:subject/>
  <dc:title>Недочеты при составлении форм ФСН №№ 30,47,12. Сопоставление данных из разных форм с формами №№ 8 и 33</dc:title>
</cp:coreProperties>
</file>