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1F0B-20FE-492B-BFBC-E79D9F1CA2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7834-1E7F-48E5-BA2D-E71BA46033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F15AA1-7B13-4FE2-9A62-290907F7E5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0DAB-D379-4F5C-B7FB-3E4343144D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63C3-2CC9-4336-B393-3E85597D05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1F9B-548F-4BBE-89DE-9F0ED3844A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3E65-0AF2-4D82-93C0-C24148BF23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45A-E889-4D49-AAC7-D22AEBCF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7FA-9FB8-472D-B16D-64819EF4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FD5-2DAD-48EC-A792-F02A15DA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190-F68E-4CF6-88EA-A53F2141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859-E7D0-43FE-BE74-14B5D4E8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8D1-24CF-45B0-8DCD-BA520DC8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723-EE2A-4BE3-A2FB-96760B5F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C30-CE7F-4308-A39C-99869F34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801-2051-4E27-A161-4F492BCB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B5B-312F-4407-9015-1CEC7D7B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846-1C26-431E-88EA-F0FA83B9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BF9-3403-4997-8556-C531D965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F747-0F30-4DFD-945D-2D187FA6C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8 год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5345280"/>
            <a:ext cx="8015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х вызово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03440"/>
                <a:gridCol w="857160"/>
                <a:gridCol w="1000080"/>
                <a:gridCol w="1251000"/>
                <a:gridCol w="1249200"/>
                <a:gridCol w="1251000"/>
                <a:gridCol w="1251000"/>
              </a:tblGrid>
              <a:tr h="315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-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фармацевтов, провизоров, специалистов с немедицинским образо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Число штатн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Число занят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Число физических лиц основных работников на занятых должност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20056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-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42848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50920" y="1052640"/>
            <a:ext cx="8713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Росстата № 483 от 3 августа 2018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выполненные вызовы» (2018 год) = «выполненные выезды» (2009-2017 го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6760" y="2357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856720" cy="520056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-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2214360"/>
            <a:ext cx="8407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(55 лет и старше) 5 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(60 лет и старше) 6 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 2121.1.01 =  30.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0080" y="357120"/>
            <a:ext cx="7786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приказа Министерства здравоохранения Российской Федерации № 33н от 22 января 2016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1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499760"/>
            <a:ext cx="856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000" y="1571400"/>
            <a:ext cx="828036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000" y="1571400"/>
            <a:ext cx="83516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 (общепрофильными, специализированными и авиамедицинскими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356760"/>
            <a:ext cx="828180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413000"/>
            <a:ext cx="83012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. = 30.2200.21.03. + 30.2200.22.03. + 30.2200.23.03. + 30.2200.24.03. + 30.2200.25.0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. = 30.2200.21.04. + 30.2200.22.04. + 30.2200.23.04. + 30.2200.24.04. + 30.2200.25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. = 30.2200.21.05. + 30.2200.22.05. + 30.2200.23.05. + 30.2200.24.05. + 30.2200.25.0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6164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500120"/>
            <a:ext cx="8479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экстренные консультатив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5.03. = 30.2200.251.03. + 30.2200.252.03. + 30.2200.253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5.04. = 30.2200.251.04. + 30.2200.252.04. + 30.2200.253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5.05. = 30.2200.251.05. + 30.2200.252.05. + 30.2200.253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выездных бригад следует предоставить пояснение по профилю, числу бригад (смен), числу круглосуточных бригад и числу лиц, которым оказана медицинская помощь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1356840"/>
            <a:ext cx="8329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, из них сельских жител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2201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2202 необходимо сравнить с данными предыдущего отчетного год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 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медицинской орган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5880" y="1752480"/>
            <a:ext cx="781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90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медицинскими работниками выездных бригад скорой медицинской помощи по месту вызова бригады, а также в транспортном средстве при медицинской эваку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280" y="2491920"/>
            <a:ext cx="82090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773360"/>
            <a:ext cx="8407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628280"/>
            <a:ext cx="84470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6680" indent="-166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41300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14200" y="571680"/>
          <a:ext cx="8643960" cy="620856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4200" y="571680"/>
          <a:ext cx="8643960" cy="55036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785880"/>
                <a:gridCol w="1071360"/>
              </a:tblGrid>
              <a:tr h="8730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. 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62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езультатные вызовы (выезды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чаи, к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е оказалось на ме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был ложным (по данному адресу скорую медицинскую помощь не вызыв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йден адрес, указанный при выз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казался практически здоровым и не нуждался в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мер до приезда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везён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бслужен врачом поликлиники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тказался от помощи (осмот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отменё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23440" y="2071800"/>
            <a:ext cx="82630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ано по причине необоснованности выз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ереадресация непрофильных вызовов в другую медицинскую организ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скорая, в том числе скорая специализированная, медицинская помощь пациентам, которым не требуется круглосуточного медицинского наблюдения и ле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41000"/>
            <a:ext cx="8301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3640" y="1341000"/>
            <a:ext cx="83343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833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 осуществляется медицинскими работниками стационарного отделения скорой медицинской помощи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8 г. по сравнению с 2017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числу автомобил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5840" y="142884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  1____________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5280" y="4759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 5453 необходимо сравнить с данными предыдущего отчетного го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соединении  скорой медицинской помощи к центру медицины катастроф показатели работы службы скорой медицинской помощи заполняются в отчетных формах №№ 30, 4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142640"/>
            <a:ext cx="8235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пациента в медицинскую организацию для оказания скорой медицинской помощи в стационарных условиях в стационарном отделении скорой медицинской помощи осуществляется уточнение диагноза, диагностика, динамическое наблюдение и проведение лечебно-диагностических мероприятий на койках скорой медицинской помощи суточного пребывания и, при наличии медицинских показаний, краткосрочное лечение длительностью не более 3 су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8-12-10T20:23:49Z</dcterms:modified>
  <cp:revision>44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