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B2C8-BD4B-4375-AEAE-E70914026F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D72-F5A4-472C-850C-1EB7E95BAA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F58-8DE3-4E3E-B588-3A661881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873-DE44-45CE-80AB-4A481E4D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05D-1F21-4876-B05F-49E352B1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820-D71F-47AE-80D3-7AF5C535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9E42-E44B-4C23-880A-4A65FD63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CEA-8380-4D5B-8803-27A6A99B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27E8-2962-4B04-9372-3110E1D6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FBF2-9C21-4C57-970B-AED55849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DE30-5DBC-4DDB-B158-706F23AD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C680-0494-4F0C-8BA2-FCDDCEFD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90B-1755-4F8F-83E3-5B12510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E4C-F01E-4576-B2C5-9EABD13F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C288-F5FB-45F5-AF90-4BC6565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7AA8-BCDC-4B73-B302-BD7791E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F08D-D159-42E7-A7F1-41EEE036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30B8-03A0-4632-B79F-790EF08F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1751-A76F-4A95-B042-2D490F3B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6468-A658-45A5-BF9D-FE7AAB33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7610-78DF-495E-90E2-F4A6B952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15DD-37A7-4CFD-AD6A-2F4D3E0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1E9A-FDE2-452A-AC5B-04D4162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3CA6-4716-4E5F-AF2D-52AB41D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745-3024-40EC-A251-0C537376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3EE7-C73E-4587-BC41-26054DD0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3C70-FDC0-44B8-BDB2-61BB180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8334-B454-4FC5-B8E0-2AF21C5F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3209-7871-4913-BE36-470C9CAA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C71A-743B-4246-9AB2-62F97352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FD9B-3478-41E0-866A-C858908F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F9EA-7198-474C-8DB1-CD798FF7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7806-5616-4356-B990-8B69331C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D76C-30DB-49ED-B0C7-D4BAE8E1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EACE-50EE-44BD-80AC-46FDCFB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0EB-F001-4196-9FDC-EBF72109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B5B2-1001-498E-946E-B19007ED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6577D-3706-4DFE-A883-089C2C51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F140-3481-414A-B7D4-BF2A95D1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4D4B-306D-48A1-A3B7-4F3D9EDD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9F8A-770B-4550-97BB-3D99DAB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ADCC-BCDC-44FB-A2CD-56FF8DE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67A1-BAF8-49DC-BEF9-AF622AC3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A9FF3-3B57-43F7-AE6B-904A8A5F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0DF7-9899-4121-9292-75B832F3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ED0-CB0A-4FE1-9F63-FE0EA98D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BC4-13FD-4C70-A737-EFB30422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196-D306-4BC1-92C5-E8D583F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6F4-5B93-46BE-BAA3-65C387C5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2E4-5353-4B74-BE28-71EACF9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91B-FB68-4A56-B01B-A4A1462C806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D86-0661-46E0-B5C6-EBED608E82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7E6-3F75-4B06-BE20-F4F8D7310BB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1D6-3FCF-463D-8FA9-5BFD0A3960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штаб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ой службы медицины катастроф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835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3656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И 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за  2018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8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7432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&gt;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 &gt;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=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523880" y="946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1951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 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174600" y="2475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3 (4/5) = таблица 4 000  стр. 1 гр. 3 (4/5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277920" y="3048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309600" y="42480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95120" y="4951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Прямоугольник 1"/>
          <p:cNvSpPr/>
          <p:nvPr/>
        </p:nvSpPr>
        <p:spPr>
          <a:xfrm>
            <a:off x="271440" y="55976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9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Т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R249-Y3</cp:lastModifiedBy>
  <cp:lastPrinted>2016-12-07T09:58:05Z</cp:lastPrinted>
  <dcterms:modified xsi:type="dcterms:W3CDTF">2018-12-04T12:58:54Z</dcterms:modified>
  <cp:revision>5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