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CF6-7E9C-4109-998F-1C232F29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EF6-B0F8-467C-9D1F-BB981880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F75-755C-4030-8C98-A192F126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9C1-AC8B-454F-A738-22741C7E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FE9-DE43-4130-8FE0-8ADFE1A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4E6-089D-4C4B-BB69-5F888F5A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349-0E52-468A-9511-70421DE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C50-24DB-4062-9852-FEBBC7B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587-256F-4DE5-9268-009C9B6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C54-D322-4455-8788-9A9172C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E48-66A2-454B-872D-715693B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D40-7734-4D73-A50A-1210A64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>
                <a:gd name="textAreaLeft" fmla="*/ -360 w 9172440"/>
                <a:gd name="textAreaRight" fmla="*/ 9172440 w 9172440"/>
                <a:gd name="textAreaTop" fmla="*/ 0 h 1307880"/>
                <a:gd name="textAreaBottom" fmla="*/ 1308240 h 130788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>
                <a:gd name="textAreaLeft" fmla="*/ 0 w 9167760"/>
                <a:gd name="textAreaRight" fmla="*/ 9168120 w 9167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>
                <a:gd name="textAreaLeft" fmla="*/ 0 w 6643440"/>
                <a:gd name="textAreaRight" fmla="*/ 6643800 w 6643440"/>
                <a:gd name="textAreaTop" fmla="*/ 0 h 1006920"/>
                <a:gd name="textAreaBottom" fmla="*/ 1007280 h 100692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8699-E5EC-4A4D-BAF3-469F80E7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958680" y="4229280"/>
            <a:ext cx="78613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1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старше трудоспособного возраста (из табл. 2100, стр.1, гр. 3)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по поводу заболеваний (из табл. 2100, стр.1, гр. 7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поводу заболеваний (из табл. 2100, стр.1, гр. 11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158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дения, указанные в таблице не должны превышать данные по строке 1 таблицы 2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ываются посещения лиц старше трудоспособного возраста, то есть посещения женщин в возрасте 55 лет и старше и мужчин в возрасте 60 лет и старш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697"/>
          <p:cNvSpPr/>
          <p:nvPr/>
        </p:nvSpPr>
        <p:spPr>
          <a:xfrm>
            <a:off x="4495680" y="1571760"/>
            <a:ext cx="4496040" cy="2717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03"/>
          <p:cNvSpPr/>
          <p:nvPr/>
        </p:nvSpPr>
        <p:spPr>
          <a:xfrm>
            <a:off x="4495680" y="4343400"/>
            <a:ext cx="4419720" cy="22683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6"/>
          <p:cNvSpPr/>
          <p:nvPr/>
        </p:nvSpPr>
        <p:spPr>
          <a:xfrm>
            <a:off x="6942960" y="403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населения, учтенных в форме №131 «Сведения о диспансеризации определенных групп взрослого насел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например, осмотры участников ВОВ вне плановой диспансер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из них в центрах здоровь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(в соответствии с посещениями центров здоровья по форме №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3680" y="1676160"/>
            <a:ext cx="8686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7 «мобильные медицинские комплексы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это новый уровень современной медицины, выполненный в виде небольшой клиники, полностью укомплектованной медицинским оборудованием, мебелью и всем сопутствующим лечебным инвентарем. Такие специализированные автомобили-фургоны применяются в местах, где нет стационарных медицинских учреждений, а потребность населения в квалифицированной медицинской помощи очень высока.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ПМК предусматривает около двадцати вариантов медицинского оснащения, и может включать в себя такие виды оборудования: диагностическое; лабораторное; амбулаторное; физиотерапевтическое; гериатрическое; лабораторно-диагностическое.</a:t>
            </a:r>
            <a:br>
              <a:rPr sz="1800"/>
            </a:br>
            <a:r>
              <a:rPr b="0" lang="ru-RU" sz="1800" spc="-1" strike="noStrike">
                <a:solidFill>
                  <a:srgbClr val="c84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4480" y="533160"/>
            <a:ext cx="830556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1 «по заболеваниям всего» должна быть больше суммы строк 2+3+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5 «с профилактической и иными целями» должна быть равна сумме строк с 6 по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Текст 2"/>
          <p:cNvSpPr/>
          <p:nvPr/>
        </p:nvSpPr>
        <p:spPr>
          <a:xfrm>
            <a:off x="474840" y="1905120"/>
            <a:ext cx="8305560" cy="426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1 должна быть равна сумме граф 7+8+11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3 сумма строк 1+5 должна быть равна сумме граф 3+9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5 должна быть равна разнице граф (3+9) - (7+8+11)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2 («в неотложной форме») больше или равно сумме строк 1+2 таблицы 2102 (посещения к врачам в кабинет неотложной помощи)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5 строка 2 больше или равно строки 2 таблицы 2102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3 сумма строк 3+10 («активные»+«патронаж») меньше графы 9 («на дому») по строке 1 таблицы 2100 – разница на узких специалистов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5 сумма строк 3+10 меньше графы 12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9 («из них в центрах здоровья») равна данным по форме №68 «Сведения о деятельности центров здоровья»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5"/>
          <p:cNvSpPr/>
          <p:nvPr/>
        </p:nvSpPr>
        <p:spPr>
          <a:xfrm>
            <a:off x="179280" y="5073480"/>
            <a:ext cx="8391600" cy="149400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36"/>
          <p:cNvSpPr/>
          <p:nvPr/>
        </p:nvSpPr>
        <p:spPr>
          <a:xfrm>
            <a:off x="685800" y="5410080"/>
            <a:ext cx="22575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ично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повторно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  </a:t>
            </a:r>
            <a:r>
              <a:rPr b="1" i="1" lang="en-US" sz="2100" spc="-1" strike="noStrike" baseline="32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. Работа стоматологического кабин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i="1" lang="ru-RU" sz="1600" spc="-1" strike="noStrike" u="sng">
                <a:solidFill>
                  <a:srgbClr val="ea8b00"/>
                </a:solidFill>
                <a:uFillTx/>
                <a:latin typeface="Arial"/>
              </a:rPr>
              <a:t>если они состоят в штате медицинской организац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1 должна быть равна сумме строк 2+3 по всем граф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 (продолжение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520"/>
          <p:cNvSpPr/>
          <p:nvPr/>
        </p:nvSpPr>
        <p:spPr>
          <a:xfrm>
            <a:off x="152280" y="4629240"/>
            <a:ext cx="8763120" cy="13143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i="1" lang="ru-RU" sz="1600" spc="-1" strike="noStrike" u="sng">
                <a:solidFill>
                  <a:srgbClr val="ea8b00"/>
                </a:solidFill>
                <a:uFillTx/>
                <a:latin typeface="Arial"/>
              </a:rPr>
              <a:t>в абсолютных значен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21"/>
          <p:cNvSpPr/>
          <p:nvPr/>
        </p:nvSpPr>
        <p:spPr>
          <a:xfrm>
            <a:off x="1817640" y="2889360"/>
            <a:ext cx="7086600" cy="7459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24"/>
          <p:cNvSpPr/>
          <p:nvPr/>
        </p:nvSpPr>
        <p:spPr>
          <a:xfrm>
            <a:off x="1828800" y="3848040"/>
            <a:ext cx="7010280" cy="5335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Объем выполненных работ гигиенистами стоматологическим в УЕТах (графа 16) указыва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24"/>
          <p:cNvSpPr/>
          <p:nvPr/>
        </p:nvSpPr>
        <p:spPr>
          <a:xfrm>
            <a:off x="152280" y="5999040"/>
            <a:ext cx="8763120" cy="8589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Кратность объема выполненных работ (гр. 3) в УЕТах (гр. 16) как ориентир составляет -  3,8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10. Работа врачей-стоматолог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583"/>
          <p:cNvSpPr/>
          <p:nvPr/>
        </p:nvSpPr>
        <p:spPr>
          <a:xfrm>
            <a:off x="4114800" y="3022560"/>
            <a:ext cx="4840200" cy="98100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85"/>
          <p:cNvSpPr/>
          <p:nvPr/>
        </p:nvSpPr>
        <p:spPr>
          <a:xfrm>
            <a:off x="4114800" y="5172120"/>
            <a:ext cx="4862520" cy="971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86"/>
          <p:cNvSpPr/>
          <p:nvPr/>
        </p:nvSpPr>
        <p:spPr>
          <a:xfrm>
            <a:off x="4114800" y="4062240"/>
            <a:ext cx="4829040" cy="10670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Текст 2"/>
          <p:cNvSpPr/>
          <p:nvPr/>
        </p:nvSpPr>
        <p:spPr>
          <a:xfrm>
            <a:off x="474840" y="533520"/>
            <a:ext cx="830556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, стр. 1 «Всего» должна быть равна сумме строк 2+3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 и 2710, разница строк 1-4-5 гр. 6 «Вылечено зубов» и гр. 7 «из гр.6 постоянных» - это разница на взрослых, которая должна следовать равенству гр. 6 = гр. 7, может быть небольшое превышение в гр. 6, которое нужно пояснит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 и 2710, разница строк 1-4-5 гр. 9 «Удалено зубов» и гр. 10 «из гр.9 постоянных» - это разница на взрослых, которая должна следовать равенству гр. 9 = гр. 10, может быть небольшое превышение в гр. 9, которое нужно поясни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Текст 2"/>
          <p:cNvSpPr/>
          <p:nvPr/>
        </p:nvSpPr>
        <p:spPr>
          <a:xfrm>
            <a:off x="474840" y="3581280"/>
            <a:ext cx="830556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00 и 2710, посещения по строке 7 должны быть подтверждены наличием передвижного стоматологического кабинета и количеством выездов в таблице 1003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. 1 по гр. 3 должна быть равна сумме посещений, указанных в таблице 2100 по сумме строк 86+87+88+89+90 и сумме граф 3+9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умма стр. 4+5 по гр. 3 должна быть равна сумме посещений, указанных в таблице 2100 по сумме строк 86+87+88+89+90 и сумме граф 5+12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. 6 по гр. 3 должна быть равна сумме посещений, указанных в таблице 2100 по сумме строк 86+87+88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235584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694"/>
          <p:cNvSpPr/>
          <p:nvPr/>
        </p:nvSpPr>
        <p:spPr>
          <a:xfrm>
            <a:off x="1924200" y="3322800"/>
            <a:ext cx="7010280" cy="512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строку 65 «приемного отделения» могут быть включены посещения приемного отделения к врач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60 «по паллиативной медицинской помощи» - посещения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(посещения, которые ранее вносились в таб. 2102</a:t>
            </a:r>
            <a:r>
              <a:rPr b="1" i="1" lang="ru-RU" sz="16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.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 rot="18941400">
            <a:off x="1488600" y="3830400"/>
            <a:ext cx="4146840" cy="528480"/>
          </a:xfrm>
          <a:custGeom>
            <a:avLst/>
            <a:gdLst>
              <a:gd name="textAreaLeft" fmla="*/ 648000 w 4146840"/>
              <a:gd name="textAreaRight" fmla="*/ 3628800 w 414684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567320" y="3056040"/>
            <a:ext cx="4341600" cy="2397600"/>
            <a:chOff x="4567320" y="3056040"/>
            <a:chExt cx="4341600" cy="2397600"/>
          </a:xfrm>
        </p:grpSpPr>
        <p:sp>
          <p:nvSpPr>
            <p:cNvPr id="73" name="AutoShape 8"/>
            <p:cNvSpPr/>
            <p:nvPr/>
          </p:nvSpPr>
          <p:spPr>
            <a:xfrm>
              <a:off x="4567320" y="3056040"/>
              <a:ext cx="4341600" cy="191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4851720" y="3110400"/>
              <a:ext cx="379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5 может быть больше т2100 (за счет посещений в неотложной форме вне кабинетов неотложной медицинской помощи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 rot="19686600">
            <a:off x="1763280" y="5559480"/>
            <a:ext cx="3063960" cy="528480"/>
          </a:xfrm>
          <a:custGeom>
            <a:avLst/>
            <a:gdLst>
              <a:gd name="textAreaLeft" fmla="*/ 478800 w 3063960"/>
              <a:gd name="textAreaRight" fmla="*/ 2681280 w 306396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425760" y="1563840"/>
            <a:ext cx="4826160" cy="2721960"/>
            <a:chOff x="3425760" y="1563840"/>
            <a:chExt cx="4826160" cy="2721960"/>
          </a:xfrm>
        </p:grpSpPr>
        <p:grpSp>
          <p:nvGrpSpPr>
            <p:cNvPr id="82" name="Group 4"/>
            <p:cNvGrpSpPr/>
            <p:nvPr/>
          </p:nvGrpSpPr>
          <p:grpSpPr>
            <a:xfrm>
              <a:off x="3425760" y="1563840"/>
              <a:ext cx="4826160" cy="2497680"/>
              <a:chOff x="3425760" y="1563840"/>
              <a:chExt cx="4826160" cy="2497680"/>
            </a:xfrm>
          </p:grpSpPr>
          <p:grpSp>
            <p:nvGrpSpPr>
              <p:cNvPr id="83" name="Group 5"/>
              <p:cNvGrpSpPr/>
              <p:nvPr/>
            </p:nvGrpSpPr>
            <p:grpSpPr>
              <a:xfrm>
                <a:off x="3425760" y="1563840"/>
                <a:ext cx="4826160" cy="2497680"/>
                <a:chOff x="3425760" y="1563840"/>
                <a:chExt cx="4826160" cy="2497680"/>
              </a:xfrm>
            </p:grpSpPr>
            <p:sp>
              <p:nvSpPr>
                <p:cNvPr id="84" name="AutoShape 6"/>
                <p:cNvSpPr/>
                <p:nvPr/>
              </p:nvSpPr>
              <p:spPr>
                <a:xfrm>
                  <a:off x="3425760" y="1563840"/>
                  <a:ext cx="482616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7416b"/>
                    </a:gs>
                    <a:gs pos="50000">
                      <a:srgbClr val="002e5c"/>
                    </a:gs>
                    <a:gs pos="100000">
                      <a:srgbClr val="17416b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>
                  <a:off x="3552120" y="1563840"/>
                  <a:ext cx="459936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>
                  <a:off x="3643560" y="1563840"/>
                  <a:ext cx="437112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Line 9"/>
              <p:cNvSpPr/>
              <p:nvPr/>
            </p:nvSpPr>
            <p:spPr>
              <a:xfrm>
                <a:off x="3522960" y="2952720"/>
                <a:ext cx="3898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0"/>
              <p:cNvSpPr/>
              <p:nvPr/>
            </p:nvSpPr>
            <p:spPr>
              <a:xfrm>
                <a:off x="7813080" y="2952720"/>
                <a:ext cx="3898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ctangle 11"/>
            <p:cNvSpPr/>
            <p:nvPr/>
          </p:nvSpPr>
          <p:spPr>
            <a:xfrm>
              <a:off x="4032360" y="1668240"/>
              <a:ext cx="381672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0 (стр 124) +т.2102 (выездная патронажная служба) равна и меньше т2105 (за счет посещений по паллиативной помощи вне кабинетов и отделений по паллиативной помощи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4480" y="533160"/>
            <a:ext cx="830556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троку 1 складываются посещения с графы 5 по 122 (кроме входящих ст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сего» врачебных посещений по медицинской организации равно сумме граф 3+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к «сельским жителям» равно сумме граф 4+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к «детям 0-17 лет» равно сумме граф 5+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по «поводу заболевания всего» равно сумме граф 7+8+11, из них по «поводу заболевания дети 0-17 лет» равно сумме граф 8+1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с «профилактической целью всего» равно разнице граф (3+9) - (7+8+11), из них с «профилактической целью дети 0-17 лет» равно разнице граф (5+12)-(8+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 2"/>
          <p:cNvSpPr/>
          <p:nvPr/>
        </p:nvSpPr>
        <p:spPr>
          <a:xfrm>
            <a:off x="474840" y="3992400"/>
            <a:ext cx="8305560" cy="243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1100 – наличие врача-специалиста по занятой должности в поликлинике по соответствующей строк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2105 – равна таблице 2100 (графы 3+9, 2100 = строки 1+5, 2105)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2710 – количество посещений к стоматологу (стр. 1, гр. 3) равно сумме строк 86, 87, 89, 90 и граф 3+9, таб. 21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Текст 2"/>
          <p:cNvSpPr/>
          <p:nvPr/>
        </p:nvSpPr>
        <p:spPr>
          <a:xfrm>
            <a:off x="425520" y="958680"/>
            <a:ext cx="8323200" cy="39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тите внимание  врачебные посещения по следующим строкам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4 «руководители организаций и их заместители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7 «анестезиологи-реаниматологи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29 «врач мануальной терапии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56 «по медико-социальной экспертизе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80 «рентгенолог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81 «рефлексотерапев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- строка 91 «судебно-медицинские эксперты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3 «трансфузиолог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7 «клинические фармакологи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8 «физиотерапев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20 «эндоскописты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 2"/>
          <p:cNvSpPr/>
          <p:nvPr/>
        </p:nvSpPr>
        <p:spPr>
          <a:xfrm>
            <a:off x="392040" y="5389560"/>
            <a:ext cx="83232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22 «прочие» – предоставить пояснительную записк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914400"/>
          <a:ext cx="8763120" cy="356544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28"/>
          <p:cNvSpPr/>
          <p:nvPr/>
        </p:nvSpPr>
        <p:spPr>
          <a:xfrm>
            <a:off x="6238800" y="635040"/>
            <a:ext cx="2724120" cy="25988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отделений (кабинетов) неотложной медицинской помощи и пунктов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52280" y="4632480"/>
            <a:ext cx="8744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 включаются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 21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6560" y="1467000"/>
          <a:ext cx="8239320" cy="91440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ыездной патронажной службы паллиативной помощи для оказания паллиативной медицинской помощи на дому: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1___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детям 2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Прямоугольник 1"/>
          <p:cNvSpPr/>
          <p:nvPr/>
        </p:nvSpPr>
        <p:spPr>
          <a:xfrm>
            <a:off x="457200" y="2511360"/>
            <a:ext cx="8229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полностью изменена (таб.2102 «Посещения врачами пунктов (кабинетов) неотложной медицинской помощи на дому», ф.№30 за 2017 год), вышеуказанные посещения теперь указываются в таб.2100, стр. 12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26"/>
          <p:cNvSpPr/>
          <p:nvPr/>
        </p:nvSpPr>
        <p:spPr>
          <a:xfrm>
            <a:off x="6798600" y="42372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07880" y="3914640"/>
            <a:ext cx="8229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блицу вносятся посещения патронажной службой паллиативной помощи </a:t>
            </a:r>
            <a:r>
              <a:rPr b="1" i="1" lang="ru-RU" sz="1800" spc="-1" strike="noStrike">
                <a:solidFill>
                  <a:srgbClr val="c84700"/>
                </a:solidFill>
                <a:latin typeface="Arial"/>
                <a:ea typeface="Times New Roman"/>
              </a:rPr>
              <a:t>врачей-специалистов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казывающих паллиативную медицинскую помощь на дому: всего, из них детя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85640" y="5029200"/>
            <a:ext cx="820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блица 2103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Посещения к врачам центров здоровья и комплексные обследования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далена!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4T07:06:19Z</dcterms:modified>
  <cp:revision>1142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