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3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afbfe"/>
                </a:solidFill>
                <a:latin typeface="-윤고딕140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date/time&gt;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afbfe"/>
                </a:solidFill>
                <a:latin typeface="-윤고딕140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7C5A-9F7E-4E40-8603-C285BD4AB29E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04F0-7645-44D6-8F42-7B7E787979FD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E6FB-315F-4C6A-8C80-EE54628693A9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94"/>
          <p:cNvGrpSpPr/>
          <p:nvPr/>
        </p:nvGrpSpPr>
        <p:grpSpPr>
          <a:xfrm>
            <a:off x="6622920" y="0"/>
            <a:ext cx="2521080" cy="451440"/>
            <a:chOff x="6622920" y="0"/>
            <a:chExt cx="2521080" cy="451440"/>
          </a:xfrm>
        </p:grpSpPr>
        <p:sp>
          <p:nvSpPr>
            <p:cNvPr id="1" name="Text Box 95"/>
            <p:cNvSpPr/>
            <p:nvPr/>
          </p:nvSpPr>
          <p:spPr>
            <a:xfrm>
              <a:off x="6622920" y="0"/>
              <a:ext cx="223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Black"/>
                  <a:ea typeface="굴림"/>
                </a:rPr>
                <a:t>POWER POINT TEMPLATE</a:t>
              </a:r>
              <a:endParaRPr b="1" lang="en-US" sz="11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  <p:sp>
          <p:nvSpPr>
            <p:cNvPr id="2" name="Rectangle 96"/>
            <p:cNvSpPr/>
            <p:nvPr/>
          </p:nvSpPr>
          <p:spPr>
            <a:xfrm>
              <a:off x="6622920" y="144360"/>
              <a:ext cx="252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돋움"/>
                  <a:ea typeface="돋움"/>
                </a:rPr>
                <a:t>Company's new low-cost and easy-to-use Web-site </a:t>
              </a:r>
              <a:endParaRPr b="1" lang="en-US" sz="700" spc="-1" strike="noStrike">
                <a:solidFill>
                  <a:srgbClr val="dafbfe"/>
                </a:solidFill>
                <a:latin typeface="-윤고딕140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돋움"/>
                  <a:ea typeface="돋움"/>
                </a:rPr>
                <a:t>design tool will help entrepreneurs spiff up their online.</a:t>
              </a:r>
              <a:endParaRPr b="1" lang="en-US" sz="7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</p:grpSp>
      <p:sp>
        <p:nvSpPr>
          <p:cNvPr id="3" name="Rectangle 105"/>
          <p:cNvSpPr/>
          <p:nvPr/>
        </p:nvSpPr>
        <p:spPr>
          <a:xfrm>
            <a:off x="0" y="333360"/>
            <a:ext cx="9144000" cy="954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1763640" y="981000"/>
            <a:ext cx="59040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ВЕДЕНИЯ О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БОЛЕВАЕМОСТИ</a:t>
            </a:r>
            <a:br>
              <a:rPr sz="4000"/>
            </a:b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5580000" y="2276640"/>
            <a:ext cx="302436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 </a:t>
            </a:r>
            <a:br>
              <a:rPr sz="1000"/>
            </a:br>
            <a:r>
              <a:rPr b="1" i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                                         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й Иванович                                         Оськов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2286000" y="3228840"/>
            <a:ext cx="4572000" cy="31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декабря 2018 года 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Москва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4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684360" y="1557360"/>
            <a:ext cx="792000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орма 12 собирается в двух разрезах: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 – заболеваемость всего населения субъекта РФ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 – заболеваемость сельского населения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а РФ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1325160"/>
            <a:ext cx="78868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НЫЕ МЕДИЦИНСКИЕ ОРГАНИЗАЦИ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мер - областной кожно-венерологический диспансер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36480" y="1787400"/>
            <a:ext cx="7886880" cy="37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Овал 5"/>
          <p:cNvSpPr/>
          <p:nvPr/>
        </p:nvSpPr>
        <p:spPr>
          <a:xfrm rot="20304000">
            <a:off x="1100160" y="1961640"/>
            <a:ext cx="1458720" cy="6890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ffff"/>
                </a:solidFill>
                <a:latin typeface="굴림"/>
                <a:ea typeface="굴림"/>
              </a:rPr>
              <a:t>ОКВД</a:t>
            </a:r>
            <a:endParaRPr b="1" lang="en-US" sz="7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9" name="Прямоугольник 6"/>
          <p:cNvSpPr/>
          <p:nvPr/>
        </p:nvSpPr>
        <p:spPr>
          <a:xfrm>
            <a:off x="3946680" y="2048040"/>
            <a:ext cx="1981080" cy="485640"/>
          </a:xfrm>
          <a:prstGeom prst="rect">
            <a:avLst/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ffff"/>
                </a:solidFill>
                <a:latin typeface="굴림"/>
                <a:ea typeface="굴림"/>
              </a:rPr>
              <a:t>Врачи-дермато-венерологи сотрудники ОКВД</a:t>
            </a:r>
            <a:endParaRPr b="1" lang="en-US" sz="7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0" name="Прямоугольник 7"/>
          <p:cNvSpPr/>
          <p:nvPr/>
        </p:nvSpPr>
        <p:spPr>
          <a:xfrm>
            <a:off x="792000" y="3562200"/>
            <a:ext cx="2163960" cy="493920"/>
          </a:xfrm>
          <a:prstGeom prst="rect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ffff"/>
                </a:solidFill>
                <a:latin typeface="굴림"/>
                <a:ea typeface="굴림"/>
              </a:rPr>
              <a:t>Врачи-дермато-венерологи сотрудники поликлиники</a:t>
            </a:r>
            <a:endParaRPr b="1" lang="en-US" sz="7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1" name="Овал 8"/>
          <p:cNvSpPr/>
          <p:nvPr/>
        </p:nvSpPr>
        <p:spPr>
          <a:xfrm>
            <a:off x="1025640" y="4560840"/>
            <a:ext cx="1500120" cy="74124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굴림"/>
                <a:ea typeface="굴림"/>
              </a:rPr>
              <a:t>Заболевания кож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2" name="Овал 9"/>
          <p:cNvSpPr/>
          <p:nvPr/>
        </p:nvSpPr>
        <p:spPr>
          <a:xfrm>
            <a:off x="3436920" y="4056120"/>
            <a:ext cx="963720" cy="5634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굴림"/>
                <a:ea typeface="굴림"/>
              </a:rPr>
              <a:t>ИППП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3" name="Овал 10"/>
          <p:cNvSpPr/>
          <p:nvPr/>
        </p:nvSpPr>
        <p:spPr>
          <a:xfrm>
            <a:off x="6483240" y="2859120"/>
            <a:ext cx="1409760" cy="847800"/>
          </a:xfrm>
          <a:prstGeom prst="ellipse">
            <a:avLst/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굴림"/>
                <a:ea typeface="굴림"/>
              </a:rPr>
              <a:t>Заболевания кож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굴림"/>
                <a:ea typeface="굴림"/>
              </a:rPr>
              <a:t>ИППП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4" name="Прямоугольник 11"/>
          <p:cNvSpPr/>
          <p:nvPr/>
        </p:nvSpPr>
        <p:spPr>
          <a:xfrm>
            <a:off x="8058240" y="4619520"/>
            <a:ext cx="750960" cy="576360"/>
          </a:xfrm>
          <a:prstGeom prst="rect">
            <a:avLst/>
          </a:prstGeom>
          <a:solidFill>
            <a:srgbClr val="7030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굴림"/>
                <a:ea typeface="굴림"/>
              </a:rPr>
              <a:t>Форма 12 районов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5" name="Прямоугольник 13"/>
          <p:cNvSpPr/>
          <p:nvPr/>
        </p:nvSpPr>
        <p:spPr>
          <a:xfrm>
            <a:off x="5218200" y="4619520"/>
            <a:ext cx="760320" cy="576360"/>
          </a:xfrm>
          <a:prstGeom prst="rect">
            <a:avLst/>
          </a:prstGeom>
          <a:solidFill>
            <a:srgbClr val="7030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굴림"/>
                <a:ea typeface="굴림"/>
              </a:rPr>
              <a:t>Форма 12 районов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cxnSp>
        <p:nvCxnSpPr>
          <p:cNvPr id="86" name="Прямая со стрелкой 15"/>
          <p:cNvCxnSpPr/>
          <p:nvPr/>
        </p:nvCxnSpPr>
        <p:spPr>
          <a:xfrm>
            <a:off x="2493720" y="2228760"/>
            <a:ext cx="1453320" cy="8640"/>
          </a:xfrm>
          <a:prstGeom prst="straightConnector1">
            <a:avLst/>
          </a:prstGeom>
          <a:ln w="9360">
            <a:solidFill>
              <a:srgbClr val="7575d1"/>
            </a:solidFill>
            <a:miter/>
            <a:tailEnd len="med" type="triangle" w="med"/>
          </a:ln>
        </p:spPr>
      </p:cxnSp>
      <p:cxnSp>
        <p:nvCxnSpPr>
          <p:cNvPr id="87" name="Прямая со стрелкой 19"/>
          <p:cNvCxnSpPr/>
          <p:nvPr/>
        </p:nvCxnSpPr>
        <p:spPr>
          <a:xfrm>
            <a:off x="2238120" y="2471400"/>
            <a:ext cx="1648440" cy="1585080"/>
          </a:xfrm>
          <a:prstGeom prst="straightConnector1">
            <a:avLst/>
          </a:prstGeom>
          <a:ln w="93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88" name="Прямая со стрелкой 21"/>
          <p:cNvCxnSpPr>
            <a:endCxn id="81" idx="0"/>
          </p:cNvCxnSpPr>
          <p:nvPr/>
        </p:nvCxnSpPr>
        <p:spPr>
          <a:xfrm>
            <a:off x="1265400" y="4056120"/>
            <a:ext cx="481680" cy="505440"/>
          </a:xfrm>
          <a:prstGeom prst="straightConnector1">
            <a:avLst/>
          </a:prstGeom>
          <a:ln w="93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89" name="Прямая со стрелкой 23"/>
          <p:cNvCxnSpPr/>
          <p:nvPr/>
        </p:nvCxnSpPr>
        <p:spPr>
          <a:xfrm flipV="1">
            <a:off x="2387160" y="5017680"/>
            <a:ext cx="2831040" cy="40320"/>
          </a:xfrm>
          <a:prstGeom prst="straightConnector1">
            <a:avLst/>
          </a:prstGeom>
          <a:ln w="93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90" name="Прямая со стрелкой 26"/>
          <p:cNvCxnSpPr>
            <a:endCxn id="85" idx="1"/>
          </p:cNvCxnSpPr>
          <p:nvPr/>
        </p:nvCxnSpPr>
        <p:spPr>
          <a:xfrm>
            <a:off x="4335480" y="4454280"/>
            <a:ext cx="883440" cy="454680"/>
          </a:xfrm>
          <a:prstGeom prst="straightConnector1">
            <a:avLst/>
          </a:prstGeom>
          <a:ln w="93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91" name="Прямая со стрелкой 30"/>
          <p:cNvCxnSpPr/>
          <p:nvPr/>
        </p:nvCxnSpPr>
        <p:spPr>
          <a:xfrm flipV="1">
            <a:off x="1265400" y="2700000"/>
            <a:ext cx="414720" cy="862560"/>
          </a:xfrm>
          <a:prstGeom prst="straightConnector1">
            <a:avLst/>
          </a:prstGeom>
          <a:ln w="93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92" name="Прямая со стрелкой 32"/>
          <p:cNvCxnSpPr/>
          <p:nvPr/>
        </p:nvCxnSpPr>
        <p:spPr>
          <a:xfrm>
            <a:off x="5934240" y="2506680"/>
            <a:ext cx="910080" cy="402480"/>
          </a:xfrm>
          <a:prstGeom prst="straightConnector1">
            <a:avLst/>
          </a:prstGeom>
          <a:ln w="9360">
            <a:solidFill>
              <a:srgbClr val="7575d1"/>
            </a:solidFill>
            <a:miter/>
            <a:tailEnd len="med" type="triangle" w="med"/>
          </a:ln>
        </p:spPr>
      </p:cxnSp>
      <p:cxnSp>
        <p:nvCxnSpPr>
          <p:cNvPr id="93" name="Прямая со стрелкой 34"/>
          <p:cNvCxnSpPr/>
          <p:nvPr/>
        </p:nvCxnSpPr>
        <p:spPr>
          <a:xfrm>
            <a:off x="7543440" y="3619440"/>
            <a:ext cx="694440" cy="1000800"/>
          </a:xfrm>
          <a:prstGeom prst="straightConnector1">
            <a:avLst/>
          </a:prstGeom>
          <a:ln w="9360">
            <a:solidFill>
              <a:srgbClr val="7575d1"/>
            </a:solidFill>
            <a:miter/>
            <a:tailEnd len="med" type="triangle" w="med"/>
          </a:ln>
        </p:spPr>
      </p:cxnSp>
      <p:sp>
        <p:nvSpPr>
          <p:cNvPr id="94" name="Прямоугольник 35"/>
          <p:cNvSpPr/>
          <p:nvPr/>
        </p:nvSpPr>
        <p:spPr>
          <a:xfrm>
            <a:off x="7794720" y="2122560"/>
            <a:ext cx="720720" cy="57780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굴림"/>
                <a:ea typeface="굴림"/>
              </a:rPr>
              <a:t>Форма 12 субъекта РФ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cxnSp>
        <p:nvCxnSpPr>
          <p:cNvPr id="95" name="Прямая со стрелкой 37"/>
          <p:cNvCxnSpPr/>
          <p:nvPr/>
        </p:nvCxnSpPr>
        <p:spPr>
          <a:xfrm flipV="1">
            <a:off x="7294320" y="2471400"/>
            <a:ext cx="500760" cy="388080"/>
          </a:xfrm>
          <a:prstGeom prst="straightConnector1">
            <a:avLst/>
          </a:prstGeom>
          <a:ln w="9360">
            <a:solidFill>
              <a:srgbClr val="7575d1"/>
            </a:solidFill>
            <a:miter/>
            <a:tailEnd len="med" type="triangle" w="med"/>
          </a:ln>
        </p:spPr>
      </p:cxnSp>
      <p:sp>
        <p:nvSpPr>
          <p:cNvPr id="96" name="Прямоугольник 38"/>
          <p:cNvSpPr/>
          <p:nvPr/>
        </p:nvSpPr>
        <p:spPr>
          <a:xfrm>
            <a:off x="6483240" y="5122800"/>
            <a:ext cx="811440" cy="69048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굴림"/>
                <a:ea typeface="굴림"/>
              </a:rPr>
              <a:t>Форма 12 субъекта РФ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cxnSp>
        <p:nvCxnSpPr>
          <p:cNvPr id="97" name="Прямая со стрелкой 41"/>
          <p:cNvCxnSpPr>
            <a:endCxn id="96" idx="0"/>
          </p:cNvCxnSpPr>
          <p:nvPr/>
        </p:nvCxnSpPr>
        <p:spPr>
          <a:xfrm>
            <a:off x="5978160" y="4726080"/>
            <a:ext cx="910440" cy="397440"/>
          </a:xfrm>
          <a:prstGeom prst="straightConnector1">
            <a:avLst/>
          </a:prstGeom>
          <a:ln w="93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98" name="Прямая со стрелкой 43"/>
          <p:cNvCxnSpPr/>
          <p:nvPr/>
        </p:nvCxnSpPr>
        <p:spPr>
          <a:xfrm>
            <a:off x="5978520" y="4908240"/>
            <a:ext cx="559080" cy="214920"/>
          </a:xfrm>
          <a:prstGeom prst="straightConnector1">
            <a:avLst/>
          </a:prstGeom>
          <a:ln w="93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99" name="Прямая со стрелкой 45"/>
          <p:cNvCxnSpPr/>
          <p:nvPr/>
        </p:nvCxnSpPr>
        <p:spPr>
          <a:xfrm>
            <a:off x="5978520" y="5017680"/>
            <a:ext cx="505440" cy="284400"/>
          </a:xfrm>
          <a:prstGeom prst="straightConnector1">
            <a:avLst/>
          </a:prstGeom>
          <a:ln w="93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100" name="Прямая со стрелкой 47"/>
          <p:cNvCxnSpPr>
            <a:endCxn id="96" idx="1"/>
          </p:cNvCxnSpPr>
          <p:nvPr/>
        </p:nvCxnSpPr>
        <p:spPr>
          <a:xfrm>
            <a:off x="5786280" y="5202360"/>
            <a:ext cx="697680" cy="265680"/>
          </a:xfrm>
          <a:prstGeom prst="straightConnector1">
            <a:avLst/>
          </a:prstGeom>
          <a:ln w="93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101" name="Прямая со стрелкой 49"/>
          <p:cNvCxnSpPr/>
          <p:nvPr/>
        </p:nvCxnSpPr>
        <p:spPr>
          <a:xfrm>
            <a:off x="5324040" y="5202360"/>
            <a:ext cx="1159560" cy="452880"/>
          </a:xfrm>
          <a:prstGeom prst="straightConnector1">
            <a:avLst/>
          </a:prstGeom>
          <a:ln w="9360">
            <a:solidFill>
              <a:srgbClr val="00b0f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3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4" name="Прямоугольник 3"/>
          <p:cNvSpPr/>
          <p:nvPr/>
        </p:nvSpPr>
        <p:spPr>
          <a:xfrm>
            <a:off x="684360" y="1557360"/>
            <a:ext cx="8208720" cy="30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счета показателей заболеваемости населения района обслуживания 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, чтобы  форма 12 была 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а по всем строкам.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6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34936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зменения в форме 12 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 2018 год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9" name="Прямоугольник 37"/>
          <p:cNvSpPr/>
          <p:nvPr/>
        </p:nvSpPr>
        <p:spPr>
          <a:xfrm>
            <a:off x="539640" y="549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24000" y="1204920"/>
          <a:ext cx="8640720" cy="3429000"/>
        </p:xfrm>
        <a:graphic>
          <a:graphicData uri="http://schemas.openxmlformats.org/drawingml/2006/table">
            <a:tbl>
              <a:tblPr/>
              <a:tblGrid>
                <a:gridCol w="2303280"/>
                <a:gridCol w="660600"/>
                <a:gridCol w="785520"/>
                <a:gridCol w="500040"/>
                <a:gridCol w="642960"/>
                <a:gridCol w="642960"/>
                <a:gridCol w="569880"/>
                <a:gridCol w="500040"/>
                <a:gridCol w="714600"/>
                <a:gridCol w="571320"/>
                <a:gridCol w="749520"/>
              </a:tblGrid>
              <a:tr h="182520"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Наименование классов и отдельных болезней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трок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Код 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по МКБ-10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пересмотра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Зарегистрировано заболеваний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нято с диспан-серного наблю-дения 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остоит под диспан-серным наблюде-нием на конец отчетного года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сего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них (из гр. 4):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заболеваний с впервые в жизни установленным диагнозом (из гр. 9):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зято под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испансерное наблю-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ение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 впервые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 жизни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установ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ленным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иагно-зом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зято под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испансер-ное наблю-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ение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ыявлено при проф-осмотре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ыявлено  при  диспан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еризации определенных групп взрослого населения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3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9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5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221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굴림"/>
              </a:rPr>
              <a:t>В таблицы 1000, 2000, 3000, 4000 добавлена строк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24000" y="4653000"/>
          <a:ext cx="8640720" cy="2012760"/>
        </p:xfrm>
        <a:graphic>
          <a:graphicData uri="http://schemas.openxmlformats.org/drawingml/2006/table">
            <a:tbl>
              <a:tblPr/>
              <a:tblGrid>
                <a:gridCol w="2447640"/>
                <a:gridCol w="505080"/>
                <a:gridCol w="790560"/>
                <a:gridCol w="504720"/>
                <a:gridCol w="647640"/>
                <a:gridCol w="647640"/>
                <a:gridCol w="576360"/>
                <a:gridCol w="504720"/>
                <a:gridCol w="719280"/>
                <a:gridCol w="576360"/>
                <a:gridCol w="720720"/>
              </a:tblGrid>
              <a:tr h="182520">
                <a:tc>
                  <a:txBody>
                    <a:bodyPr lIns="44640" rIns="44640" tIns="0" bIns="0" anchor="ctr">
                      <a:noAutofit/>
                    </a:bodyPr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арный диабет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10-Е14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44640" rIns="44640" tIns="0" bIns="0" anchor="ctr">
                      <a:noAutofit/>
                    </a:bodyPr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его: 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оражением глаз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.1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10.3, Е11.3,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12.3, Е13.3,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14.3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44640" rIns="44640" tIns="0" bIns="0" anchor="ctr">
                      <a:noAutofit/>
                    </a:bodyPr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 поражением почек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.2.2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10.2, Е11.2,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12.2, Е13.2,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14.2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его (из стр. 5.2):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арный диабет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ипа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.2.3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10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44640" rIns="44640" tIns="0" bIns="0" anchor="ctr">
                      <a:noAutofit/>
                    </a:bodyPr>
                    <a:p>
                      <a:pPr marL="2667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арный диабет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ипа    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.2.4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11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44640" rIns="4464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ерфункция гипофиза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22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4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1844280"/>
            <a:ext cx="80643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бавлены таблицы 1003, 2003, 3003, 4003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з числа пациентов, состоящих на конец года под диспансерным наблюдением (гр. 15): состоит под диспансерным наблюдением лиц с хроническим вирусным гепатитом (В18) и циррозом печени (К74.6) одновременно  1 ________ чел.; 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 хроническим вирусным гепатитом (В18) и гепатоцеллюлярным раком (С22.0) одновременно  2 ________ че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7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000" y="1844280"/>
            <a:ext cx="80643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формы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0" name="Прямоугольник 2"/>
          <p:cNvSpPr/>
          <p:nvPr/>
        </p:nvSpPr>
        <p:spPr>
          <a:xfrm>
            <a:off x="395280" y="692280"/>
            <a:ext cx="83534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12 формируется по 6 разделам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(0-14 лет включительно) - 1000, 1001, 1002,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00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100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первого года жизни - 1500, 1600, 1650, 1700, 1800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0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(15-17 лет включительно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000, 2001,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00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100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(18 лет и более) - 3000, 3002,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00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3100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 старше  трудоспособного  возраста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  55 лет  у женщин и 60 лет у мужчин) - 4000, 4001,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00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00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ансеризация студентов высших учебных заведений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5000, 5100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395280" y="1557360"/>
            <a:ext cx="8353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ы - 1000, 1001, 1002, 1100, 1700, 1800, 1900, 2000, 2001,  2100,  3000,  3002,  3100,  4000,  4001,  4100, 5000, 5100 собираются  сведения  о  пациентах с 01 января по 31 декабря 2018 года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таблицы 1500, 1600, 1650 собираются  сведения  о  паци-ентах, которые родились с 01 января по 31 декабря 2017 года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4" name="Прямоугольник 2"/>
          <p:cNvSpPr/>
          <p:nvPr/>
        </p:nvSpPr>
        <p:spPr>
          <a:xfrm>
            <a:off x="468360" y="1197000"/>
            <a:ext cx="842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1000, 2000, 3000, 4000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4 - заболевания, зарегистрированные у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ациентов впервые в жизни и повторно один  раз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 году (+ и -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5 – в возрасте 0-4 года, из графы 4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6 – в возрасте 5-9 лет, из графы 4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при этом графа 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графам 5+6 в таблице 1000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8 – взято под диспансерное наблюдение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 течение года, из графы 4 «всего» (+ и -)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9 - заболевания, зарегистрированные у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ациентов впервые в жизни (+),  из графы 4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2" name="Прямоугольник 20"/>
          <p:cNvSpPr/>
          <p:nvPr/>
        </p:nvSpPr>
        <p:spPr>
          <a:xfrm>
            <a:off x="900000" y="1557360"/>
            <a:ext cx="777564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ИСЛЕ ЗАБОЛЕВАНИЙ, ЗАРЕГИСТРИРОВАННЫХ У                   ПАЦИЕНТОВ, ПРОЖИВАЮЩИХ          В РАЙОНЕ ОБСЛУЖИВАНИЯ                МЕДИЦИНСКОЙ ОРГАНИЗАЦИИ </a:t>
            </a:r>
            <a:br>
              <a:rPr sz="9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 2018 год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3" name="Прямоугольник 21"/>
          <p:cNvSpPr/>
          <p:nvPr/>
        </p:nvSpPr>
        <p:spPr>
          <a:xfrm>
            <a:off x="1332000" y="620640"/>
            <a:ext cx="6769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ОЕ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ТИСТИЧЕСКОЕ НАБЛЮДЕНИ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2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6" name="Прямоугольник 2"/>
          <p:cNvSpPr/>
          <p:nvPr/>
        </p:nvSpPr>
        <p:spPr>
          <a:xfrm>
            <a:off x="539640" y="765000"/>
            <a:ext cx="820908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-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-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10 - взято под диспансерное наблюдение в течение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а (+) , из графы 9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11 – выявлено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перв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профосмотре, из графы 9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12 – выявлено  при  диспансеризации определенных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 взрослого населения, из графы 9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 таблице 2000 - выявлено  при  диспансеризаци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14 – снято с диспансерного наблюдения (по всем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ам: выздоровление, смерть, переезд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е место жительства и др.)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15 – состоит под диспансерным наблюдением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ц отчетного года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ы 7,13,16-в таблице 2000 –все данные о юноша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250920" y="24210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8 трактовка </a:t>
            </a: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изменена !!!</a:t>
            </a: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0" name="Rectangle 24"/>
          <p:cNvSpPr/>
          <p:nvPr/>
        </p:nvSpPr>
        <p:spPr>
          <a:xfrm>
            <a:off x="395280" y="-5883480"/>
            <a:ext cx="8280360" cy="122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Таблица 1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(Графа 15 за 2016 г)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(переходные дети в подростки) + (впервые взятые на Д-учет в текущем году) + (вновь прибывшие) + (ранее стоящие на Д-учет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оторвавшиес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и кому диагноз был ранее установлен, но на Д-учете не состоял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Таблица 2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(Графа 15 за 2016 г)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(переходные подростки во взрослые) + (впервые взятые на Д-учет в текущем году) + (вновь прибывшие) + (ранее стоящие на Д-учет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оторвавшиес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и кому диагноз был ранее установлен, но на Д-учете не состоял) + (переходные из детей, таблицы 1000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Таблица 3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(Графа 15 за 2016 г) + (впервые взятые на Д-учет в текущем году) + (вновь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прибывшие) + (ранее стоящие на Д-учет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оторвавшиес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и кому диагноз был ранее установлен, но на Д-учете не состоял) + (переходные из подростков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таблицы 2000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468360" y="162864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рафа 14 – снято с диспансерного наблюдения (по 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всем причинам: выздоровление, смерть, переезд на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ругое место жительства и др.)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еход в другую возрастную группу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 входит в графу 14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250920" y="2060640"/>
            <a:ext cx="871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 всем строкам таблиц 1000, 2000, 3000, 4000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из графы 8 минус графа 14 равно графе 15,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том числе и строкам раздела 6.0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250920" y="206064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500</a:t>
            </a: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8" name="Прямоугольник 2"/>
          <p:cNvSpPr/>
          <p:nvPr/>
        </p:nvSpPr>
        <p:spPr>
          <a:xfrm>
            <a:off x="250920" y="2060640"/>
            <a:ext cx="871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дицинская организация заполняет таблицу 1500 на детей, которые проживают на территории обслуживания и им исполнился год (в т.ч. умершие).  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0" name="Прямоугольник 2"/>
          <p:cNvSpPr/>
          <p:nvPr/>
        </p:nvSpPr>
        <p:spPr>
          <a:xfrm>
            <a:off x="611280" y="191628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ть список учреждений представляющих форму 12 и соответственно исключить возможность дублирование данных в таблице 1500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2" name="Прямоугольник 2"/>
          <p:cNvSpPr/>
          <p:nvPr/>
        </p:nvSpPr>
        <p:spPr>
          <a:xfrm>
            <a:off x="1116000" y="765000"/>
            <a:ext cx="684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ети первого года жизни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500) 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95280" y="1197000"/>
          <a:ext cx="8496360" cy="5329080"/>
        </p:xfrm>
        <a:graphic>
          <a:graphicData uri="http://schemas.openxmlformats.org/drawingml/2006/table">
            <a:tbl>
              <a:tblPr/>
              <a:tblGrid>
                <a:gridCol w="2484360"/>
                <a:gridCol w="470160"/>
                <a:gridCol w="631800"/>
                <a:gridCol w="550800"/>
                <a:gridCol w="549360"/>
                <a:gridCol w="612720"/>
                <a:gridCol w="745920"/>
                <a:gridCol w="747720"/>
                <a:gridCol w="584280"/>
                <a:gridCol w="501480"/>
                <a:gridCol w="617760"/>
              </a:tblGrid>
              <a:tr h="274680">
                <a:tc rowSpan="3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Наименование классов и отдельных болезней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трок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Код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по МКБ-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пересмотра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24480" rIns="24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нято с диспан-серного наблю-дения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остоит под диспан-серным наблюде-нием на конец отчетного года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них (из гр. 4)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заболеваний с впервые в жизни установленным диагнозом (из гр. 9)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 возраст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о 1 мес.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 впервы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 жизн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установ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ленным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иагнозом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испансерное наблю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ыявлено при проф-осмотр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3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5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9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5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24480" rIns="2448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Зарегистрировано заболеваний – всего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.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А00-Т9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24480" rIns="2448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 том числе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некоторые инфекционные и паразитарные болезн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2.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А00-В99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24480" rIns="24480" tIns="0" bIns="0" anchor="ctr">
                      <a:noAutofit/>
                    </a:bodyPr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них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кишечные инфекци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2.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А00-А09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24480" rIns="24480" tIns="0" bIns="0" anchor="ctr">
                      <a:noAutofit/>
                    </a:bodyPr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менингококковая инфекция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2.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А39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24480" rIns="2448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новообразования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3.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00-D4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24480" rIns="2448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1480" rIns="5148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1480" rIns="5148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болезни мочеполовой системы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5.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N00-N99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51480" rIns="5148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отдельные состояния, возникающие в перинатальном период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7.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P05-P96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5" name="Прямоугольник 2"/>
          <p:cNvSpPr/>
          <p:nvPr/>
        </p:nvSpPr>
        <p:spPr>
          <a:xfrm>
            <a:off x="468360" y="2349360"/>
            <a:ext cx="820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анная таблица не сравнивается с  другими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аблицами  формы 12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 другими формами годового отчета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5" name="Прямоугольник 31"/>
          <p:cNvSpPr/>
          <p:nvPr/>
        </p:nvSpPr>
        <p:spPr>
          <a:xfrm>
            <a:off x="468360" y="836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395280" y="907920"/>
            <a:ext cx="835344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федерального статистического наблюдения  № 12 «Сведения о числе заболеваний, зарегистрированных  у  паци-ентов, проживающих в районе обслуживания медицинско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и», составляется всеми медицинскими организаци-ями, входящие в номенклатуру медицинских организаций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ющие  медицинскую  помощь  в  амбулаторных  усло-вия (приказ Минздрава  России  от 6  августа  2013 г.  № 529н «Об утверждении номенклатуры медицинских организаций»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егистрирован Министерством юстиции Российско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ции 13.09.2013 № 29950), в соответствии с приказом от 21 июля 2016 года № 355 «Об утверждении статистическог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ария для организации Министерство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оохранения Российской Федерации федерального статис-тического  наблюдения  в  сфере охраны здоровья» Федераль-ной службы государственной статистики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7" name="Прямоугольник 2"/>
          <p:cNvSpPr/>
          <p:nvPr/>
        </p:nvSpPr>
        <p:spPr>
          <a:xfrm>
            <a:off x="1476360" y="1700280"/>
            <a:ext cx="5975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на начало года по всем строкам 0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графа 4 = графе 9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графа 8 = графе 10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8"/>
          <p:cNvSpPr/>
          <p:nvPr/>
        </p:nvSpPr>
        <p:spPr>
          <a:xfrm>
            <a:off x="91116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9" name="Прямоугольник 7"/>
          <p:cNvSpPr/>
          <p:nvPr/>
        </p:nvSpPr>
        <p:spPr>
          <a:xfrm>
            <a:off x="611280" y="549360"/>
            <a:ext cx="79930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таблицы 1500, 1600, 1650 вносится 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нформация о детях, которым 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2018 году исполнился один год.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оответственно родились они 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 01.01.2017 по 31.12.2017 года.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1" name="Прямоугольник 3"/>
          <p:cNvSpPr/>
          <p:nvPr/>
        </p:nvSpPr>
        <p:spPr>
          <a:xfrm>
            <a:off x="684360" y="907920"/>
            <a:ext cx="806436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5 таблицы 1500 представляется информация о заболеваниях детей первого месяца жизни из графы 4  (заболевания детей первого года жизни - всего). 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В графе 14 представляется информация о выздоровевших и умерших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ыехавшие дети в данной графе не учитываются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В графе 15 представляется информация о детях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щих под диспансерном  наблюдением по заболеванию.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3" name="Прямоугольник 2"/>
          <p:cNvSpPr/>
          <p:nvPr/>
        </p:nvSpPr>
        <p:spPr>
          <a:xfrm>
            <a:off x="611280" y="836640"/>
            <a:ext cx="7993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я родился 01 января 2017 года. Год ему исполнился 01 января 2018 года. Федя болел в течение этого, первого года (с 01 января по 31 декабря 2017 года), своей жизни и все заболевания, которыми он болел, Вы покажете в таблице 1500 формы 12 в графах 4 и 9 (и по остальным графам) за 2018 год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Федя болел и в первый месяц  своей жизни с 01 января по 31 января 2017 года и все его заболевания Вы покажете в таблице 1500 формы 12 графе 5 за 2018 год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роме этого Вы покажете все заболевания Феди с 01 января 2018 года по 31 декабря 2018 года в таблице 1000 формы 12 по всем графам за 2018 год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5" name="Прямоугольник 2"/>
          <p:cNvSpPr/>
          <p:nvPr/>
        </p:nvSpPr>
        <p:spPr>
          <a:xfrm>
            <a:off x="684360" y="981000"/>
            <a:ext cx="7848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я родился 31 декабря 2017 года. Год ему исполнился 31 декабря 2018 года. Коля болел в течение этого, первого года (с 31 декабря 2017 года по 30 декабря 2018 года), своей жизни и все заболевания, которыми он болел, Вы покажете в таблице 1500 формы 12 в графах 4 и 9 (и по остальным графам) за 2018 год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Коля болел и в первый месяц  своей жизни с 31 декабря 2017 года по 30 января 2018 года и все его заболевания  Вы  покажете в таблице 1500 формы 12 графе 5 за 2018 год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роме этого Вы покажете все заболевания Коли с 01 января 2018 года по 31 декабря 2018 года в таблице 1000 формы 12 по всем графам за 2018 год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324000" y="14842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47000"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первого года жизн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ы, влияющие на состояние здоровья населения и обращения в медицинские организаци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 профилактической и иными целями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600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755640" y="1484280"/>
          <a:ext cx="7777080" cy="4971960"/>
        </p:xfrm>
        <a:graphic>
          <a:graphicData uri="http://schemas.openxmlformats.org/drawingml/2006/table">
            <a:tbl>
              <a:tblPr/>
              <a:tblGrid>
                <a:gridCol w="4403880"/>
                <a:gridCol w="814320"/>
                <a:gridCol w="969840"/>
                <a:gridCol w="793800"/>
                <a:gridCol w="795240"/>
              </a:tblGrid>
              <a:tr h="165240">
                <a:tc rowSpan="2"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МКБ-10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вторны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880"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52560" rIns="52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00-Z99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52560" rIns="52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в медицинские организации для медицинского осмотра и обследования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00-Z13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52560" rIns="52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обращения в связи с получением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документов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.7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52560" rIns="52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альная опасность для здоровья, связанная с инфекционными болезням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20-Z29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52560" rIns="52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носительство возбудителя инфекционной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52560" rIns="52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в медицинские организации в связи с обстоятельствами, относящимися к репродуктивной функци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30-Z39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52560" rIns="52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в медицинские организации в связи с необходимостью проведения специфических процедур и получения медицинской помощ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40-Z54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52560" rIns="52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ь, включающая использовани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билитационных процедур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.1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50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52560" rIns="52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ая помощь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.2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51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5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52560" rIns="52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альная опасность для здоровья, связанная с социально-экономическими и психосоциальными обстоятельствам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55-Z65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52560" rIns="52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в медицинские организации в связи с другими обстоятельствами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70-Z76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52560" rIns="52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роблемы, связанные с образом жизн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.1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72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52560" rIns="52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альная опасность для здоровья, связанная  с личным или семейным анамнезом и определенными обстоятельствами, влияющими на здоровь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80-Z99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52560" rIns="52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заболевания в семейном анамнез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.1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80-Z84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52560" rIns="52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илеостомы, колостомы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.2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.2,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.3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916280"/>
            <a:ext cx="82296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굴림"/>
              </a:rPr>
              <a:t>(1650)</a:t>
            </a:r>
            <a:r>
              <a:rPr b="0" lang="ru-RU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                            Код по ОКЕИ: человек – 792</a:t>
            </a:r>
            <a:br>
              <a:rPr sz="1000"/>
            </a:b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굴림"/>
              </a:rPr>
              <a:t>Из стр. 1.7.1.1. таблицы 1600: обследовано на выявление кондуктивной и нейросенсорной потери слуха   1 ___________. 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таблицы 1500, 1600, 1650 вносится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нформация о детях, которым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2018 году исполнился один год.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оответственно родились они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 01.01.2017 по 31.12.2017 года.</a:t>
            </a:r>
            <a:br>
              <a:rPr sz="10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4" name="Прямоугольник 2"/>
          <p:cNvSpPr/>
          <p:nvPr/>
        </p:nvSpPr>
        <p:spPr>
          <a:xfrm>
            <a:off x="324000" y="69228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700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новорожденных, поступивших под наблюдение данной организации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 1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1700280"/>
          <a:ext cx="8569080" cy="2468520"/>
        </p:xfrm>
        <a:graphic>
          <a:graphicData uri="http://schemas.openxmlformats.org/drawingml/2006/table">
            <a:tbl>
              <a:tblPr/>
              <a:tblGrid>
                <a:gridCol w="4479840"/>
                <a:gridCol w="4089240"/>
              </a:tblGrid>
              <a:tr h="10976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(1800)</a:t>
                      </a: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Осмотрено новорожденных на 1 этапе аудиологического скрининга  1 _________, </a:t>
                      </a: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них: выявлено с нарушениями слуха  2 ___________,</a:t>
                      </a: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196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числа выявленных с нарушением слуха на I этапе аудиологического скрининга обследовано на 2 этапе аудиологического скрининга  3 _________,</a:t>
                      </a: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них: выявлено с нарушениями слуха  4 ___________,</a:t>
                      </a: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Прямоугольник 4"/>
          <p:cNvSpPr/>
          <p:nvPr/>
        </p:nvSpPr>
        <p:spPr>
          <a:xfrm>
            <a:off x="324000" y="4292640"/>
            <a:ext cx="8424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00)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новорожденных поступивших под наблюдение (табл. 1700)  обследовано на: фенилкетонурию   5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_____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ожденный гипотиреоз  6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______ 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еногенитальный синдром   7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актоземию   8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  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уковисцидоз   9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_______ 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7" name="Прямоугольник 5"/>
          <p:cNvSpPr/>
          <p:nvPr/>
        </p:nvSpPr>
        <p:spPr>
          <a:xfrm>
            <a:off x="1476360" y="580536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Таблицы заполняются за 2018 год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9" name="Прямоугольник 2"/>
          <p:cNvSpPr/>
          <p:nvPr/>
        </p:nvSpPr>
        <p:spPr>
          <a:xfrm>
            <a:off x="250920" y="206064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</a:t>
            </a: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1" name="Прямоугольник 2"/>
          <p:cNvSpPr/>
          <p:nvPr/>
        </p:nvSpPr>
        <p:spPr>
          <a:xfrm>
            <a:off x="2286000" y="76500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ети  (15-17 лет включительно)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00)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95280" y="1125360"/>
          <a:ext cx="8424720" cy="4044960"/>
        </p:xfrm>
        <a:graphic>
          <a:graphicData uri="http://schemas.openxmlformats.org/drawingml/2006/table">
            <a:tbl>
              <a:tblPr/>
              <a:tblGrid>
                <a:gridCol w="1606680"/>
                <a:gridCol w="482400"/>
                <a:gridCol w="541440"/>
                <a:gridCol w="465120"/>
                <a:gridCol w="463680"/>
                <a:gridCol w="541080"/>
                <a:gridCol w="540000"/>
                <a:gridCol w="542880"/>
                <a:gridCol w="620640"/>
                <a:gridCol w="622440"/>
                <a:gridCol w="465120"/>
                <a:gridCol w="463320"/>
                <a:gridCol w="622440"/>
                <a:gridCol w="447480"/>
              </a:tblGrid>
              <a:tr h="189000"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Наименование классов и отдельных болезней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трок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Код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по МКБ-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пере-смотра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Зарегистрировано заболеваний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нято с диспан-серного наблю-дения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остоит под диспан-серным наблюде-нием на конец отчетного года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них (из гр. 15): 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них: 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них (из гр. 4)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заболеваний с впервые в жизни установленным диагнозом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(из гр. 9)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굴림"/>
                        </a:rPr>
                        <a:t>из заболе-ваний с впервые в жизни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굴림"/>
                        </a:rPr>
                        <a:t>установ-ленным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굴림"/>
                        </a:rPr>
                        <a:t>диагно-зом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굴림"/>
                        </a:rPr>
                        <a:t>(из гр. 10)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굴림"/>
                        </a:rPr>
                        <a:t>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 впервы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 жизн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установ- ленным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иагно-зом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ыявле-но при проф-осмотр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굴림"/>
                        </a:rPr>
                        <a:t>выявлено при диспан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굴림"/>
                        </a:rPr>
                        <a:t>серизации определен-ных групп взрослого населения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900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3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7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9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3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5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6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Зарегистрировано заболеваний – всего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.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А00-Т9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Прямоугольник 4"/>
          <p:cNvSpPr/>
          <p:nvPr/>
        </p:nvSpPr>
        <p:spPr>
          <a:xfrm>
            <a:off x="468360" y="5300640"/>
            <a:ext cx="849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фа 12 - выявлено при диспансеризации определенных групп взрослого населения (гр. 12) –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едует читать -  выявлено при диспансеризации</a:t>
            </a:r>
            <a:br>
              <a:rPr sz="1800"/>
            </a:b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фа 11 - из заболеваний с впервые в жизни установленным диагнозом  (из гр. 10) юноши (гр. 13) –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едует читать - из заболеваний с впервые в жизни установленным диагнозом (из гр. 9) юноши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8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8" name="Прямоугольник 97"/>
          <p:cNvSpPr/>
          <p:nvPr/>
        </p:nvSpPr>
        <p:spPr>
          <a:xfrm>
            <a:off x="395280" y="692280"/>
            <a:ext cx="84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468360" y="836640"/>
            <a:ext cx="820728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, имеющая в своем составе подразде-ления,  оказывающие медицинскую помощь в амбу-латорных условиях и ведущая только консультатив-ный прием, составляет форму по соответствующим строкам лишь в том случае, если в данной организа-ции у пациентов  не только выявляются  эти заболе-вания, но  и осуществляется их лечение,  а также  и диспансерное наблюдение за пациентами.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5" name="Прямоугольник 2"/>
          <p:cNvSpPr/>
          <p:nvPr/>
        </p:nvSpPr>
        <p:spPr>
          <a:xfrm>
            <a:off x="395280" y="1557360"/>
            <a:ext cx="8353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Контроль «девушки»: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всего» (гр.4) – «из них: юноши» (гр.7) = «всего девушки»;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с впервые в жизни ..» (гр.9) – «из заболеваний … юноши»  (гр.13) = «девушки впервые»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Итого: «всего девушки»: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девушки впервые»  -  не должно быть отрицательных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начений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7" name="Прямоугольник 2"/>
          <p:cNvSpPr/>
          <p:nvPr/>
        </p:nvSpPr>
        <p:spPr>
          <a:xfrm>
            <a:off x="755640" y="2492280"/>
            <a:ext cx="756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11280" y="1246320"/>
          <a:ext cx="7993080" cy="4421160"/>
        </p:xfrm>
        <a:graphic>
          <a:graphicData uri="http://schemas.openxmlformats.org/drawingml/2006/table">
            <a:tbl>
              <a:tblPr/>
              <a:tblGrid>
                <a:gridCol w="1523880"/>
                <a:gridCol w="457200"/>
                <a:gridCol w="514440"/>
                <a:gridCol w="441360"/>
                <a:gridCol w="439560"/>
                <a:gridCol w="514440"/>
                <a:gridCol w="512640"/>
                <a:gridCol w="514440"/>
                <a:gridCol w="588960"/>
                <a:gridCol w="590400"/>
                <a:gridCol w="439920"/>
                <a:gridCol w="441360"/>
                <a:gridCol w="588960"/>
                <a:gridCol w="425520"/>
              </a:tblGrid>
              <a:tr h="122040"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-смотра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остоит под диспан-серным наблюде-нием на конец отчетного года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 15): юнош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юнош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9)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заболе-ваний с впервые в жизни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-ленным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10)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нош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- ленным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-но при проф-осмотр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о при диспан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изации определен-ных групп взрослого населения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00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marL="88920"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8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функция яичнико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2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исфункция яичек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2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43560" rIns="435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олезни предстательной желез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.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40-N4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рокачественная дисплазия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чной желез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алительные болезни женских тазовых органо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70-N73,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75-N7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560" rIns="43560" tIns="0" bIns="0" anchor="ctr">
                      <a:noAutofit/>
                    </a:bodyPr>
                    <a:p>
                      <a:pPr marL="2667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альпингит и оофорит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7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дометриоз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розия и эктропион шейки матки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8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ройства менструаци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1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-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580536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данным строкам – девушек нет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647532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2" name="Прямоугольник 2"/>
          <p:cNvSpPr/>
          <p:nvPr/>
        </p:nvSpPr>
        <p:spPr>
          <a:xfrm>
            <a:off x="755640" y="2492280"/>
            <a:ext cx="7561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3000 и 4000</a:t>
            </a: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4" name="Прямоугольник 2"/>
          <p:cNvSpPr/>
          <p:nvPr/>
        </p:nvSpPr>
        <p:spPr>
          <a:xfrm>
            <a:off x="684360" y="1700280"/>
            <a:ext cx="784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Контроль «врослых»: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начения в графоклетках таблицы 4000  не могут быть больше, чем в соответствующих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фоклетках таблицы 3000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6" name="Прямоугольник 2"/>
          <p:cNvSpPr/>
          <p:nvPr/>
        </p:nvSpPr>
        <p:spPr>
          <a:xfrm>
            <a:off x="468360" y="765000"/>
            <a:ext cx="820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орядком заполнения формы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ого статистического наблюдения №12</a:t>
            </a: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се таблицы заполняются по всем строкам и графам</a:t>
            </a:r>
            <a:br>
              <a:rPr sz="2800"/>
            </a:b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7" name="Прямоугольник 3"/>
          <p:cNvSpPr/>
          <p:nvPr/>
        </p:nvSpPr>
        <p:spPr>
          <a:xfrm>
            <a:off x="539640" y="386064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крещенные графоклетки 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 заполняются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9" name="Прямоугольник 2"/>
          <p:cNvSpPr/>
          <p:nvPr/>
        </p:nvSpPr>
        <p:spPr>
          <a:xfrm>
            <a:off x="395280" y="1341360"/>
            <a:ext cx="842472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гистрация заболеваний осуществляется по году рождения. Если в отчетном году ребенку исполняется 15 лет (с 1 января – по 31 дека-бря), то он считается подростком; 18 лет – взрослым, т.е. переход из одной возрастной группы в другую производится на начало года в не зависимости от того, когда у ребёнка или подростка день рождения. При этом вся их ранее известная заболеваемость показывается в </a:t>
            </a: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фе 4 – всего, и только вновь выявленная в текущем году в </a:t>
            </a:r>
            <a:br>
              <a:rPr sz="2200"/>
            </a:b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ервичной  заболеваемости  (графы 9 и 11  у  подростков, графа 9 у взрослых) соответствующих  таблиц.</a:t>
            </a: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1" name="Прямоугольник 2"/>
          <p:cNvSpPr/>
          <p:nvPr/>
        </p:nvSpPr>
        <p:spPr>
          <a:xfrm>
            <a:off x="539640" y="1268280"/>
            <a:ext cx="806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заболеваниях, выявленных у  боль-ных, поступивших в стационар, минуя поликлини-ку, следует включать в отчёт на общих основаниях.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талон может быть заполнен в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ационаре и передан в поликлиник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либо  заполнен в поликли-нике на основании выписки из карты стационарно-го больного.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3" name="Прямоугольник 2"/>
          <p:cNvSpPr/>
          <p:nvPr/>
        </p:nvSpPr>
        <p:spPr>
          <a:xfrm>
            <a:off x="755640" y="1052640"/>
            <a:ext cx="7777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ациент обратился за медицинской помощью, минуя поли-клинику, в больницу, то «Талон  амбулаторного пациента» (далее - Талон) заполняют в поликлинике после выписки пациента из стациона-ра на основании "Выписного эпикриза". При этом если пациент при-шел на прием, то в Талоне производится отметка о регистрации всех заболеваний для включения этих сведений в форму федераль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го  статистического наблюдения № 12 и вносится  отметка о посе-щении. Если пациент на прием не  пришел, то в  Талоне регистриру-ются все заболевания без отметки о посещении. В Талоне такж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 быть зарегистрировано  обращение  по поводу  заболевания, включающее в себя одно или несколько посещений, в результат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х цель обращения достигнута. При  заполнении  Талона врач  также делает отметки о дате впервые выявленного основного 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утствующих заболеваний, взятии и снятии с диспансерного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а. Эта данные необходимы для заполнения формы федерального статистического наблюдения № 12.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5" name="Прямоугольник 2"/>
          <p:cNvSpPr/>
          <p:nvPr/>
        </p:nvSpPr>
        <p:spPr>
          <a:xfrm>
            <a:off x="611280" y="1197000"/>
            <a:ext cx="799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случай острого заболевания заре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стрированный в текущем году не подлежит пере-регистрации в следующем. В заболевае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ть не следует включать заболевания, коды кото-рых отмечены «звездочкой» (альтерна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вные), используемые только для специаль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ых разработок по проявлениям основного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левания и только вместе с кодом основ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го заболевания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7" name="Прямоугольник 2"/>
          <p:cNvSpPr/>
          <p:nvPr/>
        </p:nvSpPr>
        <p:spPr>
          <a:xfrm>
            <a:off x="755640" y="1052640"/>
            <a:ext cx="784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острые  заболевания  и состояния (напри-мер: острый отит, острый миокардит, острые  респиратор-ные  инфекции  верхних и  нижних  дыхательных  путей,  грипп, а  также  травмы,  за  исключением  по следствий и др.) регистрируются столько раз, сколько они возникают в течение отчетного года. При этом графа 4 должна быть ра-вна  графе  9  по  соответствующим  строкам  таблиц 1000, 1500, 2000, 3000 и  4000.  На  начало года по данным стро-кам 0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е относится к тем заболеваниям, при которы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ые формы могут переходить в хронические. Пр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трении хронических заболеваний регистрируют эт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еские заболевания, а не их острые формы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1" name="Прямоугольник 32"/>
          <p:cNvSpPr/>
          <p:nvPr/>
        </p:nvSpPr>
        <p:spPr>
          <a:xfrm>
            <a:off x="468360" y="692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611280" y="1989000"/>
            <a:ext cx="80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анный  отчет  включаются сведения   об  общем числе зарегистрированных в данном учреждении у пациентов  за-болеваний и о больных с заболеваниями, по поводу которых осуществляется диспансеризация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9" name="Прямоугольник 2"/>
          <p:cNvSpPr/>
          <p:nvPr/>
        </p:nvSpPr>
        <p:spPr>
          <a:xfrm>
            <a:off x="684360" y="1341360"/>
            <a:ext cx="806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 при составлении отчета о заболеваемости населения сверять данные отдельных строк с профильными специалистами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для заполнения отчета в различны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х учреждений берутся из различных источников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жно-венерологические заболевания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беркулез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онные заболевания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потребнадзор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 заболевания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1" name="Прямоугольник 2"/>
          <p:cNvSpPr/>
          <p:nvPr/>
        </p:nvSpPr>
        <p:spPr>
          <a:xfrm>
            <a:off x="684360" y="2781360"/>
            <a:ext cx="77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ЕМСТВЕННОСТЬ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3" name="Прямоугольник 2"/>
          <p:cNvSpPr/>
          <p:nvPr/>
        </p:nvSpPr>
        <p:spPr>
          <a:xfrm>
            <a:off x="1116000" y="98100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4 = графе 9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4" name="Прямоугольник 3"/>
          <p:cNvSpPr/>
          <p:nvPr/>
        </p:nvSpPr>
        <p:spPr>
          <a:xfrm>
            <a:off x="468360" y="1773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2.1, 10.1, 10.4.1.1, 10.4.2, 10.4.3, 10.4.4, 10.5.1, 10.5.2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5.3, 10.6.1, 10.6.2, 10.6.3, 10.6.4, 10.6.7, 11.1, 11.1.1,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1.2, 11.2, 11.3, 11.4, 17.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строке 20.0 может быть неравенство на коды Т90-Т98, больных вибрационной болезнью (др. профзаболевания) и больных получающих лечение по травме больше года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зможно неравенство и требует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енного     пояснения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1,  2.2,  7.1,  7.1.1,  7.1.2,  12.9.1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굴림"/>
              </a:rPr>
              <a:t>(1001 2001, 3001, 4001)                                                                                   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굴림"/>
              </a:rPr>
              <a:t>Код по ОКЕИ: человек – 792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굴림"/>
              </a:rPr>
              <a:t>Число физических лиц зарегистрированных пациентов – всего  1____________, из них с диагнозом, установленным впервые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굴림"/>
              </a:rPr>
              <a:t>в жизни  2 _______,  состоит под диспансерным наблюдением на конец отчетного года (из гр. 15, стр. 1.0)  3_________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굴림"/>
              </a:rPr>
              <a:t> 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굴림"/>
              </a:rPr>
              <a:t> 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굴림"/>
              </a:rPr>
              <a:t> 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굴림"/>
              </a:rPr>
              <a:t>(1002)                                                                                                                                         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굴림"/>
              </a:rPr>
              <a:t>Код по ОКЕИ: человек – 792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굴림"/>
              </a:rPr>
              <a:t>Состоит под диспансерным наблюдением на конец отчетного года (из стр. 1.0 гр. 15) детей  в возрасте: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굴림"/>
              </a:rPr>
              <a:t>0-4 года   1 __________,   5-9 лет    2  _________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 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 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굴림"/>
              </a:rPr>
              <a:t>  </a:t>
            </a:r>
            <a:br>
              <a:rPr sz="1000"/>
            </a:br>
            <a:r>
              <a:rPr b="1" lang="ru-RU" sz="1000" spc="-1" strike="noStrike">
                <a:solidFill>
                  <a:srgbClr val="ff0000"/>
                </a:solidFill>
                <a:latin typeface="굴림"/>
              </a:rPr>
              <a:t>(1003, 2003, 3003, 4003) </a:t>
            </a:r>
            <a:r>
              <a:rPr b="1" lang="ru-RU" sz="1000" spc="-1" strike="noStrike">
                <a:solidFill>
                  <a:srgbClr val="ff0000"/>
                </a:solidFill>
                <a:latin typeface="굴림"/>
              </a:rPr>
              <a:t>	</a:t>
            </a:r>
            <a:r>
              <a:rPr b="1" lang="ru-RU" sz="1000" spc="-1" strike="noStrike">
                <a:solidFill>
                  <a:srgbClr val="ff0000"/>
                </a:solidFill>
                <a:latin typeface="굴림"/>
              </a:rPr>
              <a:t>                                                           </a:t>
            </a:r>
            <a:r>
              <a:rPr b="1" lang="ru-RU" sz="1000" spc="-1" strike="noStrike">
                <a:solidFill>
                  <a:srgbClr val="ff0000"/>
                </a:solidFill>
                <a:latin typeface="굴림"/>
              </a:rPr>
              <a:t>	</a:t>
            </a:r>
            <a:r>
              <a:rPr b="1" lang="ru-RU" sz="1000" spc="-1" strike="noStrike">
                <a:solidFill>
                  <a:srgbClr val="ff0000"/>
                </a:solidFill>
                <a:latin typeface="굴림"/>
              </a:rPr>
              <a:t>	</a:t>
            </a:r>
            <a:r>
              <a:rPr b="1" lang="ru-RU" sz="1000" spc="-1" strike="noStrike">
                <a:solidFill>
                  <a:srgbClr val="ff0000"/>
                </a:solidFill>
                <a:latin typeface="굴림"/>
              </a:rPr>
              <a:t>                  </a:t>
            </a:r>
            <a:r>
              <a:rPr b="0" lang="ru-RU" sz="1000" spc="-1" strike="noStrike">
                <a:solidFill>
                  <a:srgbClr val="ff0000"/>
                </a:solidFill>
                <a:latin typeface="굴림"/>
              </a:rPr>
              <a:t>Код по ОКЕИ: человек – 792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ff0000"/>
                </a:solidFill>
                <a:latin typeface="굴림"/>
              </a:rPr>
              <a:t>Из числа пациентов, состоящих на конец года под диспансерным наблюдением (гр. 15): состоит под диспансерным наблюдением лиц</a:t>
            </a:r>
            <a:br>
              <a:rPr sz="1000"/>
            </a:br>
            <a:r>
              <a:rPr b="0" lang="ru-RU" sz="1000" spc="-1" strike="noStrike">
                <a:solidFill>
                  <a:srgbClr val="ff0000"/>
                </a:solidFill>
                <a:latin typeface="굴림"/>
              </a:rPr>
              <a:t>с хроническим вирусным гепатитом (В18) и циррозом печени (К74.6) одновременно  1 ________ чел.; с хроническим вирусным </a:t>
            </a:r>
            <a:br>
              <a:rPr sz="1000"/>
            </a:br>
            <a:r>
              <a:rPr b="0" lang="ru-RU" sz="1000" spc="-1" strike="noStrike">
                <a:solidFill>
                  <a:srgbClr val="ff0000"/>
                </a:solidFill>
                <a:latin typeface="굴림"/>
              </a:rPr>
              <a:t>гепатитом (В18) и гепатоцеллюлярным раком (С22.0) одновременно  2 ________ чел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8" name="Прямоугольник 2"/>
          <p:cNvSpPr/>
          <p:nvPr/>
        </p:nvSpPr>
        <p:spPr>
          <a:xfrm>
            <a:off x="900000" y="1628640"/>
            <a:ext cx="755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. Некоторые инфекционные и паразитарные болезни. А00-И99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2. Новообразования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00-D48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0" name="Прямоугольник 2"/>
          <p:cNvSpPr/>
          <p:nvPr/>
        </p:nvSpPr>
        <p:spPr>
          <a:xfrm>
            <a:off x="468360" y="306864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4.2 включает в себя коды D65-D69 и включает в себя тромбоцитопении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мбоцитопатии, аллергический васкулит (код D69.X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3. Болезни крови, кроветворных органов и отдельные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, вовлекающие иммунный механизм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50-D8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826920" y="1341360"/>
            <a:ext cx="792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4. Болезни эндокринной системы, расстройства питания и наруше-ния обмена веществ. Е00-Е9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иперплазия щитовидной желез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фруется кодом – E04.0. Отставание в физическом развитии кодируют по эндокринной патологии–E45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Строки 5.4, 5.15 у взрослых и подростков диагноз «Гипофизарный нанизм, Гипопитуитаризм  юношеский» - всегда учитывается с «-»,  так  как  первично диагноз устанавливается еще в детском возрасте (код – Е23.0).   Причины воз-никновения нанизма (карликовости)  могут  быть различны, соответственно  и кодировать  его  нужно  по-разному. Пример:  гипопитуитаризм вызванный ле-карственными средствами – Е23.1; гипопитуитаризм, обусловленный гипофизэктомией – Е89.3, гипопитуитаризм, обусловленный гормонально неактивной аденомой гипофиза – Е23.6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5" name="Прямоугольник 2"/>
          <p:cNvSpPr/>
          <p:nvPr/>
        </p:nvSpPr>
        <p:spPr>
          <a:xfrm>
            <a:off x="755640" y="2133720"/>
            <a:ext cx="784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асс 5. Психические расстройства и расстройства поведения.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00-F99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ы 4, 9, 15 формы 12 равны соответствующим графам и строкам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 10, 11, 36, 37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поряжение МЗ РФ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7" name="Прямоугольник 2"/>
          <p:cNvSpPr/>
          <p:nvPr/>
        </p:nvSpPr>
        <p:spPr>
          <a:xfrm>
            <a:off x="684360" y="2205000"/>
            <a:ext cx="78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12 будет приниматься при равенств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 4, 9, 15 с формами по психиатрии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кологии и с обязательным движением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ансерной группы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9" name="Прямоугольник 1"/>
          <p:cNvSpPr/>
          <p:nvPr/>
        </p:nvSpPr>
        <p:spPr>
          <a:xfrm>
            <a:off x="755640" y="1989000"/>
            <a:ext cx="777708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 6.1 + стр 6.2 = стр 6.0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??????????????????????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 6.0 – стр 6.1 = формы 10, 36</a:t>
            </a:r>
            <a:br>
              <a:rPr sz="2800"/>
            </a:b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4" name="Прямоугольник 30"/>
          <p:cNvSpPr/>
          <p:nvPr/>
        </p:nvSpPr>
        <p:spPr>
          <a:xfrm>
            <a:off x="971640" y="9079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179280" y="1341360"/>
            <a:ext cx="8713800" cy="37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у включают один раз в год сведения об основном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овом,  конкурирующем  и сопутствующем заболеваниях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just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б осложнениях  основного  и других заболеваний в форму не включают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just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, имеющие  два  и более  заболевания, показываются по   соответствующим   строкам  по   числу   выявленных   и   зарегистрированных  заболеваний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1403280" y="98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6. Болезни нервной системы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00-G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2" name="Прямоугольник 3"/>
          <p:cNvSpPr/>
          <p:nvPr/>
        </p:nvSpPr>
        <p:spPr>
          <a:xfrm>
            <a:off x="684360" y="191628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7.0.  Вегетативные расстройства, которые проявляются в наруш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и регуляции сердечно-сосудистой, дыхательной и др. систем организма, м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т быть синдромом таких заболеваний, как: гипертоническая болезнь, хроническа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шемическа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ь сердца, эндокринные нарушения и т.д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случа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ету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ежи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левание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ройств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гетативной нервной системы кодируются G90.8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атоформна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функция вегетати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й нервной системы F45.3 (диагноз ставит психиатр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и 7.6 и 7.9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ольш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трочников. У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троку 7.9 должны быть включены последствия травм, ОНМК в виде парезов, параличе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исьмо МЗиСР РФ от 26 апреля 2011 г. №14-9/10/2-4150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4" name="Прямоугольник 1"/>
          <p:cNvSpPr/>
          <p:nvPr/>
        </p:nvSpPr>
        <p:spPr>
          <a:xfrm>
            <a:off x="755640" y="549360"/>
            <a:ext cx="7777080" cy="62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-윤고딕140"/>
              </a:rPr>
              <a:t>Преходящие транзиторные церебральные ишемические приступы [атаки] и родственные синдромы (ТИА)</a:t>
            </a:r>
            <a:r>
              <a:rPr b="0" lang="en-US" sz="1800" spc="-1" strike="noStrike">
                <a:solidFill>
                  <a:srgbClr val="0000ff"/>
                </a:solidFill>
                <a:latin typeface="-윤고딕140"/>
              </a:rPr>
              <a:t>.</a:t>
            </a:r>
            <a:r>
              <a:rPr b="0" lang="ru-RU" sz="1800" spc="-1" strike="noStrike">
                <a:solidFill>
                  <a:srgbClr val="0000ff"/>
                </a:solidFill>
                <a:latin typeface="-윤고딕140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-윤고딕140"/>
              </a:rPr>
              <a:t>G45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здоровья, относящееся к группе эпизодические и пароксизмальные расстройства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зиторные ишемические атаки расцениваются врачами как предупредительный сигнал возникновения острого ишемического инсульта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ология. Хотя ТИА часто обусловлены атеросклерозом и эссенциальной артериальной гипертензией, возможны и другие состояния, включая кардиогенную эмболию, расслоение артериальной стенки, фибромиодисплазию, гематологические заболевания, мигрень, судорожные припадки, опухоль и субдуральную гематому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еская картина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но к пароксизмальным расстройствам можно отнести все заболевания нервной системы, проявляющиеся в виде приступов (пароксизмов) – это мигренозные атаки (приступообразные мучительные головные боли, начинающиеся в одной половине головы), и обмороки, возникающие при различных других болезнях, и внезапно развивающиеся головокружения при болезни или синдроме Меньера, и т.н. диэнцефальные кризы или панические атаки (вегетативные приступы, сопровождающиеся повышением артериального давления, учащением пульса, страхом, выраженным беспокойством), и собственно эпилептические приступы, которые могут протекать как с судорогами - так и без них, как с потерей сознания - так и без нее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6" name="Прямоугольник 1"/>
          <p:cNvSpPr/>
          <p:nvPr/>
        </p:nvSpPr>
        <p:spPr>
          <a:xfrm>
            <a:off x="1476360" y="112392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7. Болезни глаза и его придаточного аппарата. Н00-Н5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7" name="Прямоугольник 2"/>
          <p:cNvSpPr/>
          <p:nvPr/>
        </p:nvSpPr>
        <p:spPr>
          <a:xfrm>
            <a:off x="468360" y="2536920"/>
            <a:ext cx="813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8.0 в графе «диспансерные» показываются: миопия и гипермет-ропия средней и высокой степени, паралитическое и не аккомадационно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оглазие, сложный астигматизм …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опия и гиперметропия лёгкой степени, аккомадационный астигматизм, спазм аккомодации и др. показываются только по графам «всего и впервые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8.3 и 8.8 показывать катаракту и глаукому только приобретенные (врожденные соответственно показать по классу Q). Строка 8.12 включает в себя слепоту на один глаз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9" name="Прямоугольник 1"/>
          <p:cNvSpPr/>
          <p:nvPr/>
        </p:nvSpPr>
        <p:spPr>
          <a:xfrm>
            <a:off x="1187280" y="1413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8. Болезни уха и сосцевидного отростка. Н60-Н95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0" name="Прямоугольник 2"/>
          <p:cNvSpPr/>
          <p:nvPr/>
        </p:nvSpPr>
        <p:spPr>
          <a:xfrm>
            <a:off x="900000" y="307512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9.4 – включать врожденную глухоту (код H90.X), одностороннюю и смешанную тугоухость. Таким образом, она должна быть больше суммы своих подстрочников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2" name="Прямоугольник 2"/>
          <p:cNvSpPr/>
          <p:nvPr/>
        </p:nvSpPr>
        <p:spPr>
          <a:xfrm>
            <a:off x="971640" y="907920"/>
            <a:ext cx="74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9. Болезни системы кровообращения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00-I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3" name="Прямоугольник 3"/>
          <p:cNvSpPr/>
          <p:nvPr/>
        </p:nvSpPr>
        <p:spPr>
          <a:xfrm>
            <a:off x="684360" y="2451240"/>
            <a:ext cx="7775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  с  острой  ревматической лихорадкой наблюдаются в течение 3-х месяцев, поэтому в графе 15 таблиц 1000, 2000, 3000 и 4000 показывают только тех пациентов, которые заболели в четвертом квартале отчетного года. Графа 4 таблиц 1000, 2000, 3000 и 4000 должна быть равна графе 7 по строке 10.1. Если заболевание перешло в хроническую форму, то пациента по строке 10.1 с учета снимают, а по строке 10.2 берут на учет, как впервые выявленное хроническое заболевани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0.2 (хронические ревматические болезни сердца) Если было обострение заболевания, то учитывается по строке 10.1, а в строку 10.2 не включается (регистрируется с (+)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5" name="Прямоугольник 1"/>
          <p:cNvSpPr/>
          <p:nvPr/>
        </p:nvSpPr>
        <p:spPr>
          <a:xfrm>
            <a:off x="611280" y="263700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ичные гипертензии не учитываются в форме 12. Статталон не заполняется, а кодируется основное заболевание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ебральны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еросклеро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ичной гипертензи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I67.2; ил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ебральный атеросклеро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ертоническая болезн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2 талона (I67.2 и  I10) разносятся по двум строкам – строк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строка 10.3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7" name="Прямоугольник 1"/>
          <p:cNvSpPr/>
          <p:nvPr/>
        </p:nvSpPr>
        <p:spPr>
          <a:xfrm>
            <a:off x="611280" y="2565360"/>
            <a:ext cx="784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окардия (таблицы 2000, 3000 и 4000, строка 10.4.1) регистрируется как самостоятельное заболевание, впервые выявленное – первый раз в жизни (+), а затем – один раз в год со знаком (–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лучаи приступов стенокардии при атеросклеротической болезни сердца как самостоятельные заболевания не регистрируются. Графы 4 и 9 не равн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9" name="Прямоугольник 1"/>
          <p:cNvSpPr/>
          <p:nvPr/>
        </p:nvSpPr>
        <p:spPr>
          <a:xfrm>
            <a:off x="1042920" y="2133720"/>
            <a:ext cx="712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трока 10.4.1.1 –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I20.0 –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НЕСТАБИЛЬНАЯ СТЕНОКАРДИЯ</a:t>
            </a:r>
            <a:br>
              <a:rPr sz="2400"/>
            </a:b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регистрируется раз в год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ся графы 4 и 9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4 = графе 9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1" name="Прямоугольник 1"/>
          <p:cNvSpPr/>
          <p:nvPr/>
        </p:nvSpPr>
        <p:spPr>
          <a:xfrm>
            <a:off x="900000" y="285264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табильная стенокардия – острое состояние   (впервые равно всего), Д-наблюдение либо по I25.8 (при переходе в ОИМ), либо по I20 (стр. 10.4.1) –  при стабилизации состоян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3" name="Прямоугольник 1"/>
          <p:cNvSpPr/>
          <p:nvPr/>
        </p:nvSpPr>
        <p:spPr>
          <a:xfrm>
            <a:off x="755640" y="263700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 с острыми, повторными инфарктами миокарда острыми нарушениями мозгового кровообращения наблюдаются в течение 28 дней, а затем снимаются с диспансерного учета, поэтому в графе 15 таблиц 2000, 3000 и 4000 отмечают только тех пациентов, которые заболели в декабре месяц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7" name="Прямоугольник 30"/>
          <p:cNvSpPr/>
          <p:nvPr/>
        </p:nvSpPr>
        <p:spPr>
          <a:xfrm>
            <a:off x="971640" y="9079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611280" y="1341360"/>
            <a:ext cx="806436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12 заполняется на основании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ой учетной медицинской 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ации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5" name="Прямоугольник 1"/>
          <p:cNvSpPr/>
          <p:nvPr/>
        </p:nvSpPr>
        <p:spPr>
          <a:xfrm>
            <a:off x="900000" y="278136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0.5 включает пролапс митрального клапана (код I34.1)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0.5.4 включает только идиопатические (самостоятельные)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заболеваний.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7" name="Прямоугольник 1"/>
          <p:cNvSpPr/>
          <p:nvPr/>
        </p:nvSpPr>
        <p:spPr>
          <a:xfrm>
            <a:off x="1042920" y="2205000"/>
            <a:ext cx="734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аркт миокарда всегда первичный (+), с (-) нет. Сколько инфарктов миокарда в году больной перенёс, столько должно и быть талонов с (+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от начала заболевания уже прошло 28 дней, то его показывать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графах 4 и 9, а диспансерных по ишемической болезни сердца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15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выявленный постинфарктный кардиосклероз включает в себя состояния развившиеся только после острого инфаркта миокарда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9" name="Прямоугольник 2"/>
          <p:cNvSpPr/>
          <p:nvPr/>
        </p:nvSpPr>
        <p:spPr>
          <a:xfrm>
            <a:off x="684360" y="2205000"/>
            <a:ext cx="784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и 10.6.1 – 10.6.4 острое нарушение мозгового кровообращения всегда первичный (+), с (-) нет. Таким образом, гр. 4 всегда равна гр. 9. По диагнозу «Инсульт» больные подлежат диспансерному наблюдению по гр. 15  на протяжении 30 дней от момента начальных проявлений или более в пределах одного эпизода лечения. В дальнейшем диспансерное наблюдение осуществляется по последствиям инсульта – парезы, параличи, энцефалопатия, речевые нарушения и т.д. Необходимо помнить, что код I69 – используется только по- смертно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0.8.2 - не включать флебит портальной вены (K75.1</a:t>
            </a:r>
            <a:r>
              <a:rPr b="0" lang="ru-RU" sz="18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1" name="Прямоугольник 2"/>
          <p:cNvSpPr/>
          <p:nvPr/>
        </p:nvSpPr>
        <p:spPr>
          <a:xfrm>
            <a:off x="1042920" y="2998800"/>
            <a:ext cx="71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0.6.7 «последствия цереброваскулярных болезней» диагноз используется только в случае смерти пациента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10.6.7 заполняются графы 4, 9 и они равн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абилитация!!!!!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3" name="Прямоугольник 2"/>
          <p:cNvSpPr/>
          <p:nvPr/>
        </p:nvSpPr>
        <p:spPr>
          <a:xfrm>
            <a:off x="1187280" y="1197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0. Болезни органов дыхания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00-J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4" name="Прямоугольник 3"/>
          <p:cNvSpPr/>
          <p:nvPr/>
        </p:nvSpPr>
        <p:spPr>
          <a:xfrm>
            <a:off x="826920" y="2690640"/>
            <a:ext cx="7705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 с острыми пневмониями наблюдаются в течение 6 месяцев, а затем снимаются с диспансерного учета, поэтому в графе 15 таблиц 1000, 2000, 3000 и 4000 показываются только те пациенты, которые заболели во втором полугодии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ти по приказу №725 от 15.06.83г – 12 месяцев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15 таблицы 1500 показываются дети, которые заболели пневмонией во второй половине  первого года жизн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6" name="Прямоугольник 2"/>
          <p:cNvSpPr/>
          <p:nvPr/>
        </p:nvSpPr>
        <p:spPr>
          <a:xfrm>
            <a:off x="755640" y="198900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 детей до 1 года жизни хронических заболеваний быть не должно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тматический статус – J46.0 – J 46.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ВИ (ОРЗ) – J06.9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болеющие дети шифруются кодами соответствующих заболеваний (пневмония, ОРВИ, острый бронхиты и т.д.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невмония - графа 4 = графе 9, графа 8 = графе 10</a:t>
            </a:r>
            <a:r>
              <a:rPr b="0" lang="ru-RU" sz="18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ица между выявлено и взято на Д-учет может быть за счет умерших, выбывших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900000" y="2276640"/>
            <a:ext cx="73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но возникающие в течение года острые   пневмонии, острая ревматическая лихорадка, острые и повторные инфаркты миокарда, острые нарушения мозгового кровообращения регистрируются как ост- рые (со знаком  +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этим строкам графы 4 и 9 таблиц 1000, 2000, 3000 и 4000 равны.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0" name="Прямоугольник 1"/>
          <p:cNvSpPr/>
          <p:nvPr/>
        </p:nvSpPr>
        <p:spPr>
          <a:xfrm>
            <a:off x="1692360" y="112536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1. Болезни органов пищеварения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00-K93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1" name="Прямоугольник 2"/>
          <p:cNvSpPr/>
          <p:nvPr/>
        </p:nvSpPr>
        <p:spPr>
          <a:xfrm>
            <a:off x="755640" y="2781360"/>
            <a:ext cx="77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левания зубов включают в форму 12 только в том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е, если больной подлежит диспансерному наблюдению</a:t>
            </a: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.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3" name="Прямоугольник 1"/>
          <p:cNvSpPr/>
          <p:nvPr/>
        </p:nvSpPr>
        <p:spPr>
          <a:xfrm>
            <a:off x="611280" y="1268280"/>
            <a:ext cx="7993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у 12 включаются заболевания, которые подлежат диспансерному наблюдению множественным прогрессирующим кариесом зубов (4 раза в год]; легкой формой пародонтита (1 раз в 6 мес], тяжелой формой (каждые 3 мес); пародонтозом (1 раз в 6 мес для профилактики осложнений); хроническими гингивитами, стоматитами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йлитами, глоссальгией (от 2 до 4 раз в год); одонтогенными невралгиями тройничного и невритами лицевого нервов (от 2 до 4 раз в год); хроническими остеомиелитами костей лица (2 раза в год); хроническим одонтогенным воспалением верхнечелюстной пазухи (2 раза в год); хроническим воспалением слюнных желез (2 раза в год); пр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аковыми заболеваниями челюстей и полости рта, злокачественными новообразованиями челюстей и полости рта (совместно с онкологами в зависимости от стадии заболевания); врожденными расщелинами челюстно-лицевой области (2 раза в год); зубочелюстным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малиями (2—3 раза в год); врожденными и приобретенными деформациями челюстей (2 раза в год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5" name="Прямоугольник 1"/>
          <p:cNvSpPr/>
          <p:nvPr/>
        </p:nvSpPr>
        <p:spPr>
          <a:xfrm>
            <a:off x="1116000" y="119700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2. Болезни кожи и подкожной клетчатки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00-L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6" name="Прямоугольник 2"/>
          <p:cNvSpPr/>
          <p:nvPr/>
        </p:nvSpPr>
        <p:spPr>
          <a:xfrm>
            <a:off x="1042920" y="2060640"/>
            <a:ext cx="727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3. Болезни костно-мышечной системы и соединительной ткани. М00-М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7" name="Прямоугольник 3"/>
          <p:cNvSpPr/>
          <p:nvPr/>
        </p:nvSpPr>
        <p:spPr>
          <a:xfrm>
            <a:off x="755640" y="2997360"/>
            <a:ext cx="763272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ансерному учёту подлежат сколиозы, плоскостопие, остеохондропатии, остеохондроз. Нарушение осанки,  плоская стопа,  сутулость,  вальгусная  и  варусная  деформация  стоп  наблюдаются   по   списочному   составу  и  соответственно  в графе 15 (диспансерные) не показываются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осанки,   сутулость – М53.2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иоз – М41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755640" y="1484280"/>
            <a:ext cx="74883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форму 12 не включают сведения 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 заболеваниях с кодами по МКБ-10, 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меченных  звездочкой (*).</a:t>
            </a:r>
            <a:br>
              <a:rPr sz="2400"/>
            </a:b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9" name="Прямоугольник 1"/>
          <p:cNvSpPr/>
          <p:nvPr/>
        </p:nvSpPr>
        <p:spPr>
          <a:xfrm>
            <a:off x="826920" y="1989000"/>
            <a:ext cx="77058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ско-вальгусная деформация стопы – М21.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ско-варусная деформация стопы – М21.1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скостопие и плоская стопа – М21.4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 образом,  плоскостопие  включается  в  строку 14.1, а сколиозы, юношеский остеохондроз в строку 14.3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осанки включать в строку 14.0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71" name="Прямоугольник 1"/>
          <p:cNvSpPr/>
          <p:nvPr/>
        </p:nvSpPr>
        <p:spPr>
          <a:xfrm>
            <a:off x="826920" y="1844640"/>
            <a:ext cx="8066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теохондроз у взрослых кодируется M50 – M54 и показывается по строке 14.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-윤고딕140"/>
              </a:rPr>
              <a:t>М42.1</a:t>
            </a:r>
            <a:r>
              <a:rPr b="1" lang="ru-RU" sz="1800" spc="-1" strike="noStrike" u="sng">
                <a:solidFill>
                  <a:srgbClr val="dafbfe"/>
                </a:solidFill>
                <a:uFillTx/>
                <a:latin typeface="-윤고딕140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-윤고딕140"/>
              </a:rPr>
              <a:t>Остеохондроз позвоночника у взрослых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-윤고딕140"/>
              </a:rPr>
              <a:t>Остеохондроз позвоночника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-윤고딕140"/>
              </a:rPr>
              <a:t>клинические рекомендации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-윤고딕140"/>
              </a:rPr>
              <a:t>(М48.0, М 54, М50.0, М50.1, М50.2, М50.3, М50.8, М50.9, М51.0, М51.1, М51.2, М51.3, М51.8, М51.9, М53.2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-윤고딕140"/>
              </a:rPr>
              <a:t>прошу обратить внимание специалистов на более точную формулировку диагнозов при остеохондрозе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73" name="Прямоугольник 1"/>
          <p:cNvSpPr/>
          <p:nvPr/>
        </p:nvSpPr>
        <p:spPr>
          <a:xfrm>
            <a:off x="1258920" y="134136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4. Болезни мочеполовой системы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00-N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74" name="Прямоугольник 2"/>
          <p:cNvSpPr/>
          <p:nvPr/>
        </p:nvSpPr>
        <p:spPr>
          <a:xfrm>
            <a:off x="684360" y="2612880"/>
            <a:ext cx="799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5.2 (почечная недостаточность) Показывается вся почечная недостаточность, как острая, так и хроническая. При сахарном диабете с почечной недостаточностью, сахарный диабет проходит по строке 5.2, а почечная недостаточность по строке 15.2 и т.д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нома простаты – N4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ройства менструаций - на (Д) учёт берётся олиго и аменорея 1,2 степени. У девочек до 17 лет эрозия шейки матки (если нет возможности лечить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76" name="Прямоугольник 1"/>
          <p:cNvSpPr/>
          <p:nvPr/>
        </p:nvSpPr>
        <p:spPr>
          <a:xfrm>
            <a:off x="826920" y="2060640"/>
            <a:ext cx="749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5.7 – всегда больше строки 15.7.1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Строка 15.8 - эндометриоз с Д-учёта снимается посмертно или в глубокой менопауз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5.9 - расстройства менструаций – на Д-учёт берётся олиго- и аменорея 1, 2 степени. У девочек до 17 лет эрозия шейки матки (если нет возможности лечить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годисменорею в графе «диспансерные» показывать не нужно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Строка 15.10 (т. 3000) – женщины с бесплодием снимаются с учета если они родили, перешагнули детородный возраст, выбыли, умерли.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78" name="Прямоугольник 1"/>
          <p:cNvSpPr/>
          <p:nvPr/>
        </p:nvSpPr>
        <p:spPr>
          <a:xfrm>
            <a:off x="900000" y="126828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5. Беременность, роды и послеродовый период. О00-О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79" name="Прямоугольник 2"/>
          <p:cNvSpPr/>
          <p:nvPr/>
        </p:nvSpPr>
        <p:spPr>
          <a:xfrm>
            <a:off x="826920" y="2612880"/>
            <a:ext cx="777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ются случаи акушерской патологии. Данные этой строки  должны  определённым  образом соотноситься с данными по форме № 32 таблицы 2130 (все нозологии) и  таблицы  2111  (учитывая  патологию,   требующую   дальнейшего диспансерного наблюдения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оматическое заболевание возникло во время беременности  –  кодировать его необходимо по классу О.   Ранее известную  (и  зарегистрированную)  соматическую патологию, обнаруживаемую у женщины во время беременности, следует также учитывать по классу О с соответствующей заменой ранее заполненного по другому классу статистического талона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81" name="Прямоугольник 1"/>
          <p:cNvSpPr/>
          <p:nvPr/>
        </p:nvSpPr>
        <p:spPr>
          <a:xfrm>
            <a:off x="900000" y="105264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6. Отдельные состояния, возникающие в перинатальном периоде. Р00-Р96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82" name="Прямоугольник 2"/>
          <p:cNvSpPr/>
          <p:nvPr/>
        </p:nvSpPr>
        <p:spPr>
          <a:xfrm>
            <a:off x="755640" y="292104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7.0 таблиц 2000 и 3000 заполняется только в случаях перинатальной смертности  и касается состояния здоровья матери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случаи кодируются кодами Р00-Р04, а не кодами  класса 15 «Беременность, роды и послеродовый период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000 коды МКБ-10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-Р96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84" name="Прямоугольник 1"/>
          <p:cNvSpPr/>
          <p:nvPr/>
        </p:nvSpPr>
        <p:spPr>
          <a:xfrm>
            <a:off x="826920" y="1484280"/>
            <a:ext cx="7705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, заболевания регистрируются как острые (таблица 1000 и 1500 графа 4 равна графе 9), дети наблюдаются в  течение 1 месяца, поэтому в графе 15 на конец отчетного периода  показывают  детей, у которых эти состояния развились в декабре месяц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тков с прошлого года нет (0) т.к. за год формируется патология, которая кодируется другим классом. Данная строка  д.б.  Равна  (крайне редко) или больше данных по Форме  № 32,  т.к.  частично  диагнозы выставляются в поликлинике педиатрами, неврологами и др. врачами. Внимание:  из  выписки родильного  отделения в поликлинике кодируем только то, что вынесено в диагноз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текстовые описания кодированию не подлежат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86" name="Прямоугольник 1"/>
          <p:cNvSpPr/>
          <p:nvPr/>
        </p:nvSpPr>
        <p:spPr>
          <a:xfrm>
            <a:off x="755640" y="93492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7. Врожденные аномалии (пороки развития), деформации и хромосомные нарушения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00-Q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87" name="Прямоугольник 2"/>
          <p:cNvSpPr/>
          <p:nvPr/>
        </p:nvSpPr>
        <p:spPr>
          <a:xfrm>
            <a:off x="826920" y="256536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8. Симптомы, признаки и отклонения от нормы, выявленные при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еских и лабораторных исследованиях, не классифицированные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ругих рубриках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00-R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88" name="Прямоугольник 3"/>
          <p:cNvSpPr/>
          <p:nvPr/>
        </p:nvSpPr>
        <p:spPr>
          <a:xfrm>
            <a:off x="1042920" y="38750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класса (стр. 19.0), не должны регистрироватьс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90" name="Прямоугольник 1"/>
          <p:cNvSpPr/>
          <p:nvPr/>
        </p:nvSpPr>
        <p:spPr>
          <a:xfrm>
            <a:off x="611280" y="141300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9. Травмы, отравления и некоторые другие последствия воздействия внешних причин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00-T98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91" name="Прямоугольник 2"/>
          <p:cNvSpPr/>
          <p:nvPr/>
        </p:nvSpPr>
        <p:spPr>
          <a:xfrm>
            <a:off x="539640" y="278136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я  должны соответствовать патологическим состояниям, указанным в форме №57 «Сведения  о  травмах, отравлениях и  некоторых  других  последствиях  воздействия внешних причин»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 4 и 9  могут быть не  равны.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93" name="Прямоугольник 1"/>
          <p:cNvSpPr/>
          <p:nvPr/>
        </p:nvSpPr>
        <p:spPr>
          <a:xfrm>
            <a:off x="684360" y="1773360"/>
            <a:ext cx="7920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шифрования последствий травм: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алённые последствия перелома можно шифровать  -  М84.1 – несрастание перелома,  М82.2 – замедленное сращение перелома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ствия ЧМТ кодируются в зависимости от клиники проявлений: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еская посттравматическая  головная боль G44.3,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вматическая  транзиторная  церебральная  ишемия  G45.8,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. уточнённое  поражение головного мозга, в том числе травматическая болезнь мозга G93.8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цефалопатия   посттравматическая  F07.2,   энцефалопатия  неуточнённая  G93.4,  относящиеся к патологии нервной систем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755640" y="1484280"/>
            <a:ext cx="748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форму 12 не включают сведения о подозрении на заболевание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95" name="Прямоугольник 1"/>
          <p:cNvSpPr/>
          <p:nvPr/>
        </p:nvSpPr>
        <p:spPr>
          <a:xfrm>
            <a:off x="971640" y="112536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21. Факторы, влияющие на состояние здоровья населения и обращения в учреждения здравоохранения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00-Z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96" name="Прямоугольник 2"/>
          <p:cNvSpPr/>
          <p:nvPr/>
        </p:nvSpPr>
        <p:spPr>
          <a:xfrm>
            <a:off x="755640" y="285264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ласс Z  входят  данные  о здоровых людях, у которых отклонения от нормы еще не  трансформировались в определенную патологию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98" name="Прямоугольник 1"/>
          <p:cNvSpPr/>
          <p:nvPr/>
        </p:nvSpPr>
        <p:spPr>
          <a:xfrm>
            <a:off x="971640" y="112536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21. Факторы, влияющие на состояние здоровья населения и обращения в учреждения здравоохранения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00-Z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99" name="Прямоугольник 2"/>
          <p:cNvSpPr/>
          <p:nvPr/>
        </p:nvSpPr>
        <p:spPr>
          <a:xfrm>
            <a:off x="755640" y="285264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ласс Z  входят  данные  о здоровых людях, у которых отклонения от нормы еще не  трансформировались в определенную патологию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01" name="Прямоугольник 1"/>
          <p:cNvSpPr/>
          <p:nvPr/>
        </p:nvSpPr>
        <p:spPr>
          <a:xfrm>
            <a:off x="971640" y="1125360"/>
            <a:ext cx="770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2000, 3000, 4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и: 5.1.1, 5.11, 5.12, 5.13, 5.14, 5.15, 7.8.2, 18.2, 18.5, 18.6, 18.7, 18.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графе 9 – (!) стоит число – представить пояснительную записку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ица 4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и: 5.7, 5.8, 7.10, 13.1, 15.9, 15.11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графа 9 – (!) стоит число – проверить первичную документацию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02" name="Прямоугольник 2"/>
          <p:cNvSpPr/>
          <p:nvPr/>
        </p:nvSpPr>
        <p:spPr>
          <a:xfrm>
            <a:off x="755640" y="285264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04" name="Прямоугольник 1"/>
          <p:cNvSpPr/>
          <p:nvPr/>
        </p:nvSpPr>
        <p:spPr>
          <a:xfrm>
            <a:off x="755640" y="1989000"/>
            <a:ext cx="777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о проводит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, межформенный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ежгодовой контроли</a:t>
            </a:r>
            <a:br>
              <a:rPr sz="2800"/>
            </a:b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06" name="Прямоугольник 1"/>
          <p:cNvSpPr/>
          <p:nvPr/>
        </p:nvSpPr>
        <p:spPr>
          <a:xfrm>
            <a:off x="684360" y="765000"/>
            <a:ext cx="784836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й Иванович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ьков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ий отделением статистики  специализированных служб</a:t>
            </a:r>
            <a:br>
              <a:rPr sz="3600"/>
            </a:b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05 февраля 2018 год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495-618-31-83 доп. 220, 236, 235</a:t>
            </a:r>
            <a:br>
              <a:rPr sz="3600"/>
            </a:b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06 февраля 2018 год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495-611-51-47</a:t>
            </a:r>
            <a:br>
              <a:rPr sz="3600"/>
            </a:b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kovYI@mail.ru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2:45:16Z</dcterms:created>
  <dc:creator>hong</dc:creator>
  <dc:description/>
  <dc:language>en-US</dc:language>
  <cp:lastModifiedBy>Юрий И. Оськов</cp:lastModifiedBy>
  <dcterms:modified xsi:type="dcterms:W3CDTF">2018-12-13T10:07:16Z</dcterms:modified>
  <cp:revision>531</cp:revision>
  <dc:subject/>
  <dc:title>슬라이드 1</dc:title>
</cp:coreProperties>
</file>