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41F-0EA4-4988-A3A5-8475CC67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53C4-8095-429B-A69C-3BF9FF24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0C8-1279-49E2-9D67-6AEB45B9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A13-B28E-4E25-96F0-30A13D48E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1BB-8D11-4951-909D-43BC2020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017-60F1-4854-8479-6D9B7137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DF96-BD7E-4D06-8DB5-E59C64A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BCB3B-C2C1-471C-B68D-8EA3C560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07D7-A155-42E6-B814-FF86B1B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D99E4-1029-4FB2-BA86-1E27F4C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56097-BF44-4131-A562-CDF4FFC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8346-DE90-43E7-920F-E283F4C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CD62-B41B-4667-A545-3A6DCF2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B7EC-B1BF-4CDB-A8AF-8D83019C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A590-884F-4E31-80C4-8D2C1965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DB993-3188-4878-992D-28D0247B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73E-E9DF-4743-87FC-A6F4C2E5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8A58F-2DC9-4F97-B26F-44681506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A0F61-C2B4-4477-87D3-17E5A09C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9D570-BA46-4146-8925-4A02862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D2C0-1F8E-48A2-8A80-B32B945F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E77E6-3373-4973-A1FA-BBBD23EC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AF223-856A-4FB1-A1E4-C091692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B3BDD-C442-4DCD-86A9-709DF73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347D-DED4-4F82-A669-50EC1FB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BCED4-1573-44C1-AA23-B363559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3740B-D430-4708-A155-45F6789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32F-B973-4E9C-BDF1-F86C1E16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44C04-B48C-426C-B3AB-0AB308A9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7324-327D-4E1B-9D2C-46F8D6FA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A2420-B9C4-4A88-A10D-181B984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A86F-3312-4DD5-A274-116E1788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7E84-DB85-45FD-B535-CC32D5A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C63AF-0834-4DE5-981A-CC43335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AF563-D4D2-48BA-9E4F-2E37AD7B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C057-DBDF-4E6E-B42E-B381B95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EFA0-2EAE-43AB-905A-37FA249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6476-03ED-4F09-ACD4-A8F9DE0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2216-13F9-4623-AAC0-6E9DA580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6965-B285-4C7D-A836-C5D877BA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5D9E-D93B-4465-ABCE-02F84015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4FE3-010E-49D5-B9B8-93876300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81931-B1C8-43BA-82A5-C36BD7E5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CF363-8632-46AC-A710-17C14563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F4485-6882-4900-900C-DDE0D7C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CFAFE-7DCF-409D-AB82-F4CAAAC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0A01F-03F3-4432-9531-798A828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395C9-A8C2-43EA-BCED-E140AA3E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F51EC-70F5-4E7C-B987-E3D217E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8B7-35E7-4E42-A6FC-9053AAAF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F1A8C-B272-4AAD-889D-8B1FF66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54CA4-8937-4659-AAA3-6C215D2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A2860-52B5-4B8C-8AFF-3B321FC6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AECFF-DE97-4A89-8991-B04C8050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92F72-1F65-468D-B2AA-62583538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AC739-B276-49A6-91E9-05C39D87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6BEB9-625F-4CA3-A5C4-C326970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F9563-B65B-4F6C-AC46-6FFD0D19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0574E-5B14-48AD-BAD3-1868E61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997CB-56AC-47CB-BC5B-CFBB8AD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E094-E62D-4070-AFC6-BE31C0C1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E2B20-A232-4239-8478-14EAFB1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03EF9-F068-4183-8191-5827A08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3A559-7588-441B-9EB8-71C9551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DB4FB-48FE-44A1-A173-A861C57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BC174-24BB-40A8-9EF8-BF7D07D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7EA5A-C962-499C-9171-01066C08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67257-0853-4CBE-922D-6C72B3DF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4FCF8-7682-4F57-AD59-5CE42A33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A521D-4EBC-493A-96B0-E3CAF6F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03B2B-01DD-4F02-AF44-755ADF7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19B4-5533-4160-9050-28185B0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75064-16CD-4D31-B9A5-93F7C508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F660A-AD62-4713-A449-642286A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87B7A-CDFC-4A1E-9E9A-9F8B986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9AE2A-25E8-469B-BC58-6AEC3C9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7C5DA-1EDA-4EE3-888E-92DBC38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22815-D488-497C-9F7A-A4BB26B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0CF1B-93AC-4A1B-9777-703EF481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5BA28-DBA1-4E60-A523-9308F63A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7D305-56C0-49E7-9EA7-858C2C11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9C676-F1ED-49B0-902A-CABE47C9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2CA-53C2-4D3F-A379-88C890F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44903-CFD5-4F73-A5FA-A39DABC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BA07A-A07B-4077-ABEF-4B3060FA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975FC-AF42-4907-BEE3-ED99EDA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80BE8-CC0C-4B78-928D-EF1C8DF7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FB4C1-23C2-4B61-9E50-45CB4A49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82C8D-24B6-4E48-8661-D16F7EA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74345-5703-441A-89A1-31F70EF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E60F2-A632-4008-938D-3548182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99CFE-8C18-42F3-B7E0-7DF08C6E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89C68-3F2B-4D0D-8B56-015AB823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82AA-9477-42AD-9AB9-8856DEA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D24BC-8F81-4BA6-AA6E-BA4C8441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5A21D-E135-4CE7-899E-081758BB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3A0BF-0A27-4E81-BE57-1ABC8468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506D8-E7D1-465B-862B-E3D3D648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95C2E-7C8A-4CF7-9177-CD504F3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1DA7B-9A13-4C2E-83D9-9E14F86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ACE6E-403C-4C57-86ED-3B39C17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B4579-C552-4A3F-8A28-7A44344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98764-55B3-46CF-AE35-B109C43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0305D-841E-448D-8B7C-AA5C5BE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48C-20A7-4320-B593-4DE2AD5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47320-BA18-4D7C-AAB4-85F66C79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F294F-FC3B-46F7-BFAE-65A2EC5F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7E4DC-8FC9-4F73-95A9-0E73FD3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3434E-E782-4914-9CEE-364157A1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CB922-02AF-4C41-AD1F-5D5292A6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659DD-33CD-44CE-A539-ADAF683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0E00C-3622-4001-8559-7C31FAE1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75009-B82F-4A80-B0E2-918FE1A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CE587-F682-478D-8EC1-BE37B7F7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84F99-3B25-4B3C-9227-4AB13F5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468-3D1F-470C-A3FD-1E68CE4A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0087-1E0F-425D-B25D-8E0F460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2DEB3-CC3E-47CC-B307-82780E4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9970F-2B09-4429-96D4-7ED37F4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41FB1-878C-4DB7-9F5E-262D1A3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75F10-3E25-4090-B769-7C6068F4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67A0B-32A6-4FC0-A68C-15DACCFE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214-337A-43FE-834C-C09F3696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9165-8245-463C-BFD9-4FCD177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DAC-8FCA-4DD3-BF0F-A15BDD80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A43C-E092-4EB7-94E9-793BA2B1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51F3-454D-47A4-BA5B-7D803C9D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AEDF-EF36-4154-933B-CAACF0C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5A90-6CAA-4A39-A746-775AA08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A88B-3B7C-496F-8F70-31961DCA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CADF-A192-4983-B383-75B042C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A50-D26A-445D-BC6E-E8D9B06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E39A-7BC7-4006-A9A2-4322A09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E13E-1D19-41B8-8048-DC5DC4C4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C702-F7CE-40F6-A1C6-5E21A39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3504-EA03-4F21-8A78-AF40E93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D099-81FD-40FC-B873-53B0857A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EFC2-D8B1-4B76-8EAA-B9156AEB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519C-945E-40FA-832E-4F2BA3E0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85E7-21F6-448E-8FE4-B1909ABC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B21D-D565-4E36-9427-47039FC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6CCB-9535-4015-B8D2-7A681535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6F6-CACF-490D-A678-40B4374A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DD7E-E5FA-4CA6-8685-CAC45301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7ED1-AD8F-4C6B-B444-D161C868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C8E1-1AD2-491D-AF3D-46EDC28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D3B7-0212-4207-95E6-D20CA5F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23F3-36EF-40E2-8D66-65B3875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932B-8461-4B65-9660-D4AC92F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F09E-5E39-40B2-88DF-E306D34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70BF-B5A2-46FA-B4D7-D971132F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C95B-D68A-4BF5-B6A3-0CDEB44E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95F5-E66C-47CF-B038-41A9F09A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822-4F8E-4D04-A65B-F3685F0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95E9-7539-4BD6-8598-5227A86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49A5-41FF-43BE-ABF8-D867844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9BF8-6CDF-4C62-89FA-8985081A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F52F-3428-4FA5-ACF5-2C16B75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C37A-7DB3-4C42-AF4F-D4D3ECB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F2AB6-9C3B-4A93-9857-C3492C7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63B5-2734-41A6-877E-2089569C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F3D42-7CA7-47FA-9626-CCA4B32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0F61-E61C-4F21-87C0-F11BE6F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4CD5-5041-4D66-9BEF-826BDD66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ED4-8C3D-4E25-9C04-2A18095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4BAB-7C8B-42B0-86AB-7C3B5F4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F063-33CF-4909-A6DD-3F523F13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C14F-B9F5-451C-8A43-AD619A74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1695-7D4D-445F-B56B-56261CDB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CA9E-3477-404A-B69E-D558529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5DDF-0DE2-4ADB-9F19-57BEFFC1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B1F4-2F34-4D3C-A1CE-DE22D97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806C-E2ED-4713-BD16-4181C42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C9DA-D3C7-4569-B5B3-22DC6A2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8A10-4545-4158-B104-E57ED530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176-B0A5-4FAA-AAA8-188F1DC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0F0B-0333-4608-B2E7-3814E93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4849-5E46-458B-90BE-22F63DE3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CC02-B7A6-4BDF-8871-521EB15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91C7-3C72-4C20-B2A0-D043D171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53EB-EEA2-4616-97A6-4F99E40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B2E5-DAC0-4B75-9968-6EC5ACE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000D-5F56-4B89-A573-FF98F92E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FAAB-A42C-4C34-845D-36BEB6C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E349-6E9D-4AEA-B562-46D86080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D2EF-85EA-4FAD-8DAA-A54538A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E5C-36E1-4ADB-8654-36BC3F1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8291-DF40-41C4-92EC-07CA816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58AA-F816-4DD4-87CF-E2C47A1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9D88-6A7C-4B5E-82FB-332C7CD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C728-DF9B-4896-85D2-B76F3195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7434-8C3A-4823-A87C-1B5B821E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5822-B5B8-433B-A932-AD85E68B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8072-9A24-46F0-AFC1-FE277AB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47185-C736-4298-8448-AB241FD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4507-8531-41B7-9DE2-86A478A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3F11-757A-4F36-8CA1-49E4136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D36-0BCF-4161-ACBD-15A0804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A162-0862-4E1E-857D-932AA41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1D51-37C2-4C6A-BDE9-33A0892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FCAE1-13CE-4F29-9A04-B8ADD77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2DBA-3B63-4B09-B896-EAE8F6F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1CDA-A012-4501-B403-78702DE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EDBD-9747-4D89-B797-24D750E4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C8349-C1B7-4D43-A3D2-4EF4803C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121D8-321A-48EC-BF10-7B616E13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69E0-D984-43FD-B0B5-9D2FE721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9865-8CB3-4BEF-B06A-ABAB2D6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55F-EAD6-4789-9435-43B3181D1A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356-448C-47C1-A307-13B966B8B7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753-2877-4686-8425-04E51E84D9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AE9-0759-4343-8E53-CDF5DC48B6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17FE-FF3B-4B2D-9FFF-CD510E55A1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2BC-1495-4191-A317-98C302F47BF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73C-906C-4E8C-A62D-0D15A6B966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3D6-C818-44DB-AA43-8D71E123A5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D6DB-EE99-4A8E-8187-DA5C4B2394E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7380-4E06-4399-80F5-6B51D7ED328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BC3-4EAD-4F27-831A-2DCAB31EF22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CB4-0A21-4E57-973D-6F1103DFA1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3F31-0500-426A-A4A9-E087AE40D1D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D12-D539-4354-8A23-F78B779DD9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F5A-84C1-4E8A-B1EB-0C5D6523C9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CD29-DA46-47EF-9444-355386CE35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7E8-4B38-4E5B-AFEA-74751AA679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79"/>
          <p:cNvSpPr/>
          <p:nvPr/>
        </p:nvSpPr>
        <p:spPr>
          <a:xfrm>
            <a:off x="309600" y="187488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Прямоугольник 3"/>
          <p:cNvSpPr/>
          <p:nvPr/>
        </p:nvSpPr>
        <p:spPr>
          <a:xfrm>
            <a:off x="174600" y="542880"/>
            <a:ext cx="8969400" cy="14997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июля 2018 г. N 16-5/10/2-470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аккредитации специалистов регламентируется приказом Минздрава России от 02.06.2016 N 334н "Об утверждении положения об аккредитации специалиста" (далее - Положение)…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201600" y="2376360"/>
            <a:ext cx="894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оматолог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Стоматология общей практики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терапевт участковы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Лечебное дело»)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педиатр участковый</a:t>
            </a: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Педиатрия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клинической лабораторной диагностик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Медицинская биохим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функциональной диагностик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Медицинская биофиз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атистик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кибернет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эпидемиолог» и «Врач по общей гигиен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ко-профилактическое дело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изор» и «Провизор-технолог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Фармац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242800" y="225360"/>
            <a:ext cx="6900840" cy="4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в 2018 году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34800" y="1157040"/>
            <a:ext cx="880920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льдше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ечебн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», «Медицинская сестра участковая», «Медицинская сестра патронажная», «Медицинская сестра приемного отделения», «Медицинская сестра палатная (постовая)», «Медицинская сестра перевязочной», «Медицинская сестра процедурной», «Медицинская сестра стерилизацион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естринское дело»)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армацевт»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Фармаци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ушерка»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Акушерское дело»)</a:t>
            </a:r>
            <a:r>
              <a:rPr b="1" lang="ru-RU" sz="1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ая сестра по массажу/медицинский брат по массажу»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ий массаж»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убной техник»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ортопедическа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технолог», «Медицинский лабораторный техник (фельдшер-лаборант)» и «Лаборант»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абораторная    диагнос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гиенист стоматологический»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 профилактическая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оптик-оптометрист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ая оп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 врача по эпидемиологии» и «Помощник врача по гигиене»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                                                                               (специальность «Медико-профилактическ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4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5" name="Rectangle 108"/>
          <p:cNvSpPr/>
          <p:nvPr/>
        </p:nvSpPr>
        <p:spPr>
          <a:xfrm>
            <a:off x="434880" y="4911840"/>
            <a:ext cx="84870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о. должность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сохраняется для специалистов с высшим профессиональным (немедицинским) образованием, принятых на работу д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01.10.1999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и работники могут продолжать профессиональную деятельность в занимаемых должностях без сертификата специалис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7" name=""/>
          <p:cNvGraphicFramePr/>
          <p:nvPr/>
        </p:nvGraphicFramePr>
        <p:xfrm>
          <a:off x="200160" y="1143000"/>
          <a:ext cx="8721720" cy="54165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2"/>
          <p:cNvSpPr/>
          <p:nvPr/>
        </p:nvSpPr>
        <p:spPr>
          <a:xfrm>
            <a:off x="2795760" y="5170320"/>
            <a:ext cx="391788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Увеличение штатной численности и физлиц не должно быть. Вновь принятые специалисты  -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4" name=""/>
          <p:cNvGraphicFramePr/>
          <p:nvPr/>
        </p:nvGraphicFramePr>
        <p:xfrm>
          <a:off x="355680" y="207504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920"/>
                <a:gridCol w="583920"/>
                <a:gridCol w="1024200"/>
                <a:gridCol w="87768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5" name="Rectangle 2"/>
          <p:cNvSpPr/>
          <p:nvPr/>
        </p:nvSpPr>
        <p:spPr>
          <a:xfrm>
            <a:off x="1719360" y="947880"/>
            <a:ext cx="657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67"/>
          <p:cNvSpPr/>
          <p:nvPr/>
        </p:nvSpPr>
        <p:spPr>
          <a:xfrm flipH="1">
            <a:off x="6984720" y="529272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47"/>
          <p:cNvSpPr/>
          <p:nvPr/>
        </p:nvSpPr>
        <p:spPr>
          <a:xfrm rot="18274800">
            <a:off x="7524720" y="4836600"/>
            <a:ext cx="731880" cy="817560"/>
          </a:xfrm>
          <a:custGeom>
            <a:avLst/>
            <a:gdLst>
              <a:gd name="textAreaLeft" fmla="*/ 106920 w 731880"/>
              <a:gd name="textAreaRight" fmla="*/ 624960 w 731880"/>
              <a:gd name="textAreaTop" fmla="*/ 119520 h 817560"/>
              <a:gd name="textAreaBottom" fmla="*/ 698040 h 8175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8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260280" y="1424160"/>
          <a:ext cx="8532720" cy="3200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1" name="AutoShape 627"/>
          <p:cNvSpPr/>
          <p:nvPr/>
        </p:nvSpPr>
        <p:spPr>
          <a:xfrm>
            <a:off x="2257560" y="4906800"/>
            <a:ext cx="6553080" cy="642960"/>
          </a:xfrm>
          <a:prstGeom prst="wedgeRoundRectCallout">
            <a:avLst>
              <a:gd name="adj1" fmla="val 7148"/>
              <a:gd name="adj2" fmla="val 116912"/>
              <a:gd name="adj3" fmla="val 16667"/>
            </a:avLst>
          </a:prstGeom>
          <a:solidFill>
            <a:srgbClr val="4329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28"/>
          <p:cNvSpPr/>
          <p:nvPr/>
        </p:nvSpPr>
        <p:spPr>
          <a:xfrm>
            <a:off x="2259000" y="3924360"/>
            <a:ext cx="6591240" cy="873000"/>
          </a:xfrm>
          <a:prstGeom prst="rect">
            <a:avLst/>
          </a:prstGeom>
          <a:solidFill>
            <a:srgbClr val="ebab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 (федеральные учреждения, подчинение субъекта РФ) медицинские организации распределяются по состоянию на конец отчетного год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29"/>
          <p:cNvSpPr/>
          <p:nvPr/>
        </p:nvSpPr>
        <p:spPr>
          <a:xfrm>
            <a:off x="2279520" y="2921040"/>
            <a:ext cx="6607440" cy="76212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47252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токсикологи (добавлены</a:t>
            </a:r>
            <a:r>
              <a:rPr b="1" lang="ru-RU" sz="2000" spc="-1" strike="noStrike">
                <a:solidFill>
                  <a:srgbClr val="64725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AutoShape 17"/>
          <p:cNvSpPr/>
          <p:nvPr/>
        </p:nvSpPr>
        <p:spPr>
          <a:xfrm>
            <a:off x="576360" y="6010200"/>
            <a:ext cx="4627440" cy="3970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3"/>
          <p:cNvSpPr/>
          <p:nvPr/>
        </p:nvSpPr>
        <p:spPr>
          <a:xfrm>
            <a:off x="471600" y="2274840"/>
            <a:ext cx="84247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6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7" name="Rectangle 915"/>
          <p:cNvSpPr/>
          <p:nvPr/>
        </p:nvSpPr>
        <p:spPr>
          <a:xfrm>
            <a:off x="3040200" y="2860560"/>
            <a:ext cx="5744880" cy="806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917"/>
          <p:cNvSpPr/>
          <p:nvPr/>
        </p:nvSpPr>
        <p:spPr>
          <a:xfrm>
            <a:off x="3125880" y="3902040"/>
            <a:ext cx="5586480" cy="552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Выноска со стрелкой вправо 2"/>
          <p:cNvSpPr/>
          <p:nvPr/>
        </p:nvSpPr>
        <p:spPr>
          <a:xfrm>
            <a:off x="2978280" y="5500800"/>
            <a:ext cx="685800" cy="1082520"/>
          </a:xfrm>
          <a:prstGeom prst="rightArrowCallout">
            <a:avLst>
              <a:gd name="adj1" fmla="val 24995"/>
              <a:gd name="adj2" fmla="val 25000"/>
              <a:gd name="adj3" fmla="val 25000"/>
              <a:gd name="adj4" fmla="val 64977"/>
            </a:avLst>
          </a:prstGeom>
          <a:solidFill>
            <a:srgbClr val="e78712"/>
          </a:solidFill>
          <a:ln cap="rnd" w="15840">
            <a:solidFill>
              <a:srgbClr val="aa6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17"/>
          <p:cNvSpPr/>
          <p:nvPr/>
        </p:nvSpPr>
        <p:spPr>
          <a:xfrm>
            <a:off x="3706920" y="5796000"/>
            <a:ext cx="5087880" cy="3967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обавлены строки 135,136,137,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1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b73c26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2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зависимо от должности, которую они занимают в среднем мед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6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7" name="Rectangle 719"/>
          <p:cNvSpPr/>
          <p:nvPr/>
        </p:nvSpPr>
        <p:spPr>
          <a:xfrm>
            <a:off x="2527200" y="3490920"/>
            <a:ext cx="6189840" cy="1371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5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804"/>
          <p:cNvSpPr/>
          <p:nvPr/>
        </p:nvSpPr>
        <p:spPr>
          <a:xfrm>
            <a:off x="2494080" y="5275440"/>
            <a:ext cx="6273720" cy="1301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 эпидемиолога, врача-паразитолога, врача по гигиене детей и подростков, врача по гигиене питания, врача по гигиене труда, врача по гигиеническому воспитанию, врача по коммунальной 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edd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252"/>
          <p:cNvSpPr/>
          <p:nvPr/>
        </p:nvSpPr>
        <p:spPr>
          <a:xfrm>
            <a:off x="446040" y="5267160"/>
            <a:ext cx="8361360" cy="7700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 строка «Инструкторы по лечебной физкультуре (без среднего медицинского образования)» (ранее строка 213, ф.№30 за 2017 год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4" name=""/>
          <p:cNvGraphicFramePr/>
          <p:nvPr/>
        </p:nvGraphicFramePr>
        <p:xfrm>
          <a:off x="344520" y="979560"/>
          <a:ext cx="8570880" cy="4714920"/>
        </p:xfrm>
        <a:graphic>
          <a:graphicData uri="http://schemas.openxmlformats.org/drawingml/2006/table">
            <a:tbl>
              <a:tblPr/>
              <a:tblGrid>
                <a:gridCol w="2333520"/>
                <a:gridCol w="500040"/>
                <a:gridCol w="527040"/>
                <a:gridCol w="587520"/>
                <a:gridCol w="615960"/>
                <a:gridCol w="581040"/>
                <a:gridCol w="681120"/>
                <a:gridCol w="652320"/>
                <a:gridCol w="676440"/>
                <a:gridCol w="733320"/>
                <a:gridCol w="68256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лаборантов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Rectangle 694"/>
          <p:cNvSpPr/>
          <p:nvPr/>
        </p:nvSpPr>
        <p:spPr>
          <a:xfrm>
            <a:off x="374760" y="5673600"/>
            <a:ext cx="8523000" cy="9651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заполняются по графам 9, 10, 11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по графам с 3 по 8, с 12 по 15 не заполн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6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едицинского образования занимающих должности </a:t>
                      </a: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7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медицинских регистраторов, медицинских дезинфекторов, инструкторов по лечебной физкультуре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студентов медицинских Вузов, имеющих 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0" name=""/>
          <p:cNvGraphicFramePr/>
          <p:nvPr/>
        </p:nvGraphicFramePr>
        <p:xfrm>
          <a:off x="233280" y="250920"/>
          <a:ext cx="8720280" cy="62452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1" name="Rectangle 1108"/>
          <p:cNvSpPr/>
          <p:nvPr/>
        </p:nvSpPr>
        <p:spPr>
          <a:xfrm>
            <a:off x="3703680" y="2583000"/>
            <a:ext cx="5276880" cy="13539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физических лиц в медицинских организациях равно сумме стр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24+225+2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Прямоугольник 1"/>
          <p:cNvSpPr/>
          <p:nvPr/>
        </p:nvSpPr>
        <p:spPr>
          <a:xfrm>
            <a:off x="3794040" y="4803840"/>
            <a:ext cx="5211720" cy="1471680"/>
          </a:xfrm>
          <a:prstGeom prst="rect">
            <a:avLst/>
          </a:prstGeom>
          <a:solidFill>
            <a:srgbClr val="c8c3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 Строки 225 и 229 включают в себ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ФИЗИЧЕСКИЕ 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 с ВНО и лиц без медицинского образования,  занимающие должности врачей и среднего медицин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3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ца отделений (кабинетов) </a:t>
                      </a:r>
                      <a:r>
                        <a:rPr b="1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филактики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8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4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1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Выноска 1 (с границей) 1"/>
          <p:cNvSpPr/>
          <p:nvPr/>
        </p:nvSpPr>
        <p:spPr>
          <a:xfrm>
            <a:off x="7542360" y="677880"/>
            <a:ext cx="1601640" cy="10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97" y="35221"/>
                </a:moveTo>
                <a:lnTo>
                  <a:pt x="-1028" y="2404"/>
                </a:lnTo>
              </a:path>
              <a:path w="21600" h="21600">
                <a:moveTo>
                  <a:pt x="-1028" y="0"/>
                </a:moveTo>
                <a:lnTo>
                  <a:pt x="-1028" y="21600"/>
                </a:lnTo>
              </a:path>
            </a:pathLst>
          </a:custGeom>
          <a:solidFill>
            <a:srgbClr val="c8c38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 графы «штатные должности», «физические лица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Прямая соединительная линия 3"/>
          <p:cNvSpPr/>
          <p:nvPr/>
        </p:nvSpPr>
        <p:spPr>
          <a:xfrm>
            <a:off x="9777240" y="2013120"/>
            <a:ext cx="254160" cy="1307880"/>
          </a:xfrm>
          <a:prstGeom prst="line">
            <a:avLst/>
          </a:prstGeom>
          <a:ln cap="rnd" w="1908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51 (заведующие ФАП) таблицы 1100 меньше или равны строке 2+3+4 таблицы 11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3 (средний медперсонал всего) по графам 5, 6 и 10 (в поликлинике)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2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208 (фельдшеры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3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8 (акушерки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4 (медицинские сестры)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67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Выноска 2 (с границей) 1"/>
          <p:cNvSpPr/>
          <p:nvPr/>
        </p:nvSpPr>
        <p:spPr>
          <a:xfrm>
            <a:off x="6005520" y="3168720"/>
            <a:ext cx="2389320" cy="601560"/>
          </a:xfrm>
          <a:solidFill>
            <a:srgbClr val="e7871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4 «Медицинские сестры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2"/>
          <p:cNvSpPr/>
          <p:nvPr/>
        </p:nvSpPr>
        <p:spPr>
          <a:xfrm>
            <a:off x="5519880" y="2336760"/>
            <a:ext cx="3220920" cy="460440"/>
          </a:xfrm>
          <a:prstGeom prst="rect">
            <a:avLst/>
          </a:prstGeom>
          <a:solidFill>
            <a:srgbClr val="f4b76e"/>
          </a:solidFill>
          <a:ln cap="rnd" w="15840">
            <a:solidFill>
              <a:srgbClr val="b38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равна сумме строк с 2 по 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Согласно приказу Минздравсоцразвития РФ от 15 мая 2012 №543н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лжность заведующего фельдшерско-акушерским пунктом - фельдшера назначается медицинский работник, соответствующий Квалификационным требованиям к медицинским и фармацевтическим работникам со средним медицинским и фармацевтическим образованием, утвержденным приказом Министерства здравоохранения Российской Федерации от 10 февраля 2016 г. N 83н, по специальности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"лечебное дело" или "акушерское дело" или "сестринское дело"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ключая заведующ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6" name="Прямоугольник 1"/>
          <p:cNvSpPr/>
          <p:nvPr/>
        </p:nvSpPr>
        <p:spPr>
          <a:xfrm>
            <a:off x="736560" y="5797440"/>
            <a:ext cx="8016840" cy="7016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на соответствие табл.1102 ф. 30 с ф. 30-село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                            Должность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465120" y="3151080"/>
          <a:ext cx="8305920" cy="280368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0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Text Box 2"/>
          <p:cNvSpPr/>
          <p:nvPr/>
        </p:nvSpPr>
        <p:spPr>
          <a:xfrm>
            <a:off x="1486080" y="3808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1257480" y="3809880"/>
            <a:ext cx="6514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1257480" y="762120"/>
          <a:ext cx="6572160" cy="2984400"/>
        </p:xfrm>
        <a:graphic>
          <a:graphicData uri="http://schemas.openxmlformats.org/drawingml/2006/table">
            <a:tbl>
              <a:tblPr/>
              <a:tblGrid>
                <a:gridCol w="4286160"/>
                <a:gridCol w="743040"/>
                <a:gridCol w="1542960"/>
              </a:tblGrid>
              <a:tr h="3088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омплекс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0" name="Rectangle 228"/>
          <p:cNvSpPr/>
          <p:nvPr/>
        </p:nvSpPr>
        <p:spPr>
          <a:xfrm>
            <a:off x="396720" y="3833640"/>
            <a:ext cx="8274240" cy="136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о провести сверку с мониторингом по участковой службе с количеством терапевтических участков и участков общей врачебной практики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2"/>
          <p:cNvSpPr/>
          <p:nvPr/>
        </p:nvSpPr>
        <p:spPr>
          <a:xfrm>
            <a:off x="1486080" y="2970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84"/>
          <p:cNvSpPr/>
          <p:nvPr/>
        </p:nvSpPr>
        <p:spPr>
          <a:xfrm>
            <a:off x="280980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86"/>
          <p:cNvSpPr/>
          <p:nvPr/>
        </p:nvSpPr>
        <p:spPr>
          <a:xfrm>
            <a:off x="334332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792000" y="838080"/>
          <a:ext cx="7412040" cy="3932280"/>
        </p:xfrm>
        <a:graphic>
          <a:graphicData uri="http://schemas.openxmlformats.org/drawingml/2006/table">
            <a:tbl>
              <a:tblPr/>
              <a:tblGrid>
                <a:gridCol w="882720"/>
                <a:gridCol w="587520"/>
                <a:gridCol w="631800"/>
                <a:gridCol w="644400"/>
                <a:gridCol w="447840"/>
                <a:gridCol w="639720"/>
                <a:gridCol w="779400"/>
                <a:gridCol w="771480"/>
                <a:gridCol w="447840"/>
                <a:gridCol w="685800"/>
                <a:gridCol w="893520"/>
              </a:tblGrid>
              <a:tr h="3049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5" name="Rectangle 497"/>
          <p:cNvSpPr/>
          <p:nvPr/>
        </p:nvSpPr>
        <p:spPr>
          <a:xfrm>
            <a:off x="415800" y="5132520"/>
            <a:ext cx="8410680" cy="1425600"/>
          </a:xfrm>
          <a:prstGeom prst="rect">
            <a:avLst/>
          </a:prstGeom>
          <a:solidFill>
            <a:srgbClr val="d2b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10 «Число физических лиц основных работников, находящихся в декретном и долгосрочном отпуск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, в связи с внесением изменений в таблицу 1100, где добавлена графа 17 «Находятся в декретном и долгосрочном отпуске (из гр.9), чел.)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02"/>
          <p:cNvSpPr/>
          <p:nvPr/>
        </p:nvSpPr>
        <p:spPr>
          <a:xfrm>
            <a:off x="3867120" y="1279440"/>
            <a:ext cx="508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ТАБЛИЦА УДАЛ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2"/>
          <p:cNvSpPr/>
          <p:nvPr/>
        </p:nvSpPr>
        <p:spPr>
          <a:xfrm>
            <a:off x="415800" y="1932120"/>
            <a:ext cx="8496360" cy="418464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5"/>
          <p:cNvSpPr/>
          <p:nvPr/>
        </p:nvSpPr>
        <p:spPr>
          <a:xfrm flipH="1">
            <a:off x="1676520" y="838080"/>
            <a:ext cx="6943680" cy="417528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694"/>
          <p:cNvSpPr/>
          <p:nvPr/>
        </p:nvSpPr>
        <p:spPr>
          <a:xfrm>
            <a:off x="1924200" y="3056040"/>
            <a:ext cx="7010280" cy="52380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60 «по паллиативной медицинской помощи» - посещения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698"/>
          <p:cNvSpPr/>
          <p:nvPr/>
        </p:nvSpPr>
        <p:spPr>
          <a:xfrm>
            <a:off x="1914480" y="3792600"/>
            <a:ext cx="7010280" cy="1407960"/>
          </a:xfrm>
          <a:prstGeom prst="rect">
            <a:avLst/>
          </a:prstGeom>
          <a:solidFill>
            <a:srgbClr val="eae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(посещения, которые ранее вносились в таб. 2102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.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76320" y="1066680"/>
          <a:ext cx="8839080" cy="491040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698"/>
          <p:cNvSpPr/>
          <p:nvPr/>
        </p:nvSpPr>
        <p:spPr>
          <a:xfrm>
            <a:off x="2028960" y="3456000"/>
            <a:ext cx="6892920" cy="193032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целях повышения эффективности оказания первичной медико-санитарной помощи при внезапных острых заболеваниях, состояниях, обострении хронических заболеваний, не опасных для жизни пациента и не требующих экстренной медицинской помощи, в структуре медицинских организаций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может организовываться отделение (кабинет) неотложной медицинской помощ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ая выноска 10"/>
          <p:cNvSpPr/>
          <p:nvPr/>
        </p:nvSpPr>
        <p:spPr>
          <a:xfrm>
            <a:off x="4137120" y="5754600"/>
            <a:ext cx="2943000" cy="790560"/>
          </a:xfrm>
          <a:prstGeom prst="wedgeRectCallout">
            <a:avLst>
              <a:gd name="adj1" fmla="val -19768"/>
              <a:gd name="adj2" fmla="val -83750"/>
            </a:avLst>
          </a:prstGeom>
          <a:solidFill>
            <a:srgbClr val="f7cf9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ьше данных таблицы 210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9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4"/>
          <p:cNvSpPr/>
          <p:nvPr/>
        </p:nvSpPr>
        <p:spPr>
          <a:xfrm rot="18941400">
            <a:off x="1488600" y="3830400"/>
            <a:ext cx="4146840" cy="528480"/>
          </a:xfrm>
          <a:custGeom>
            <a:avLst/>
            <a:gdLst>
              <a:gd name="textAreaLeft" fmla="*/ 648000 w 4146840"/>
              <a:gd name="textAreaRight" fmla="*/ 3628800 w 414684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3"/>
          <p:cNvGrpSpPr/>
          <p:nvPr/>
        </p:nvGrpSpPr>
        <p:grpSpPr>
          <a:xfrm>
            <a:off x="4567320" y="3056040"/>
            <a:ext cx="4343400" cy="2397600"/>
            <a:chOff x="4567320" y="3056040"/>
            <a:chExt cx="4343400" cy="2397600"/>
          </a:xfrm>
        </p:grpSpPr>
        <p:sp>
          <p:nvSpPr>
            <p:cNvPr id="1332" name="AutoShape 8"/>
            <p:cNvSpPr/>
            <p:nvPr/>
          </p:nvSpPr>
          <p:spPr>
            <a:xfrm>
              <a:off x="4567320" y="3056040"/>
              <a:ext cx="4343400" cy="191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4851000" y="3110400"/>
              <a:ext cx="3791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5 может быть больше т2100 (за счет посещений в неотложной форме вне кабинетов неотложной медицинской помощи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8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4"/>
          <p:cNvSpPr/>
          <p:nvPr/>
        </p:nvSpPr>
        <p:spPr>
          <a:xfrm rot="19686600">
            <a:off x="1738080" y="5483160"/>
            <a:ext cx="3063600" cy="528840"/>
          </a:xfrm>
          <a:custGeom>
            <a:avLst/>
            <a:gdLst>
              <a:gd name="textAreaLeft" fmla="*/ 478440 w 3063600"/>
              <a:gd name="textAreaRight" fmla="*/ 2680920 w 3063600"/>
              <a:gd name="textAreaTop" fmla="*/ 132120 h 528840"/>
              <a:gd name="textAreaBottom" fmla="*/ 396720 h 528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3"/>
          <p:cNvGrpSpPr/>
          <p:nvPr/>
        </p:nvGrpSpPr>
        <p:grpSpPr>
          <a:xfrm>
            <a:off x="3697200" y="1565280"/>
            <a:ext cx="4372200" cy="2721960"/>
            <a:chOff x="3697200" y="1565280"/>
            <a:chExt cx="4372200" cy="2721960"/>
          </a:xfrm>
        </p:grpSpPr>
        <p:sp>
          <p:nvSpPr>
            <p:cNvPr id="1341" name="AutoShape 8"/>
            <p:cNvSpPr/>
            <p:nvPr/>
          </p:nvSpPr>
          <p:spPr>
            <a:xfrm>
              <a:off x="3697200" y="1565280"/>
              <a:ext cx="4372200" cy="2500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1"/>
            <p:cNvSpPr/>
            <p:nvPr/>
          </p:nvSpPr>
          <p:spPr>
            <a:xfrm>
              <a:off x="4086000" y="1669680"/>
              <a:ext cx="381780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0 (стр 124) +т.2102 (выездная патронажная служба) равна или меньше т2105 (за счет посещений по паллиативной помощи вне кабинетов и отделений по паллиативной помощи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аблица 2101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152280" y="914400"/>
          <a:ext cx="8763120" cy="356544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628"/>
          <p:cNvSpPr/>
          <p:nvPr/>
        </p:nvSpPr>
        <p:spPr>
          <a:xfrm>
            <a:off x="6238800" y="635040"/>
            <a:ext cx="2724120" cy="2598840"/>
          </a:xfrm>
          <a:prstGeom prst="rect">
            <a:avLst/>
          </a:prstGeom>
          <a:solidFill>
            <a:srgbClr val="ddd9b0"/>
          </a:solidFill>
          <a:ln cap="rnd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отделений (кабинетов) неотложной медицинской помощи и пунктов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2"/>
          <p:cNvSpPr/>
          <p:nvPr/>
        </p:nvSpPr>
        <p:spPr>
          <a:xfrm>
            <a:off x="152280" y="4632480"/>
            <a:ext cx="8744040" cy="198108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не включаю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блица 2102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466560" y="1467000"/>
          <a:ext cx="8239320" cy="91440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ыездной патронажной службы паллиативной помощи для оказания паллиативной медицинской помощи на дому: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1___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детям 2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1" name="Прямоугольник 1"/>
          <p:cNvSpPr/>
          <p:nvPr/>
        </p:nvSpPr>
        <p:spPr>
          <a:xfrm>
            <a:off x="457200" y="2511360"/>
            <a:ext cx="8229600" cy="119124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полностью изменена (таб.2102 «Посещения врачами пунктов (кабинетов) неотложной медицинской помощи на дому», ф.№30 за 2017 год), вышеуказанные посещения теперь указываются в таб.2100, стр. 12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626"/>
          <p:cNvSpPr/>
          <p:nvPr/>
        </p:nvSpPr>
        <p:spPr>
          <a:xfrm>
            <a:off x="6798600" y="42372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Прямоугольник 1"/>
          <p:cNvSpPr/>
          <p:nvPr/>
        </p:nvSpPr>
        <p:spPr>
          <a:xfrm>
            <a:off x="407880" y="3914640"/>
            <a:ext cx="8229600" cy="916920"/>
          </a:xfrm>
          <a:prstGeom prst="rect">
            <a:avLst/>
          </a:prstGeom>
          <a:solidFill>
            <a:srgbClr val="f7c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блицу вносятся посещения патронажной службой паллиативной помощи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рачей-специалистов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казывающих паллиативную медицинскую помощь на дому: всего, из них детя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"/>
          <p:cNvSpPr/>
          <p:nvPr/>
        </p:nvSpPr>
        <p:spPr>
          <a:xfrm>
            <a:off x="485640" y="5029200"/>
            <a:ext cx="820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блица 2103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Посещения к врачам центров здоровья и комплексные обследования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далена!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обого типа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9" name="Прямоугольник 3"/>
          <p:cNvSpPr/>
          <p:nvPr/>
        </p:nvSpPr>
        <p:spPr>
          <a:xfrm>
            <a:off x="2197080" y="3621240"/>
            <a:ext cx="6634080" cy="119016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324000" y="1327320"/>
          <a:ext cx="8450280" cy="49496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 аттестационных комиссий, о присвоении специалистам, прошедшим аттестацию, квалификационных катего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3" name="Text Box 541"/>
          <p:cNvSpPr/>
          <p:nvPr/>
        </p:nvSpPr>
        <p:spPr>
          <a:xfrm>
            <a:off x="7067520" y="4149720"/>
            <a:ext cx="1471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Добавлены граф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647252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7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1"/>
          <p:cNvSpPr/>
          <p:nvPr/>
        </p:nvSpPr>
        <p:spPr>
          <a:xfrm>
            <a:off x="1278000" y="4186080"/>
            <a:ext cx="6670440" cy="152028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нтроль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а 15 + Графа 16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ожет быть больше Графы 9 по всем строка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Group 3" descr=""/>
          <p:cNvPicPr/>
          <p:nvPr/>
        </p:nvPicPr>
        <p:blipFill>
          <a:blip r:embed="rId1"/>
          <a:stretch/>
        </p:blipFill>
        <p:spPr>
          <a:xfrm>
            <a:off x="792000" y="5327640"/>
            <a:ext cx="76028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374760" y="801720"/>
          <a:ext cx="8450280" cy="218916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4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"/>
          <p:cNvSpPr/>
          <p:nvPr/>
        </p:nvSpPr>
        <p:spPr>
          <a:xfrm>
            <a:off x="1257480" y="162000"/>
            <a:ext cx="659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1"/>
          <p:cNvSpPr/>
          <p:nvPr/>
        </p:nvSpPr>
        <p:spPr>
          <a:xfrm>
            <a:off x="374760" y="3652920"/>
            <a:ext cx="8383320" cy="184500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рафа 17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ключаютс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лица, не работающие в связи с временной или частичной утратой трудоспособ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гр. 17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 лиц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числа основных работников, находящихся в декретном отпуске (отпуск по беременности и родам ), отпуск по уходу за ребенком  до достижения им возраста 3-х лет, отпуске без сохранения заработной платы (по семейным и другим уважительным причинам) в течении отчетного год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3T07:02:38Z</dcterms:modified>
  <cp:revision>114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