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5BA-C2FA-4914-B79C-F941D9FD03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C67B-10D6-4239-A199-A9329D5D2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85D-F2BE-4C4C-A949-EE16A036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DCA-3DC8-44B8-8542-EEC61748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93D-77D7-4730-8A61-D4420CB7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690-5FD2-47EF-A3E6-08A073AF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0351-FA60-4695-9402-4F774F7C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9417-0A49-4DDD-B1BB-C98FCCDC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E92-695A-4005-B5F1-1225A7E0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EC1-2A4F-4F9B-8A44-574C2B9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DDF9-E52F-41FD-8447-745B6BDB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0D5C-BE9E-4B18-A131-5964D926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2CB8-E1CB-416A-8060-BF03D31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D1E-04F4-46E6-9881-1C33A4A6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AE38-E028-4558-984E-4E9B1046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5EB0-ACA6-4FC3-9DED-F8236EE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343E-3D92-4D96-9FDF-701264B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C2D3-8639-40BC-9F2D-D2475CBF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B15C-59AB-4738-84B6-7DB89C48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A22-7855-4B2D-A371-8C84E3AB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D2A-24B5-4CA6-93B0-E5F096E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D5F-4C69-48A4-8FDE-F6D8740E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59C-99BB-4381-BD2A-474EE13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527-A5F2-4017-AC1D-BC2EBB1C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69D-E403-48C9-A869-83ABC8C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49B-C1FC-4985-883F-FCF3A76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84F3-D63E-40CF-B69C-02F8F9561D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5CA0-EF6D-4BC5-9927-7C989A2804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3EA-9825-4362-9882-ECE302138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7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03280" y="22766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476360" y="278136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27.12.2016 №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ЛОЖНЕ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ЕПС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ТЕНОКАРДИЯ НА ФОНЕ ХРОНИЧЕСКОЙ ФОРМЫ ИШЕМИЧЕСКОЙ БОЛЕЗНИ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57200" y="525384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ждый случай летального исхода при этих осложнениях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, что в акушерско-гинекологической практике, как правило, сепсис регистрируется не как осложнение аборта, беременности, родов и послеродового периода, а как криптогенное заболевание. Это ведет к сокрытию случаев материнской смер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413000"/>
          <a:ext cx="8147160" cy="4655880"/>
        </p:xfrm>
        <a:graphic>
          <a:graphicData uri="http://schemas.openxmlformats.org/drawingml/2006/table">
            <a:tbl>
              <a:tblPr/>
              <a:tblGrid>
                <a:gridCol w="1384560"/>
                <a:gridCol w="2117520"/>
                <a:gridCol w="2036880"/>
                <a:gridCol w="2608200"/>
              </a:tblGrid>
              <a:tr h="47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епсис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0920" y="129132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тенокард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клинический синдром, проявляющийся чувством дискомфорта или болью в грудной клетке сжимающего, давящего характера, которая локализуется чаще всего за грудиной и может иррадиировать в левую руку, шею, нижнюю челюсть, эпигастральную область. Стенокардия обусловлена преходящей ишемией миокарда, основой которой является несоответствие между потребностью миокарда в кислороде и его доставкой по коронарным артериям. Стенокардия является  проявлением "ишемической болезни сердца", которая по определению ВОЗ (1971) представляет собой </a:t>
            </a:r>
            <a:r>
              <a:rPr b="1" i="1" lang="ru-RU" sz="2000" spc="-1" strike="noStrike" u="sng">
                <a:solidFill>
                  <a:srgbClr val="c0504d"/>
                </a:solidFill>
                <a:uFillTx/>
                <a:latin typeface="Arial"/>
              </a:rPr>
              <a:t>острую или хроническую дисфунк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озникающую вследствие относительного или абсолютного уменьшения снабжения миокарда артериальной кров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Calibri"/>
              </a:rPr>
              <a:t>СТЕНОКАР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5083200" y="156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341360"/>
          <a:ext cx="6624720" cy="4348080"/>
        </p:xfrm>
        <a:graphic>
          <a:graphicData uri="http://schemas.openxmlformats.org/drawingml/2006/table">
            <a:tbl>
              <a:tblPr/>
              <a:tblGrid>
                <a:gridCol w="2208240"/>
                <a:gridCol w="2206440"/>
                <a:gridCol w="22100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солютные величины летальных и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нокар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20.0-.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её нестабильная стенокардия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Динамика летальности от стенокардии в стационарах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71640" y="1844640"/>
          <a:ext cx="7200720" cy="3635280"/>
        </p:xfrm>
        <a:graphic>
          <a:graphicData uri="http://schemas.openxmlformats.org/drawingml/2006/table">
            <a:tbl>
              <a:tblPr/>
              <a:tblGrid>
                <a:gridCol w="1226880"/>
                <a:gridCol w="1868760"/>
                <a:gridCol w="1800000"/>
                <a:gridCol w="23050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84360" y="981000"/>
          <a:ext cx="7921440" cy="3353040"/>
        </p:xfrm>
        <a:graphic>
          <a:graphicData uri="http://schemas.openxmlformats.org/drawingml/2006/table">
            <a:tbl>
              <a:tblPr/>
              <a:tblGrid>
                <a:gridCol w="1585800"/>
                <a:gridCol w="1582560"/>
                <a:gridCol w="158436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8"/>
          <p:cNvSpPr/>
          <p:nvPr/>
        </p:nvSpPr>
        <p:spPr>
          <a:xfrm>
            <a:off x="1692360" y="189000"/>
            <a:ext cx="611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СИМПТО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6" descr=""/>
          <p:cNvPicPr/>
          <p:nvPr/>
        </p:nvPicPr>
        <p:blipFill>
          <a:blip r:embed="rId2"/>
          <a:stretch/>
        </p:blipFill>
        <p:spPr>
          <a:xfrm>
            <a:off x="781200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Пациенты с симптомами заболевания госпитализируются для уточнения диагноза. </a:t>
            </a:r>
            <a:br>
              <a:rPr sz="1400"/>
            </a:b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Если диагноз заболевания не уточнен эти случаи госпитализации следует рассматривать как обследование и должны регистрироваться в строке </a:t>
            </a: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21.0 «Факторы, влияющие на состояние здоровья и обращения в учреждения здравоохранени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ждый случай летального исхода по этому классу 18 МКБ-10 </a:t>
            </a: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(симптомы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6" descr=""/>
          <p:cNvPicPr/>
          <p:nvPr/>
        </p:nvPicPr>
        <p:blipFill>
          <a:blip r:embed="rId3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7" descr=""/>
          <p:cNvPicPr/>
          <p:nvPr/>
        </p:nvPicPr>
        <p:blipFill>
          <a:blip r:embed="rId4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8" descr=""/>
          <p:cNvPicPr/>
          <p:nvPr/>
        </p:nvPicPr>
        <p:blipFill>
          <a:blip r:embed="rId5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9" descr=""/>
          <p:cNvPicPr/>
          <p:nvPr/>
        </p:nvPicPr>
        <p:blipFill>
          <a:blip r:embed="rId6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0" descr=""/>
          <p:cNvPicPr/>
          <p:nvPr/>
        </p:nvPicPr>
        <p:blipFill>
          <a:blip r:embed="rId7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11280" y="1052640"/>
          <a:ext cx="7921440" cy="3528720"/>
        </p:xfrm>
        <a:graphic>
          <a:graphicData uri="http://schemas.openxmlformats.org/drawingml/2006/table">
            <a:tbl>
              <a:tblPr/>
              <a:tblGrid>
                <a:gridCol w="1585800"/>
                <a:gridCol w="1582920"/>
                <a:gridCol w="158400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 с синдромом Дау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53"/>
          <p:cNvSpPr/>
          <p:nvPr/>
        </p:nvSpPr>
        <p:spPr>
          <a:xfrm>
            <a:off x="971640" y="4869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504d"/>
                </a:solidFill>
                <a:uFillTx/>
                <a:latin typeface="Arial"/>
              </a:rPr>
              <a:t>Врождённый порок сердц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- главная причина смерти детей с синдромом Да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ичины смерти взрослых пациентов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аще всего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соматические болезни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а не синдром Дауна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 стационара РФ</a:t>
            </a:r>
            <a:br>
              <a:rPr sz="2400"/>
            </a:br>
            <a:r>
              <a:rPr b="1" lang="ru-RU" sz="2400" spc="-1" strike="noStrike">
                <a:solidFill>
                  <a:srgbClr val="cc00cc"/>
                </a:solidFill>
                <a:latin typeface="Calibri"/>
              </a:rPr>
              <a:t>Синдром Да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СЕМИРНОЙ ОРГАНИЗАЦИЕЙ ЗДРАВООХРАН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ринская смер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яется как обусловленная беременностью (независимо от ее продолжительности и локализации) смерть женщины, наступившая в период беременности или в теч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ней после ее окончания от какой-либо причины, связанной 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ременностью, отягощенной ею или ее ведением, но не от несчастного случая или случайно возникшей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9"/>
          <p:cNvSpPr/>
          <p:nvPr/>
        </p:nvSpPr>
        <p:spPr>
          <a:xfrm>
            <a:off x="2340000" y="62064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КРИЕРУ ЕМИЛ 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2268360" y="278136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484360" y="1557360"/>
            <a:ext cx="345600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226836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Смерть, происшедшая во время беременности, родов и в послеродовом период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это смерть женщины во время беременности или в течение 42 дней по окончании беременности, независимо от причины смерти (акушерской или 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ушерско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МАТЕРИНСКИЕ СМЕРТИ ДОЛЖНЫ РАЗДЕЛЯТЬСЯ НА ДВЕ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1. ПРЯМЫЕ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что явились результатом акушерских осложнений состояния беременности (беременность, роды и послеродовой период) в результате вмешательств, упущений, неправильного лечения, или от цепочки событий в результате любого из вышеупомянутых обстоятель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676520"/>
          <a:ext cx="8382240" cy="468792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новка серд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4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ное кровотечение после аб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лный аборт по медицинским показани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4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2 недел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alibri"/>
              </a:rPr>
              <a:t>2. КОСВЕННЫЕ (НЕПРЯМЫЕ)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которые явились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я предшествующего заболева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заболевания, которое  возникло во время беременности, и которое не является следствием прямых акушерских причин, но которое обострилось в связи с физиологическим воздействием берем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злокачественного новообразования </a:t>
            </a: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(при наличии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2209680"/>
          <a:ext cx="8382240" cy="38862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ч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9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к малой кривизны желуд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36 нед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676520"/>
          <a:ext cx="8382240" cy="462888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оз желчного пузы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8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Желчнокаменная боле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ь, холецистэктомия 12.06.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травмы (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и наличии беременност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1828800"/>
          <a:ext cx="8382240" cy="44496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моррагический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брюш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8.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зрыв селез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3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адение на эскалаторе ме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10.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е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Особенности кодирования причин смерти пациентов с сахарным диабет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гласно правилам кодирования, при наличии сахарного диабета в большинстве случаев сахарный диабет должен указываться в качестве первоначальной причины смер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этом используют соответствующие четырехзначные рубрики, отражающими наличие осложнений со стороны разных органов и систе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0 – с ком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1 – с кетоацидоз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2 – с поражением почек (диабетическая нефропатия и т.д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3 – с поражением гл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4 – с неврологически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5 – с нарушениями периферического  кровообращ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6 – с другими уточн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7 – с множеств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8 – с неуточн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9 – без осложн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Заболевания – следствия сахарного диабета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(МКБ-10, 1995, том 2, стр.7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000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1-I22 Острый инфаркт миокaрд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4.-  Другие формы острой ишемической болезни серд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6.-  Легочная эмбол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30.-  Острый пери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33.-  Острый и подострый эндо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0.-  Острый мио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4.-  Предсердно-желудочковая [атриовентрикулярная] блокада и блокада левой ножки пучка Гис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5.-  Другие нарушения проводим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6.-   Остановка сердц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7.-  Пароксизмальная тахикард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8   Фибрилляция и трепетание предсерд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9.-  Другие нарушения сердечного рит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50.-  Сердечная недостаточнос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51.8  Другие неточно обозначенные болезни серд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60-I68 Цереброваскулярные болезни, кроме относящихся к подрубрикам I67.0-I67.5 и I67.9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162720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являются осложнением «основного заболевания», они в Форму не включаютс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Диабет-ассоциированные причины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КБ-10 содержит список состояний, которые не могут быть первоначальной причиной смерти, если у пациенты имеется сахарный диабет  (диабет-ассоциированные причин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16000" y="1341360"/>
          <a:ext cx="4317840" cy="4413240"/>
        </p:xfrm>
        <a:graphic>
          <a:graphicData uri="http://schemas.openxmlformats.org/drawingml/2006/table">
            <a:tbl>
              <a:tblPr/>
              <a:tblGrid>
                <a:gridCol w="431784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нная пр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87.2 (Ацидоз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88.8 (Другие уточненные нарушения обмена веществ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58 -. (Другие мононевропат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62.9 (Полиневропатия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64 (Другие нарушения периферической нервной систем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70.9 (Нарушение нервно-мышечного синапса неуточнен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71.8 (Другие первичные поражения мыш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90.9 (Расстройство вегетативной нервной системы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20.9 (Иридоцикл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26.9 (Катаракта неуточненнa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0.9 (Хориоретинальное воспаление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4 (Окклюзии сосудов сетчатк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0 (Фоновая ретинопатия и ретинальные сосудистые измене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2 (Другая пролиферативная ретинопат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6 (Ретинальное кровоизлияни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9 (Болезнь сетчатки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49.9 (Паралитическое косоглазие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54 (Слепота и пониженное зр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70.2 (Атеросклероз артерий конечност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435640" y="1341360"/>
          <a:ext cx="3098880" cy="44132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начальной причиной должно бы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Диабет-ассоциированные причины (продолжение)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КБ-10 содержит список состояний, которые не могут быть первоначальной причиной смерти, если у пациенты имеется сахарный диабет  (диабет-ассоциированные причин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16000" y="1341360"/>
          <a:ext cx="4317840" cy="4523040"/>
        </p:xfrm>
        <a:graphic>
          <a:graphicData uri="http://schemas.openxmlformats.org/drawingml/2006/table">
            <a:tbl>
              <a:tblPr/>
              <a:tblGrid>
                <a:gridCol w="431784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нная пр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73.9 (Болезнь периферических сосудов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99 (Другие и неуточненные нарушения системы кровообраще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30.9 (Дермат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92.1 (Некробиоз липоидный, не классифицированный в других рубрик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3.9 (Артр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79.2 (Невралгия и неврит неуточн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89.9 (Болезнь костей неуточненнa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03-N05 (Нефротический синдро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18.- (Хроническая почечная недостаточност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19 (Почечная недостаточность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26 (Сморщенная почка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28.9 (Болезни почки и мочеточника неуточн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39.0 (Инфекция мочевыводящих путей без установленной локaлизa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39.1 (Стойкая протеинурия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02 (Гангрена, не классифицированная в других рубриках) R40.2 (Кома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79.8 (Другие уточненные отклонения от нормы химического состава кров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я любых из вышеназванны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435640" y="1341360"/>
          <a:ext cx="3098880" cy="45230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начальной причиной должно бы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ангиопатия, то 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ацетонемия, азотемия и связывающие условия, то E10E14 с четвертым знаком .1 E10-E14 с четвертым знаком 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Таблица 3000 «Состав новорожденных с заболеваниями, поступивших в возрасте 0-6 дней жизни, и исходы их леч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755640" y="177336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 заболеваниях этих новорожденных показывают в таблице 2000 в соответствующих ст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Таблица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1, 03:28 = 14, 4000, 2+3+4+5+6+7+8+9+10+11+12+13+14+15+16=17+18+19+20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8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81+82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2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21П29+210+21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ции на сосудах  (строка 8) и операции на нервной системе (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е операции, которые вошли в строки 2 и 8, но не вошли в предлагаемый перечень операций,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едует расшифровать – приложить список операций и их количество. То же касается строки 20 -Прочие операци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данной  расшифровки отчет приниматься не бу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50920" y="809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996633"/>
                </a:solidFill>
                <a:uFillTx/>
                <a:latin typeface="Arial"/>
              </a:rPr>
              <a:t>закрещенных и незакрещенных графоклетках в стр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ук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овер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я о проведенных операциях по поводу злокачественных новообразований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ока  7 – 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случаев (операции на сердце), строка 9.7 – 518 случаев (геморр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опер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трансплант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 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правил проведения патолого-анатомических исследований  (Приложение к приказу МЗ РФ от 24 марта 2016 г. N 179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чет числа проведенных прижизненных патолого-анатомических исследований и связанных с ним показателей производится по числу случаев исследования на основании оформленных Протоколов. Под случаем понимается исследование биопсийного (операционного) материала, полученного от пациента в рамках одного посещения (обращения, госпитализации) по поводу одного заболевания, включающее все этапы, указанные в пункте 16 настоящих Правил, и дополнительные методы исследования, указанные в пункте 17 настоящих Правил (в случае, если данные методы назначены врачом-патологоанатом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57200" y="11354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аблица  4110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1754280"/>
          <a:ext cx="8642160" cy="4435560"/>
        </p:xfrm>
        <a:graphic>
          <a:graphicData uri="http://schemas.openxmlformats.org/drawingml/2006/table">
            <a:tbl>
              <a:tblPr/>
              <a:tblGrid>
                <a:gridCol w="3676680"/>
                <a:gridCol w="1054080"/>
                <a:gridCol w="1058760"/>
                <a:gridCol w="1058760"/>
                <a:gridCol w="1793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Форма №1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Arial"/>
              </a:rPr>
              <a:t>Таблица 4201 Трансплан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е, представленные в таблице, должно соответствовать данным, представленным в форме 63 «Сведения о донорстве органов и тканей и трансплантации в медицинских организациях» (Приказ МЗ РФ от 8 июня 2016 г. № 355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предоставить расшифровку строки 9 – трансплантация </a:t>
            </a: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рочих орг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6560" y="836280"/>
            <a:ext cx="7907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лжен проводить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2 «Сведения о числе заболеваний, зарегистрированных у пациентов, проживающих в районе обслуживания медицинской орган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3 «Сведения о беременности с абортивным исходом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0 «Сведения о медицинской организации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2 «Сведения о медицинской помощи беременным, 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9+320, 04 + 14, 2000, 319+320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, 307+308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стрый и повторный инфаркт миокар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7,04 + 14, 2000, 317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12,3000, 305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стенокард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8,04 + 2000, 318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. 306,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нестабильная стенокард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80,04 + 14, 2000, 380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, 316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субарахноидальное кровоизлия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81,04+14, 2000, 381, 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, 317, 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внутримозговое и другое внутричерепное кровоизлия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Источником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при составлении формы №14 являются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196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66/у-02 «Статистическая карта выбывшего из стационара круглосуточного пребыван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16/у-02 «Ведомость учета движения пациентов и коечного фонда стационар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01 «Журнал учета приема больных и отказов в госпитал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3, 04 + 14, 2000, 333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, 318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инфаркт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4,04 + 14, 2000, 334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12,3000, 319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инсульт не уточненный, как кровоизлияние или инфарк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5,04 + 2000, 335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. 320,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закупорка и стеноз прецеребральных артерий, не приводящие к инфаркту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113, 22 + 14, 2000, 113,2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1000, 113,04+ 12, 2000, 113,04 (пневмонии у дет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26920" y="2133360"/>
            <a:ext cx="77630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 заболеваний (острые и повторные инфаркты миокарда и острые формы цереброваскулярных болезней, пневмонии и другие заболевания, требующие лечения в стационарных условиях, в форме №12 должно быть больше или равно числу лиц, показанных в форме №1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вышение количества заболеваний в форме №14 над заболеваниями, показанными в форме №12, указывает на отсутствие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е: число заболеваний в форме №14 может быть больше, чем в форме №12, только в случае госпитализации лиц с вышеуказанными нозологическими единицами, не проживающими на территории обслуживания учреждения здравоохра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836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выполненных абор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4000, 146, 0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13,1000, 1, 04 + 13, 2000, 1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умерших после абор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4000, 146, 1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13, 3000, 1, 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числу операций, при проведении которых наблюдались осложнения в стациона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4000,146,1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13,1100,1 + 13,210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3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беременности с абортивным исход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26920" y="692280"/>
          <a:ext cx="7705800" cy="334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13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1700280"/>
          <a:ext cx="7705800" cy="2809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гр. 3 (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O07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2 нед.)+ т. 2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2 нед. до 22 нед.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«аборт» гр. 19 (умерло оперированных в стационар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000 гр.4, стр.1 (умерло от беременности с  абортивным исходо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4000 гр.11, стр.14.6 «Число операций, при которых наблюдались осложн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100 +2100 «Осложнения, вызванные або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47"/>
          <p:cNvSpPr/>
          <p:nvPr/>
        </p:nvSpPr>
        <p:spPr>
          <a:xfrm>
            <a:off x="900000" y="1052640"/>
            <a:ext cx="763272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количеству выполненных абортов, осложнений и смертей вызванных абор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выбывших всего (выписано + умерло + переведено)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000,10,04+14,2000,10,22+14,2000,210,04+14,2000,210,2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0,01+14,2000,10,08+14,2000,10,28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,3100,01,10+30,3100,78,10+30,3100,01,13+30,3100,78,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765000"/>
            <a:ext cx="8712000" cy="50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 fontScale="84000"/>
          </a:bodyPr>
          <a:p>
            <a:pPr marL="432000" indent="-432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бывших всего (выписано + умерло + переведе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11280" y="33336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3720" y="1557360"/>
          <a:ext cx="8604360" cy="4319640"/>
        </p:xfrm>
        <a:graphic>
          <a:graphicData uri="http://schemas.openxmlformats.org/drawingml/2006/table">
            <a:tbl>
              <a:tblPr/>
              <a:tblGrid>
                <a:gridCol w="4608720"/>
                <a:gridCol w="503280"/>
                <a:gridCol w="3492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выписано дете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Z00-Z99»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 21 гр. 22 (выписано детей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Z00-Z99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стр. 1 гр.1 (переведен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умерло дет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профильные  койки для новорожденных указанные по строке </a:t>
                      </a: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1.0 «Z00-Z99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 новорожденные показываются всеми учреждениями в строке «отдельные состояния, возникающие в перинатальном период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«кроме того больные новорожденные гр. 13 (умерл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чреждения, имеющие  койки для новорожденных показывают всех новорожденных, учреждения не имеющие таких коек показывают только больных новорожденных по строке  «кроме того больные новорожденны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18"/>
          <p:cNvSpPr/>
          <p:nvPr/>
        </p:nvSpPr>
        <p:spPr>
          <a:xfrm>
            <a:off x="468360" y="2133720"/>
            <a:ext cx="142920" cy="1942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2400 h 1942920"/>
              <a:gd name="textAreaBottom" fmla="*/ 1910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6"/>
                  <a:pt x="10800" y="1151"/>
                </a:cubicBezTo>
                <a:lnTo>
                  <a:pt x="10800" y="9649"/>
                </a:lnTo>
                <a:cubicBezTo>
                  <a:pt x="10800" y="10225"/>
                  <a:pt x="5400" y="10800"/>
                  <a:pt x="0" y="10800"/>
                </a:cubicBezTo>
                <a:cubicBezTo>
                  <a:pt x="5400" y="10800"/>
                  <a:pt x="10800" y="11376"/>
                  <a:pt x="10800" y="11951"/>
                </a:cubicBezTo>
                <a:lnTo>
                  <a:pt x="10800" y="20449"/>
                </a:lnTo>
                <a:cubicBezTo>
                  <a:pt x="10800" y="210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5508720" y="1944720"/>
            <a:ext cx="215640" cy="163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4920 h 1638360"/>
              <a:gd name="textAreaBottom" fmla="*/ 160344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0"/>
                  <a:pt x="10800" y="1479"/>
                </a:cubicBezTo>
                <a:lnTo>
                  <a:pt x="10800" y="9321"/>
                </a:lnTo>
                <a:cubicBezTo>
                  <a:pt x="10800" y="10061"/>
                  <a:pt x="5400" y="10800"/>
                  <a:pt x="0" y="10800"/>
                </a:cubicBezTo>
                <a:cubicBezTo>
                  <a:pt x="5400" y="10800"/>
                  <a:pt x="10800" y="11540"/>
                  <a:pt x="10800" y="12279"/>
                </a:cubicBezTo>
                <a:lnTo>
                  <a:pt x="10800" y="20121"/>
                </a:lnTo>
                <a:cubicBezTo>
                  <a:pt x="10800" y="208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по количеству выписанны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,2000,10,04+14,2000,10,22+14,2000,210,04+14,2000,210,2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,2100,01,01 =  30,3100,01,10+30,3100,78,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по количеству умерши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000,10,08+14,2000,10,28  =  30,3100,01,13+30,3100,78,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26560" y="549000"/>
            <a:ext cx="8085240" cy="36036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писан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11280" y="26028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084320"/>
          <a:ext cx="8569080" cy="3425760"/>
        </p:xfrm>
        <a:graphic>
          <a:graphicData uri="http://schemas.openxmlformats.org/drawingml/2006/table">
            <a:tbl>
              <a:tblPr/>
              <a:tblGrid>
                <a:gridCol w="4529160"/>
                <a:gridCol w="365040"/>
                <a:gridCol w="3674880"/>
              </a:tblGrid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2 (выписано дете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22 (выписано дете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1 гр.1 (переве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 профильные,  штатные койки   для новорожденных, по строке 21.0 «Z00-Z99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новорожденные показываются во всех учреждениях в строке «отдельные состояния, возникающие в перинатальном период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реждения имеющие в штате койки для новорожденных показывают всех новорожденных, учреждения не имеющие таких коек показывают только больных новорожденных по строк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кроме того больные новорожденны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AutoShape 18"/>
          <p:cNvSpPr/>
          <p:nvPr/>
        </p:nvSpPr>
        <p:spPr>
          <a:xfrm>
            <a:off x="324000" y="1563840"/>
            <a:ext cx="214200" cy="1439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5200 h 1439640"/>
              <a:gd name="textAreaBottom" fmla="*/ 14144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7"/>
                  <a:pt x="10800" y="1214"/>
                </a:cubicBezTo>
                <a:lnTo>
                  <a:pt x="10800" y="9586"/>
                </a:lnTo>
                <a:cubicBezTo>
                  <a:pt x="10800" y="10193"/>
                  <a:pt x="5400" y="10800"/>
                  <a:pt x="0" y="10800"/>
                </a:cubicBezTo>
                <a:cubicBezTo>
                  <a:pt x="5400" y="10800"/>
                  <a:pt x="10800" y="11407"/>
                  <a:pt x="10800" y="12014"/>
                </a:cubicBezTo>
                <a:lnTo>
                  <a:pt x="10800" y="20386"/>
                </a:lnTo>
                <a:cubicBezTo>
                  <a:pt x="10800" y="209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5148360" y="1603440"/>
            <a:ext cx="287280" cy="745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745920"/>
              <a:gd name="textAreaBottom" fmla="*/ 723600 h 74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9"/>
                  <a:pt x="10800" y="2078"/>
                </a:cubicBezTo>
                <a:lnTo>
                  <a:pt x="10800" y="8722"/>
                </a:lnTo>
                <a:cubicBezTo>
                  <a:pt x="10800" y="9761"/>
                  <a:pt x="5400" y="10800"/>
                  <a:pt x="0" y="10800"/>
                </a:cubicBezTo>
                <a:cubicBezTo>
                  <a:pt x="5400" y="10800"/>
                  <a:pt x="10800" y="11839"/>
                  <a:pt x="10800" y="12878"/>
                </a:cubicBezTo>
                <a:lnTo>
                  <a:pt x="10800" y="19522"/>
                </a:lnTo>
                <a:cubicBezTo>
                  <a:pt x="10800" y="20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4797360"/>
          <a:ext cx="8569080" cy="1365480"/>
        </p:xfrm>
        <a:graphic>
          <a:graphicData uri="http://schemas.openxmlformats.org/drawingml/2006/table">
            <a:tbl>
              <a:tblPr/>
              <a:tblGrid>
                <a:gridCol w="4535280"/>
                <a:gridCol w="360360"/>
                <a:gridCol w="36734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8 (умерло детей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 всего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 «кроме того больные новорожденные»  гр. 13 (умер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Прямоугольник 2"/>
          <p:cNvSpPr/>
          <p:nvPr/>
        </p:nvSpPr>
        <p:spPr>
          <a:xfrm>
            <a:off x="755640" y="4508640"/>
            <a:ext cx="8085240" cy="3682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числу умерш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вая фигурная скобка 3"/>
          <p:cNvSpPr/>
          <p:nvPr/>
        </p:nvSpPr>
        <p:spPr>
          <a:xfrm>
            <a:off x="468360" y="5445000"/>
            <a:ext cx="69840" cy="360360"/>
          </a:xfrm>
          <a:custGeom>
            <a:avLst/>
            <a:gdLst>
              <a:gd name="textAreaLeft" fmla="*/ 44640 w 69840"/>
              <a:gd name="textAreaRight" fmla="*/ 69840 w 69840"/>
              <a:gd name="textAreaTop" fmla="*/ 1800 h 360360"/>
              <a:gd name="textAreaBottom" fmla="*/ 3585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49"/>
                </a:cubicBezTo>
                <a:lnTo>
                  <a:pt x="10800" y="10451"/>
                </a:lnTo>
                <a:cubicBezTo>
                  <a:pt x="10800" y="10626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49"/>
                </a:cubicBezTo>
                <a:lnTo>
                  <a:pt x="10800" y="21251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Левая фигурная скобка 5"/>
          <p:cNvSpPr/>
          <p:nvPr/>
        </p:nvSpPr>
        <p:spPr>
          <a:xfrm>
            <a:off x="281160" y="5442120"/>
            <a:ext cx="266400" cy="579240"/>
          </a:xfrm>
          <a:custGeom>
            <a:avLst/>
            <a:gdLst>
              <a:gd name="textAreaLeft" fmla="*/ 170280 w 266400"/>
              <a:gd name="textAreaRight" fmla="*/ 266760 w 266400"/>
              <a:gd name="textAreaTop" fmla="*/ 6840 h 579240"/>
              <a:gd name="textAreaBottom" fmla="*/ 57240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4"/>
                  <a:pt x="10800" y="828"/>
                </a:cubicBezTo>
                <a:lnTo>
                  <a:pt x="10800" y="11605"/>
                </a:lnTo>
                <a:cubicBezTo>
                  <a:pt x="10800" y="12019"/>
                  <a:pt x="5400" y="12433"/>
                  <a:pt x="0" y="12433"/>
                </a:cubicBezTo>
                <a:cubicBezTo>
                  <a:pt x="5400" y="12433"/>
                  <a:pt x="10800" y="12847"/>
                  <a:pt x="10800" y="13261"/>
                </a:cubicBezTo>
                <a:lnTo>
                  <a:pt x="10800" y="20772"/>
                </a:lnTo>
                <a:cubicBezTo>
                  <a:pt x="10800" y="211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Левая фигурная скобка 6"/>
          <p:cNvSpPr/>
          <p:nvPr/>
        </p:nvSpPr>
        <p:spPr>
          <a:xfrm>
            <a:off x="971640" y="5229360"/>
            <a:ext cx="647640" cy="1152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788"/>
                </a:lnTo>
                <a:cubicBezTo>
                  <a:pt x="10800" y="10294"/>
                  <a:pt x="5400" y="10800"/>
                  <a:pt x="0" y="10800"/>
                </a:cubicBezTo>
                <a:cubicBezTo>
                  <a:pt x="5400" y="10800"/>
                  <a:pt x="10800" y="11306"/>
                  <a:pt x="10800" y="11812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Левая фигурная скобка 12"/>
          <p:cNvSpPr/>
          <p:nvPr/>
        </p:nvSpPr>
        <p:spPr>
          <a:xfrm>
            <a:off x="5148360" y="5445000"/>
            <a:ext cx="358560" cy="93996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939960"/>
              <a:gd name="textAreaBottom" fmla="*/ 93096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4"/>
                  <a:pt x="10800" y="687"/>
                </a:cubicBezTo>
                <a:lnTo>
                  <a:pt x="10800" y="9341"/>
                </a:lnTo>
                <a:cubicBezTo>
                  <a:pt x="10800" y="9685"/>
                  <a:pt x="5400" y="10028"/>
                  <a:pt x="0" y="10028"/>
                </a:cubicBezTo>
                <a:cubicBezTo>
                  <a:pt x="5400" y="10028"/>
                  <a:pt x="10800" y="10372"/>
                  <a:pt x="10800" y="10715"/>
                </a:cubicBezTo>
                <a:lnTo>
                  <a:pt x="10800" y="20913"/>
                </a:lnTo>
                <a:cubicBezTo>
                  <a:pt x="10800" y="212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количеству переведенны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,0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30,3101,1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,01 – 14,2100,1,02 = 30,3101,1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476000" y="836640"/>
            <a:ext cx="7201080" cy="43344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переведенны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611280" y="174600"/>
            <a:ext cx="8229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1773360"/>
          <a:ext cx="8209080" cy="3598920"/>
        </p:xfrm>
        <a:graphic>
          <a:graphicData uri="http://schemas.openxmlformats.org/drawingml/2006/table">
            <a:tbl>
              <a:tblPr/>
              <a:tblGrid>
                <a:gridCol w="3583080"/>
                <a:gridCol w="664920"/>
                <a:gridCol w="39610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гр.1 «переведе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ледует учитывать, что в эту графу входят больные новорожд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 3101 гр. 1 «переведено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ет учитывать, что в эту графу  не включена строка «Кроме того больные новорожденны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ожет быть больше, за счет новорожденных переведенных с профильных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НЕКОТОРЫЕ УСЛОВИЯ КОНТРОЛЯ</a:t>
            </a:r>
            <a:br>
              <a:rPr sz="28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(Таблица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ШЕМИЧЕСКИЕ БОЛЕЗНИ СЕРД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 графам 4-12, 13-21,  22-33 должна быть равна сумме строк: 10.4.1 + 10.4.2 + 10.4.3  +10.4.4 +10.4.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ЦЕРЕБРОВАСКУЛЯРНЫЕ БОЛЕ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4-7, 13-16,  22-27 должна быть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8-12,  17- 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69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патологоанатомических вскры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Всего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4,2000,10,09+14,2000,10,29 = 30,5503,11,03 – 30,5503,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Взрос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14,2000,10,09 = (30,5503,11,03 – 30,5503,111,03) – (30,5503,11,09 – 30,5503,111,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Дет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4,2000,10,29 = 30,5503,111,03 – 30,5503,1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692280"/>
          <a:ext cx="8064360" cy="334800"/>
        </p:xfrm>
        <a:graphic>
          <a:graphicData uri="http://schemas.openxmlformats.org/drawingml/2006/table">
            <a:tbl>
              <a:tblPr/>
              <a:tblGrid>
                <a:gridCol w="4219560"/>
                <a:gridCol w="528480"/>
                <a:gridCol w="3316320"/>
              </a:tblGrid>
              <a:tr h="334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14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1413000"/>
          <a:ext cx="8209080" cy="2403360"/>
        </p:xfrm>
        <a:graphic>
          <a:graphicData uri="http://schemas.openxmlformats.org/drawingml/2006/table">
            <a:tbl>
              <a:tblPr/>
              <a:tblGrid>
                <a:gridCol w="4295880"/>
                <a:gridCol w="538200"/>
                <a:gridCol w="3375000"/>
              </a:tblGrid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сего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зрослые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ет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рше трудоспосо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:  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11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37"/>
          <p:cNvSpPr/>
          <p:nvPr/>
        </p:nvSpPr>
        <p:spPr>
          <a:xfrm>
            <a:off x="826920" y="3860640"/>
            <a:ext cx="79930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9640" y="4869000"/>
          <a:ext cx="8280360" cy="1279440"/>
        </p:xfrm>
        <a:graphic>
          <a:graphicData uri="http://schemas.openxmlformats.org/drawingml/2006/table">
            <a:tbl>
              <a:tblPr/>
              <a:tblGrid>
                <a:gridCol w="4256280"/>
                <a:gridCol w="542880"/>
                <a:gridCol w="3481200"/>
              </a:tblGrid>
              <a:tr h="12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 быть больше, так как не всегда дети вскрываются (например по религиозным взглядам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 стр.4  - гр. 9, стр. 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скрыто новорожденных умерших в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ервые 0-6 суток (168 ч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50"/>
          <p:cNvSpPr/>
          <p:nvPr/>
        </p:nvSpPr>
        <p:spPr>
          <a:xfrm>
            <a:off x="971640" y="1052640"/>
            <a:ext cx="77040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пата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40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ормой 32 «Сведения о медицинской помощи беременны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переведенных новорожде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100,1,0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 2247,1,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умерших новорожденных в первые 0-6 дней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200,1,0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2250,1,06 + 32,2260,1,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должение):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55640" y="2060640"/>
          <a:ext cx="7993080" cy="2286000"/>
        </p:xfrm>
        <a:graphic>
          <a:graphicData uri="http://schemas.openxmlformats.org/drawingml/2006/table">
            <a:tbl>
              <a:tblPr/>
              <a:tblGrid>
                <a:gridCol w="3665520"/>
                <a:gridCol w="515880"/>
                <a:gridCol w="3811680"/>
              </a:tblGrid>
              <a:tr h="228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100 гр.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ереведено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247 «переведено новорожденных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учитываются только переводы в др. учреждения на  койки выхаживания недоношенных и патологии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36"/>
          <p:cNvSpPr/>
          <p:nvPr/>
        </p:nvSpPr>
        <p:spPr>
          <a:xfrm>
            <a:off x="826920" y="3716280"/>
            <a:ext cx="763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 flipV="1" rot="10800000">
            <a:off x="1042560" y="835560"/>
            <a:ext cx="74199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ичеству переводов новорож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7"/>
          <p:cNvSpPr/>
          <p:nvPr/>
        </p:nvSpPr>
        <p:spPr>
          <a:xfrm>
            <a:off x="900000" y="4869000"/>
            <a:ext cx="7848720" cy="8240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&gt;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так как в форме №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дети переводятся  в разные учреждения на разные профили коек и с разных профильных коек (не только родильных, например с детских (пат. нов.), на которые они поступают переводом с родильных коек - внутри учрежде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2"/>
          <p:cNvSpPr/>
          <p:nvPr/>
        </p:nvSpPr>
        <p:spPr>
          <a:xfrm>
            <a:off x="4427640" y="378936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55640" y="1628640"/>
          <a:ext cx="7993080" cy="432000"/>
        </p:xfrm>
        <a:graphic>
          <a:graphicData uri="http://schemas.openxmlformats.org/drawingml/2006/table">
            <a:tbl>
              <a:tblPr/>
              <a:tblGrid>
                <a:gridCol w="3672000"/>
                <a:gridCol w="504720"/>
                <a:gridCol w="3816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26920" y="907920"/>
          <a:ext cx="7777440" cy="365400"/>
        </p:xfrm>
        <a:graphic>
          <a:graphicData uri="http://schemas.openxmlformats.org/drawingml/2006/table">
            <a:tbl>
              <a:tblPr/>
              <a:tblGrid>
                <a:gridCol w="3240360"/>
                <a:gridCol w="576000"/>
                <a:gridCol w="39610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23"/>
          <p:cNvSpPr/>
          <p:nvPr/>
        </p:nvSpPr>
        <p:spPr>
          <a:xfrm>
            <a:off x="826920" y="1700280"/>
            <a:ext cx="7632720" cy="703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55640" y="2809800"/>
          <a:ext cx="7777080" cy="2395440"/>
        </p:xfrm>
        <a:graphic>
          <a:graphicData uri="http://schemas.openxmlformats.org/drawingml/2006/table">
            <a:tbl>
              <a:tblPr/>
              <a:tblGrid>
                <a:gridCol w="3240000"/>
                <a:gridCol w="576360"/>
                <a:gridCol w="3960720"/>
              </a:tblGrid>
              <a:tr h="240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 стр.1, гр. 1, (умерло  новорожденных в первые 168 часов жиз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50 стр. 1, гр.6 «умерло новор. в возрасте 0-6 дней жизни» + т. 2260 стр. 1, гр.8 «умерло новор. в возрасте 0-6 дней жизн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Rectangle 43"/>
          <p:cNvSpPr/>
          <p:nvPr/>
        </p:nvSpPr>
        <p:spPr>
          <a:xfrm>
            <a:off x="826920" y="5157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CG Times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1"/>
          <p:cNvSpPr/>
          <p:nvPr/>
        </p:nvSpPr>
        <p:spPr>
          <a:xfrm>
            <a:off x="3995640" y="4070520"/>
            <a:ext cx="486000" cy="1087200"/>
          </a:xfrm>
          <a:prstGeom prst="downArrow">
            <a:avLst>
              <a:gd name="adj1" fmla="val 50000"/>
              <a:gd name="adj2" fmla="val 613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63640" y="378936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Голубые холмы"/>
          <p:cNvPicPr/>
          <p:nvPr/>
        </p:nvPicPr>
        <p:blipFill>
          <a:blip r:embed="rId1"/>
          <a:stretch/>
        </p:blipFill>
        <p:spPr>
          <a:xfrm>
            <a:off x="1692360" y="907920"/>
            <a:ext cx="5833800" cy="269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3192480" y="507132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б.т. +7 925 -299-78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79280" y="1484280"/>
          <a:ext cx="8642520" cy="4046400"/>
        </p:xfrm>
        <a:graphic>
          <a:graphicData uri="http://schemas.openxmlformats.org/drawingml/2006/table">
            <a:tbl>
              <a:tblPr/>
              <a:tblGrid>
                <a:gridCol w="4248360"/>
                <a:gridCol w="1062000"/>
                <a:gridCol w="915840"/>
                <a:gridCol w="476280"/>
                <a:gridCol w="476280"/>
                <a:gridCol w="399960"/>
                <a:gridCol w="1063800"/>
              </a:tblGrid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болезн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Б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т хронический и неуточненный, эмфизе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0-J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ая хроническая обструктивная легочная болезн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функция я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ройства менстр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1-N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, роды и послеродов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0-O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ЕКОТОРЫЕ УСЛОВИЯ КОНТРОЛЯ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продолжение)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Таблица 2000 - ДЕ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67"/>
          <p:cNvSpPr/>
          <p:nvPr/>
        </p:nvSpPr>
        <p:spPr>
          <a:xfrm>
            <a:off x="395280" y="566028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Эти диагнозы не могут быть причиной болезни детей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псис (А40-41, строка 2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ем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50-D6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ые нарушения, вовлекающие иммунный механиз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80-D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ирение (Е66, строка 5.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01-F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6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ая ревматическая лихорад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0-I0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1) –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нические ревматические болезни сердц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5-I0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2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ипп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9-J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2 )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0-J0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ые поражения соединительной ткани (М30-М35, строка 1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беркулез органов дыхания (А15-А16, строка 2.2) – для детей 0 - 1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Пользователь Windows</cp:lastModifiedBy>
  <dcterms:modified xsi:type="dcterms:W3CDTF">2017-12-12T09:59:08Z</dcterms:modified>
  <cp:revision>31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