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57BC-3FF2-4214-AD03-449A86A8CD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3BE6-7D5F-480F-8088-DD9D49070F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852720" y="9375840"/>
            <a:ext cx="294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4AFA236-4174-408C-8FCC-B6A64CFB5D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05040" y="774720"/>
            <a:ext cx="4995720" cy="37479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07920" y="4743360"/>
            <a:ext cx="498168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C254-597D-4FE0-822A-7734E14B67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A287-66DB-41CF-A34D-43AB90A065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902B-6403-4627-9049-1BE51312A3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A934-410C-4CFC-8B49-57318D3D0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2311-8347-42B0-97E2-4C396BA8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65A6-E8B9-4C86-B05B-5631D1104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271F-AF6D-4E49-BFD9-0193D13B2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CAB1-6C62-402F-BF25-7FD81F88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A035-4C8D-4F04-A851-53BD5DE6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56AB-1E70-4FCE-8A80-5BB54E93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CC24-3651-4DCF-A548-5046EF38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F9AB-BFC9-4554-9B47-D775D861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BCCE-C800-4C93-BCA5-B6B8C421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C593-F62B-48D7-BF86-BB7588F7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B52B-88DF-49CC-A7FD-3EA7209F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9AD3-5455-4C29-A674-E651869F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84E1-874D-4F49-B9C1-3BEFEEC8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B178-EB80-445D-9E1E-3FE23168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0410-65A7-499E-8026-A2783F6F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8782-4FF9-40CB-9EA3-1F11AE944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667F-7CD9-447D-AB3C-5624D428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9009-4D51-4C6D-8853-E42CB176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3C6B-BAA4-4E1D-93AD-BB5F37C9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F037-89DA-4513-B724-38E15DFA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459D-3E94-45A7-AD96-F056D515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E2E0-61EA-4D94-9A74-A2B2D8E7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6FF3-38F7-40FE-BC01-C630F19C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E522-3DCA-4F1B-B285-D156DD2794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25CB-1662-4B0A-955E-2AC9AC3E8F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600" y="500040"/>
            <a:ext cx="830412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сведений о работе скорой медицинской помощи в форме федерального статистического наблюдения № 30 «Сведения о медицинской организации» за 2017 год.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57120" y="1143000"/>
            <a:ext cx="83296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бригадами скорой медицинской помощи при выездах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 «Число лиц, которым оказана медицинская помощь при выездах по возрастам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бригад скорой медицинской помощи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1 «Из числа лиц, которым оказана помощь общепрофильными фельдшерскими бригадами – медицинская эвакуация, из них сельских жителей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57120" y="1214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 «Число лиц, которым оказана скорая медицинская помощь в амбулаторных условиях, из них сельских жителей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ездов бригад скорой медицинской помощи по времени доезда и затраченному на один выезд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57120" y="1214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 «Число станций (отделений) скорой медицинской помощи, оснащенных автоматизированной системой управления приема и обработки вызовов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5345280"/>
            <a:ext cx="80154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3 показывается число станций (отделений) скорой медицинской помощи по числу выездов в год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11280" y="1628640"/>
          <a:ext cx="7561080" cy="3786480"/>
        </p:xfrm>
        <a:graphic>
          <a:graphicData uri="http://schemas.openxmlformats.org/drawingml/2006/table">
            <a:tbl>
              <a:tblPr/>
              <a:tblGrid>
                <a:gridCol w="4054320"/>
                <a:gridCol w="1389240"/>
                <a:gridCol w="211752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– 1, нет - 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ездов в год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0 тысяч (внекатегорийна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5 до 100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 до 75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5 до 50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25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тысяч 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 тысяч 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Заголовок 1"/>
          <p:cNvSpPr/>
          <p:nvPr/>
        </p:nvSpPr>
        <p:spPr>
          <a:xfrm>
            <a:off x="755640" y="476280"/>
            <a:ext cx="7993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. Категорийность станции (отделения) скорой медицинской помощ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. Категорийность станции (отделения) скорой медицинской помощ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1060 заполняют станции скорой медицинской помощи и медицинские организации, имеющие в своем составе отделения скорой медицинской помощи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 (межформенный контроль)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30 табл. 1060 стр.1 гр.3 + стр. 2 гр. 3 + стр.3 гр. 3 + стр. 4 гр. 3 + стр. 5 гр. 3 + стр. 6 гр. 3 + стр. 7 гр. 3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форма 47 табл.0400 стр.1 гр. 3 + стр.1 гр.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. Должности и физические лица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8360" y="1500120"/>
          <a:ext cx="8462880" cy="4773600"/>
        </p:xfrm>
        <a:graphic>
          <a:graphicData uri="http://schemas.openxmlformats.org/drawingml/2006/table">
            <a:tbl>
              <a:tblPr/>
              <a:tblGrid>
                <a:gridCol w="1603440"/>
                <a:gridCol w="857160"/>
                <a:gridCol w="1000080"/>
                <a:gridCol w="1251000"/>
                <a:gridCol w="1249200"/>
                <a:gridCol w="1251000"/>
                <a:gridCol w="1251000"/>
              </a:tblGrid>
              <a:tr h="315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етно-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. Должности и физические лица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1214280"/>
            <a:ext cx="83581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сведения о штатных, занятых должностях, физических лицах всего персонала станции (отделения) скорой медицинской помощи, из них врачей, среднего медицинского персонала, младшего медицинского персонала, прочего персонала. Прочий персонал станции (отделения) скорой медицинской помощи – это водители и прочий персона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чий персонал включают фармацевтов, провизоров, специалистов с немедицинским образование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штатных и занятых должностях персонала станции (отделения) скорой медицинской помощи показываются как дробными числами (0,25, 0,5 и 0,75), так и целыми числам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. Должности и физические лица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28760" y="150012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. = 30.1105.1.04. + 30.1105.1.05 + 30.1105.1.06 + 30.1105.1.07. Число штатных должносте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. = 30.1105.2.04. + 30.1105.2.05 + 30.1105.2.06 + 30.1105.2.07. Число занятых должносте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. = 30.1105.3.04. + 30.1105.3.05 + 30.1105.3.06 + 30.1105.3.07. Число физических лиц основных работников на занятых должностях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. Медицинская помощь, оказанная бригадами скорой медицинской помощи при выезда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14200" y="1214280"/>
          <a:ext cx="8642520" cy="5526360"/>
        </p:xfrm>
        <a:graphic>
          <a:graphicData uri="http://schemas.openxmlformats.org/drawingml/2006/table">
            <a:tbl>
              <a:tblPr/>
              <a:tblGrid>
                <a:gridCol w="2160720"/>
                <a:gridCol w="506520"/>
                <a:gridCol w="663480"/>
                <a:gridCol w="885960"/>
                <a:gridCol w="819000"/>
                <a:gridCol w="714240"/>
                <a:gridCol w="500040"/>
                <a:gridCol w="714600"/>
                <a:gridCol w="857160"/>
                <a:gridCol w="820800"/>
              </a:tblGrid>
              <a:tr h="227160"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итали-зированн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скорой медицинской помощи по поводу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эваку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запных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остоя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 и патологии беремен-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оль-нич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ых, рожениц и родильн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108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выезд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детям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медицинская помощь при выезда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ельских населенных  пунктах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умерших в автомобиле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 в возрасте 55 лет и старше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 в возрасте 60 лет и старше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 Министерства здравоохранения Российской Федерации № 388н  от 20 июня 2013 г. (приложение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920" y="1601280"/>
            <a:ext cx="850104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ыездными бригадами скорой медицинской помощ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существляться с места происшествия или места нахождения пациента (вне медицинской организации), а также из медицинской организации, в которой отсутствует возможность оказания необходимой медицинской помощи при угрожающих жизни состояниях, женщин в период беременности, родов, послеродовой период и новорожденных, лиц, пострадавших в результате чрезвычайных ситуаций и стихийных бедстви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00040" y="642960"/>
            <a:ext cx="82868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Федеральной службы государственной статистики (Росстата) № 866 от 27 декабря 2016  г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статистического инструментария для организации Министерством здравоохранения Российской Федерации федерального статистического наблюдения в сфере охраны здоровья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. Медицинская помощь, оказанная бригадами скорой медицинской помощи при выезд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28760" y="1999800"/>
            <a:ext cx="822960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с 5 по 9 графы 10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7, 8, 9 графы 6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выполненных выездов бригадами скорой медицинской помощи (стр. 1 гр. 3) не включаются безрезультатные выезд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. Медицинская помощь, оказанная бригадами скорой медицинской помощи при выездах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28760" y="214308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ездов к детям (форма 30 табл. 2120 стр. 2 гр. 3) не должно быть больше числа детей, которым оказана медицинская помощь при выездах (форма 30 табл. 2121     стр. 1 гр. 3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. Медицинская помощь, оказанная бригадами скорой медицинской помощи при выездах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214308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ездов по поводу госпитализации (форма 30 табл. 2120 стр. 1 гр. 10) не должно быть больше числа госпитализированных лиц (форма 30 табл. 2120 стр. 3 гр. 10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. Медицинская помощь, оказанная бригадами скорой медицинской помощи при выездах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28760" y="214308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ездов в связи с медицинской эвакуации (форма 30 табл. 2120 стр. 1 гр. 7) = форма 47 табл. 0400 стр. 1 гр. 8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. Медицинская помощь, оказанная бригадами скорой медицинской помощи при выездах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28400" y="2143080"/>
            <a:ext cx="835812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госпитализированных лиц бригадами скорой медицинской помощи (форма 30 табл. 2120 стр. 3 гр. 10) = форма 47 табл. 0400 стр. 1 гр. 10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при выездах, всего  1 _________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сельских жителей  2 ____________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 1)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 (0-17 лет) 3 __________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(18 лет и старше) 4 ______________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(из стр. 4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(55 лет и старше)  5 ______________, мужчины (60 лет и старше)  6 ________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95280" y="1341360"/>
            <a:ext cx="8424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при выездах всего (форма 30 табл. 2121 стр. 1 гр. 1) =  форма 30 табл. 2121 стр. 1 гр. 3 + форма 30 табл. 2121 стр. 1 гр. 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при выездах, всего (форма 30 табл. 2121 стр. 1 гр. 1) =  форма 30 табл. 2120 стр. 3 гр. 3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. Сведения о деятельности бригад скорой медицинской помощ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79280" y="1413000"/>
          <a:ext cx="8715600" cy="5256000"/>
        </p:xfrm>
        <a:graphic>
          <a:graphicData uri="http://schemas.openxmlformats.org/drawingml/2006/table">
            <a:tbl>
              <a:tblPr/>
              <a:tblGrid>
                <a:gridCol w="4429080"/>
                <a:gridCol w="509760"/>
                <a:gridCol w="1017720"/>
                <a:gridCol w="1306440"/>
                <a:gridCol w="1452600"/>
              </a:tblGrid>
              <a:tr h="91440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и профиль брига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ен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лосуточ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помощь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а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профиль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врачеб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3640" rIns="5364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для оказания медицинско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 детскому населени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35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экстренные консультативные бригады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кардиолог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медицин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. Сведения о деятельности бригад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а скорой медицинской помощ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труктурно-функциональная единица станции (подстанции, отделения) скорой медицинской помощи, организованная в соответствии со штатными нормативами для обеспечения работы в одну смену (6 часо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 (графа 3) заполняется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. Сведения о деятельности бригад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4 «из них число выездных круглосуточных бригад скорой медицинской помощи» заполняются данные только о бригадах скорой медицинской помощи, работающих 24 часа в сутки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1000080" y="357120"/>
            <a:ext cx="778680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№ 388н от 20 июня 2013  г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орядка оказания скорой, в том числе скорой специализированной, медицинской помощи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акции приказа Министерства здравоохранения Российской Федерации № 33н от 22 января 2016 г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85840" y="235728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илю подразделяю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00040" y="19285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 скорой медицинской помощи подразделяются на бригад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стезиологии-реанимации, в том числе 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ые консультатив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0920" y="285480"/>
            <a:ext cx="82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3640" y="1500120"/>
            <a:ext cx="833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врачебная выездная бригада скорой медицинской помощ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 скорой медицинской помощи, фельдшера скорой медицинской помощи и водителя, либо врача скорой медицинской помощи, медицинскую сестру (медицинского брата) и водителя, либо врача скорой медицинской помощи, фельдшера скорой медицинской помощи, фельдшера скорой медицинской помощи или медицинскую сестру (медицинского брата) и водителя. Для организации деятельности общепрофильной врачебной выездной бригады скорой медицинской помощи используется автомобиль скорой медицинской помощи класса «B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фельдшерская выездная бригада скорой медицинской помощи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двух фельдшеров скорой медицинской помощи и водителя, либо фельдшера скорой медицинской помощи, медицинскую сестру (медицинского брата) и водителя. Для организации деятельности общепрофильной фельдшерской выездной бригады скорой медицинской помощи используется автомобиль скорой медицинской помощи класса «A» или «B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920" y="150012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выездная бригада скорой медицинской помощи анестезиологии-реанимации, в том числе педиатрическ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ет врача-анестезиолога-реаниматолога и двух медицинских сестер-анестезистов и водителя. Для организации деятельности специализированной выездной бригады скорой медицинской помощи анестезиологии-реанимации, в том числе педиатрической, используется автомобиль скорой медицинской помощи класса «C» соответствующего оснащ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571400"/>
            <a:ext cx="840744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едиатрическая выездная бригада скорой медицинской помощи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-педиатра, фельдшера скорой медицинской помощи и водителя, либо врача-педиатра, медицинскую сестру (медицинского брата) и водителя. Для организации деятельности специализированной педиатрической выездной бригады скорой медицинской помощи используется автомобиль скорой медицинской помощи класса «B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4200" y="16426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сихиатрическая выездная бригада скорой медицинской помощ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врача-психиатра, фельдшера скорой медицинской помощи, санитара и водителя, либо врача-психиатра, медицинскую сестру (медицинского брата), санитара и водителя. Для организации деятельности специализированной психиатрической выездной бригады скорой медицинской помощи используется автомобиль скорой медицинской помощи класса «B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78920" y="1571400"/>
            <a:ext cx="847908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ая экстренная консультативная бригада скорой медицинской помощ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рача-специалиста отделения экстренной консультативной скорой медицинской помощи медицинской организации, фельдшера скорой медицинской помощи или медицинскую сестру (медицинского брата) и водителя. Для организации деятельности выездной экстренной консультативной бригады скорой медицинской помощи используется автомобиль скорой медицинской помощи класса «C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78920" y="1571400"/>
            <a:ext cx="847908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ая выездная бригада скорой медицинской помощ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не менее одного врача скорой медицинской помощи или врача анестезиолога-реаниматолога, фельдшера скорой медицинской помощи и (или) медицинскую сестру-анестезиста. Для обеспечения оказания медицинской помощи пациенту во время медицинской эвакуации при необходимости в состав авиамедицинской бригады могут включаться иные врачи-специалис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. Сведения о деятельности бригад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скорой медицинской помощи (форма 30 табл. 2200 стр. 1 гр. 5 + стр. 2 гр. 5 + стр. 3 гр. 5 +   стр. 4 гр. 5) =  форма 30 табл. 2120 стр. 3 гр. 3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4297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, в том числе скорая специализированная, медицинская 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42960" y="1557360"/>
            <a:ext cx="7889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при заболеваниях, несчастных случаях, травмах, отравлениях и других состояниях, требующих срочного медицинского вмешательства вне медицинской организации, в амбулаторных и стационарных условиях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 медицинская помощь осуществляется на основе стандартов медицинской помощи и с учетом клинических рекомендаций (протоколов лечения)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. Сведения о деятельности бригад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28760" y="185724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 бригады скорой медицинской помощ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3. = 30.2200.1.1.03. + 30.2200.1.2.03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4. = 30.2200.1.1.04. + 30.2200.1.2.0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. = 30.2200.1.1.05. + 30.2200.1.2.05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. Сведения о деятельности бригад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1500120"/>
            <a:ext cx="83012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бригады скорой медицинской помощ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3. = 30.2200.2.1.03. + 30.2200.2.2.03. + 30.2200.2.3.03. + 30.2200.2.4.03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4. = 30.2200.2.1.04. + 30.2200.2.2.04. + 30.2200.2.3.04. + 30.2200.2.4.04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5. = 30.2200.2.1.05. + 30.2200.2.2.05. + 30.2200.2.3.05. + 30.2200.2.4.05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. Сведения о деятельности бригад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56760" y="1500120"/>
            <a:ext cx="83012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экстренные консультативные бригады скорой медицинской помощ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3.03. = 30.2200.3.1.03. + 30.2200.3.2.03. + 30.2200.3.3.03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3.04. = 30.2200.3.1.04. + 30.2200.3.2.04. + 30.2200.3.3.04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3.05. = 30.2200.3.1.05. + 30.2200.3.2.05. + 30.2200.3.3.05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28760" y="42840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лиц, которым оказана помощь общепрофильными фельдшерскими бригадами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медицинская эвакуация пациентов 1 ______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сельских жителей  2 ____________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в амбулаторных условиях 1 ___________, из них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их жителей  2 ____________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сведения о числе лиц, которым оказана амбулаторная медицинская помощь при непосредственном их обращении на станцию (отделение) скорой медицинской помощи. Сведения заполняются на основании данных, содержащихся в Журнале регистрации амбулаторных пациентов (учетная форма № 074/у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28800" y="35676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амбулаторно и при выездах (форма 47 табл. 0400 стр.1 гр. 9) = форма 30 табл. 2120 стр. 3 гр. 3 + табл. 2202 стр.1 гр.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. Число выездов бригад скорой медицинской помощи по времени доезда и затраченному на один выезд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71680" y="1714680"/>
          <a:ext cx="8143560" cy="4511520"/>
        </p:xfrm>
        <a:graphic>
          <a:graphicData uri="http://schemas.openxmlformats.org/drawingml/2006/table">
            <a:tbl>
              <a:tblPr/>
              <a:tblGrid>
                <a:gridCol w="1761840"/>
                <a:gridCol w="757440"/>
                <a:gridCol w="1266840"/>
                <a:gridCol w="1546200"/>
                <a:gridCol w="1404720"/>
                <a:gridCol w="1406520"/>
              </a:tblGrid>
              <a:tr h="5587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ездов бригад скорой медицинской помощи по времен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ез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ченному на один выез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 выз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ыз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рожно-транспортное происшеств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21 до 4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41 до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олее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7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доезда до места вызов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это время от момента поступления вызова на станцию (отделение) скорой медицинской помощи до момента прибытия бригады скорой медицинской помощи к месту выз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, затраченное на один выезд на вызо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ремя от момента поступления вызова на станцию (отделение) скорой медицинской помощи до момента окончания выполнения вызова бригадой скорой медицинской помощ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. Число выездов бригад скорой медицинской помощи по времени доезда и затраченному на один выезд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28760" y="17146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ов бригад скорой медицинской помощи по времени доезда (табл. 2300 сумма строк гр. 3 и гр. 4) = число выездов бригад скорой медицинской помощи, затраченному на один выезд (табл. 2300 сумма строк    гр. 5 и гр.6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ов бригад скорой медицинской помощи по времени доезда (табл. 2300 сумма строк по гр. 3 и гр. 4) = число выполненных выездов (табл.2120 стр. 1 гр. 3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ов бригад скорой медицинской помощи, затраченному на один выезд (табл. 2300 сумма строк гр. 5 и гр.6) = число выполненных выездов (табл.2120 стр. 1 гр. 3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14200" y="571680"/>
          <a:ext cx="8643960" cy="5921280"/>
        </p:xfrm>
        <a:graphic>
          <a:graphicData uri="http://schemas.openxmlformats.org/drawingml/2006/table">
            <a:tbl>
              <a:tblPr/>
              <a:tblGrid>
                <a:gridCol w="6000840"/>
                <a:gridCol w="785880"/>
                <a:gridCol w="785880"/>
                <a:gridCol w="1071360"/>
              </a:tblGrid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 и повторным инфарктом миокард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21-I2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:   проведено тромболизи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рть наступила 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е скор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ы в региональные сосудистые 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первичные сосудистые отд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и цереброваскулярными болезнями 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-I6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   смерть наступила в автомобиле скорой  медицинск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ы в региональные сосудистые 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первичные сосудистые отд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езрезультатных выездов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азано за необоснованностью выз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ередано в другие медицинские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ездов бригад скорой медицинской помощи к пациентам, пострадавших в ДТП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острадавших в ДТП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6):  со смертельным исходом до приезд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втомобиле 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ы в травмоцентры 1 и 2 уров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ездов по медицинскому обеспечению спортивных и других массовых мероприятий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 медицинской организ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85880" y="1752480"/>
            <a:ext cx="781848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9036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медицинскими работниками выездных бригад скорой медицинской помощи по месту вызова бригады, а также в транспортном средстве при медицинской эвакуац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82520" indent="-90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680" y="1500120"/>
            <a:ext cx="8262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результатные выезд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лучаи, когд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а не оказалось на мест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ов был ложным (по данному адресу скорую медицинскую помощь не вызывали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йден адрес, указанный при вызов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оказался практически здоровым и не нуждался в помощ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умер до приезда бригады скорой медицинской помощ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увезён до прибытия бригады скорой медицинской помощ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обслужен врачом поликлиники до прибытия бригады скорой медицинской помощ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отказался от помощи (осмотра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ов отменё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500"/>
                            </p:stCondLst>
                            <p:childTnLst>
                              <p:par>
                                <p:cTn id="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500"/>
                            </p:stCondLst>
                            <p:childTnLst>
                              <p:par>
                                <p:cTn id="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23440" y="2071800"/>
            <a:ext cx="826308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ано за необоснованностью вызов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переадресация непрофильных вызовов в другую медицинскую организац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6760" y="1500120"/>
            <a:ext cx="8301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ереданных в другие медицинские организации необоснованные вызова (строка 4.1. графа 3 и 4) следует расшифровать и предоставить в пояснительной записк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7120" y="150012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ов бригад скорой медицинской помощи к пациентам, пострадавшим в дорожно-транспортных происшествиях, ед. (строка 5 графа 3)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5.03. = 30.2300.1.04. + 30.2300.2.04. + 30.2300.3.04. + 30.2300.4.04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00.5.03. = 30.2300.1.06. + 30.2300.2.06. + 30.2300.3.06. + 30.2300.4.06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28760" y="1552680"/>
          <a:ext cx="7858080" cy="4540320"/>
        </p:xfrm>
        <a:graphic>
          <a:graphicData uri="http://schemas.openxmlformats.org/drawingml/2006/table">
            <a:tbl>
              <a:tblPr/>
              <a:tblGrid>
                <a:gridCol w="2857320"/>
                <a:gridCol w="785880"/>
                <a:gridCol w="1020600"/>
                <a:gridCol w="1065240"/>
                <a:gridCol w="1065240"/>
                <a:gridCol w="1063800"/>
              </a:tblGrid>
              <a:tr h="530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3 до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втомобилей скорой медицинской помощи –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marL="187200" indent="809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С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68760" rIns="68760" tIns="0" bIns="0" anchor="t">
                      <a:noAutofit/>
                    </a:bodyPr>
                    <a:p>
                      <a:pPr marL="893880" indent="-62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ля новорожденных    и детей раннего возрас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повышенн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им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85880" y="260280"/>
            <a:ext cx="79437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341000"/>
            <a:ext cx="8301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класса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.04. + 30.5450.1.05. + 30.5450.1.0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1.03. = 30.5450.1.1.04. + 30.5450.1.1.05. + 30.5450.1.1.06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2.03. = 30.5450.1.2.04. + 30.5450.1.2.05. + 30.5450.1.2.0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С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3.03. = 30.5450.1.3.04. + 30.5450.1.3.05. + 30.5450.1.3.06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С для новорожденных и детей раннего возрас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3.1.03. = 30.5450.1.3.1.04.+30.5450.1.3.1.05.+ 30.5450.1.3.1.06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повышенной проходимос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4.03. = 30.5450.1.4.04. + 30.5450.1.4.05. + 30.5450.1.4.06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85880" y="260280"/>
            <a:ext cx="79437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23640" y="1341000"/>
            <a:ext cx="833436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срокам эксплуатац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.1.03. + 30.5450.1.2.03. + 30.5450.1.3.03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до 3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4. = 30.5450.1.1.04. + 30.5450.1.2.04. + 30.5450.1.3.04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от 3 до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5. = 30.5450.1.1.05. + 30.5450.1.2.05. + 30.5450.1.3.05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свыше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6. = 30.5450.1.1.06. + 30.5450.1.2.06. + 30.5450.1.3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начительном изменении в числе автомобилей скорой медицинской помощи в 2017 г. по сравнению с 2016 г. следует предоставить поясн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неклассифицированных автомобилей скорой медицинской помощи следует предоставить пояснение по их распределению по сроку эксплуат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            № 752 от 1 декабря 2005 г.                 «Об оснащении санитарного автотранспорта» регламентировал разделение автомобилей скорой медицинской помощи по классам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автомобили для транспортировки или санитарные автомобили оснащены аппаратом искусственной вентиляции легких, кислородным ингалятором, тележкой-каталкой со съемными кресельными носилками, приемным устройством для безопасной погрузки-выгрузки пациента, комплектом шин транспортных складных, фельдшерским наборо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499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14240" y="1773360"/>
            <a:ext cx="7948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скорая, в том числе скорая специализированная, медицинская помощь пациентам, которым не требуется круглосуточного медицинского наблюдения и леч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28400" y="1857240"/>
            <a:ext cx="83199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экстренной медицинской помощи или автомобили скорой медицинской помощи, предназначенные для проведения лечебных мероприятий скорой медицинской помощи силами общепрофильной врачебной (фельдшерской) бригады, транспортировки и мониторинга состояния пациентов на догоспитальном эта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С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реанимобили или автомобили скорой медицинской помощи, предназначенные для проведения лечебных мероприятий скорой медицинской помощи силами реанимационной или специализированной бригады, транспортировки и мониторинга состояния пациентов на догоспитальном этап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2876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 повышенной проходимост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ездеходы, санитарные автомобили на базе «КАМАЗа» и другие» (из строки 1) - транспортное средство на базе дорожного автомобиля, повышение проходимости которого обеспечено: приводом  на все колеса, постановкой дополнительной раздаточной коробки, использованием шин с регулируемым давлением воздуха,  установкой блокируемых дифференциалов или дифференциалов  повышенного трения, лебедки и других приспособлений для преодоления препятствий или на базе транспортного средства специального назначения на гусеницах, шнеках, колесах низкого давл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автомобилей скорой медицинской помощи, находящихся на аутсорсинге, следует предоставить пояснение по их числ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28760" y="42840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, оснащенных автоматизированной системой управления приема и обработки вызовов   1____________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даче отчетов следует указать название программы автоматизированной системы управления приема и обработки вызовов скорой медицинской помощи, установленной на станциях (отделениях) скорой медицинской помощ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1028"/>
          <p:cNvSpPr txBox="1"/>
          <p:nvPr/>
        </p:nvSpPr>
        <p:spPr>
          <a:xfrm rot="65400">
            <a:off x="1066680" y="1752480"/>
            <a:ext cx="7620120" cy="41148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Благодарю за внимание !</a:t>
            </a:r>
            <a:endParaRPr b="1" lang="en-US" sz="7200" spc="1" strike="noStrike">
              <a:ln w="0">
                <a:noFill/>
              </a:ln>
              <a:solidFill>
                <a:srgbClr val="ff3300">
                  <a:alpha val="50000"/>
                </a:srgbClr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l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ая отделением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499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14240" y="1773360"/>
            <a:ext cx="7948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, в том числе скорая специализированная, медицинская помощь осуществляется медицинскими работниками стационарного отделения скорой медицинской помощи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56800" y="213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28400" y="1142640"/>
            <a:ext cx="8235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ступлении пациента в медицинскую организацию для оказания скорой медицинской помощи в стационарных условиях в стационарном отделении скорой медицинской помощи осуществляется уточнение диагноза, диагностика, динамическое наблюдение и проведение лечебно-диагностических мероприятий на койках скорой медицинской помощи суточного пребывания и, при наличии медицинских показаний, краткосрочное лечение длительностью не более 3 суток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 в форме федерального статистического наблюдения № 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5280" y="171432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Штаты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Персонал станций (отделений) скорой медицинской помощ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25:46Z</dcterms:created>
  <dc:creator>s.shlyafer</dc:creator>
  <dc:description/>
  <dc:language>en-US</dc:language>
  <cp:lastModifiedBy>Vaio</cp:lastModifiedBy>
  <dcterms:modified xsi:type="dcterms:W3CDTF">2017-12-11T22:01:43Z</dcterms:modified>
  <cp:revision>244</cp:revision>
  <dc:subject/>
  <dc:title>Заполнение сведений о работе службы скорой медицинской помощи в форме федерального статистического наблюдения № 30 «Сведения о медицинской организации» в 2014 г.    Шляфер София Исааковна</dc:title>
</cp:coreProperties>
</file>