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ftr" idx="4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 type="sldNum" idx="4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941AC-D5CC-4437-B7F0-571A3377B0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40D54-FDEF-4D7A-8AF8-845765837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48D24-B9D6-43C6-B16A-42E039CA9C8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FDD79-A9E2-4AEF-BC0F-14A94336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51559-C5F8-4736-8220-54687CBD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1DD6A3-D7FA-406D-ABE3-F126B3EB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FE575B-3DD8-4D15-B325-FE87EA03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94B09F-0930-470F-9EA2-A8A26CEF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03DC6-B2B9-4BDF-9295-513C04B1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0EAB3-A543-4B6F-A3E0-C635DAC0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7DAE6-D1D9-4CA7-8CEB-71CC4370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C52EBB-C570-4AC7-B188-6B200D36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D956B2-7163-4BEF-A600-30606CE4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A2B07-5E42-4386-AD6D-13C0EB716BE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F7FD20-18C3-4F2E-9EF6-9D51922F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600B5-A04F-449B-AEA3-FE9FBC42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7D9D70-26C8-4E03-969C-1755B82D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D0A57A-F9FA-47B2-88DF-EEF35880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0AD2C7-24C2-447D-B33A-3215C116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E0D396-C485-4C1B-A873-F4516E0B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5C8388-743B-4679-8028-0D25A3FE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DDBF5C-B2CC-47C5-9A45-AF9A3E5F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6B3F84-B0C0-4149-A48F-73142B79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ABEFB5-64C2-4D33-97C7-3DC85D0B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0324C-58FF-4A8F-BD43-7B3695A1C56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723AA4-C2EE-4A7A-9EC6-5D2E2E32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3A24C0-1944-46E6-9012-CBE4230E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9A73A4-CCB9-46D7-8E0B-A4EA61F0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633412-5348-479E-A1E8-5A2B2E95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E4AA65-3064-405F-8826-D969706E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66303B-98C0-4F52-A38C-CAB33399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89EFC7-4F19-40B3-B512-BC5E88B7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1926E1-F561-4546-8DDC-031C687B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5962A8-EC7C-4AB7-9292-57ECAEB6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085154-61E8-435B-A7A9-B0C890DB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83AEE-8E27-4FA0-A21F-3943E358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A4E322-F675-4F9A-A9B9-1E860FE7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413576-C55C-4201-A948-7F9709B3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25A352-983E-478B-B21F-F3D464E0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15C74B-2A8E-45B6-AD95-43D36DB1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91C9F2-22BC-40A8-930D-989B451D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908AA-2F15-425A-994F-2BD0B8E7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C88D5-0366-4DFD-ADE2-A42C79D4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F0686D-98AD-4DAA-9805-0C345DFB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98C5AE-99B0-4439-AA38-FA5070DB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6C6073-342E-4F5D-BEBF-D68009C8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E863B-D57F-48A8-83E5-B298C9A3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B8667-157F-48BD-87BC-6391CCC9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235233-5F11-48E2-90F8-C9F47B4A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10970D-8AC8-42F0-A652-8EFFC728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5CC8A-00E5-41FC-890F-F83166F3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712EAC-5A33-421F-877A-870492BC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9DB086-7695-4F3F-B0A3-47347445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34E2D9-93B3-4CEB-8646-B846EDF5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3EE3A43-BBDA-4353-9A5A-C3C8483D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597DBF-62DC-4326-996B-8A698ACE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049151-0D2D-49B0-8B6E-B7B7B6D0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BDD15-18F6-47A7-A10E-E7A77614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BCC30F-C3F1-4468-ABE8-6B41C151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5A2BE0-2176-47BE-A55A-F24769AC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2FC3BCD-C4EA-4B3E-9B25-F9450E62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702823-1201-42CF-99CC-AE48255D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8C4F7CA-F544-45F3-B166-2010B016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502AA2-6FE6-4CA8-A4FE-6F0C946D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73BA5D-B530-4784-918A-71AF83A2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BA4C58-2914-4780-8CB6-E4751FB5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16C07A6-3627-418E-8507-7FE025EB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C2915D5-9618-421B-A7A6-B7393E1B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16B49-FC1A-4042-AD25-12C4E1D1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B5D753B-5695-4802-97D1-3F1A24AB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F28A9B0-3D76-4CA8-B527-C74B8CA9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121D15-FCD9-4841-AA88-335D4752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4CC928E-D28A-4AB6-99B2-7300AFCC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A884EB5-9DC5-4564-9652-27F0270C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090B7CC-77FA-4DF5-9D5F-524E4562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54BDB09-8A2C-4ADD-AE1F-67A21AEC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D33A8F-1297-4D26-9B75-A829ABB6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122DB2-4FB4-4964-95D0-8DBAEE8B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A3075C1-A61F-4EF0-B422-3D3336AF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33B7D-AD0A-40DF-AE31-B0058203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E59949B-0275-4DE4-9FF7-F49DD891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BF744C6-7B97-4992-B1E4-A1B395E0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5D183DD-8E13-468F-87D8-489A6A8A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FE5112C-766D-4152-B241-C99696BD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A3D2617-562B-4FDA-87B8-4C99F41F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A2D29B5-1E84-4549-A1A8-A5132F4F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E3D2517-647B-4B44-B90F-04DD5C72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F1D2C81-9C6D-4BAB-A624-9542E492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02DDE32-8DE7-4E0E-9B48-5F38F65B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7DD452F-528D-4745-9C3D-5D3D62FE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A178D-3EE0-40E0-8D13-9825CD44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DD984CF-E9D9-4EA9-9FBC-A223870F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2028F-EA13-4AFC-B8DB-AF8D9C58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33A61-35D4-423D-9E54-14C6B48C8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7A790-A6C4-4898-B49A-4CA5CAD1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2E29F-09FB-43E3-B06D-E6E05582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8A6CC-1AB2-4F28-BE0C-0F207CCB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F16B1-D271-4753-A739-9D883DB8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82294-8746-4018-B050-793F3A96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7A81-E9E8-4B45-A406-BF35FE2A03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44C2-F53C-4E72-BC86-BA2F83B7E4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31FC-272A-4D6E-A023-A9EFD5710F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E6EE-4E86-42CF-A5D8-42E287505B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C20D-E9F1-4338-BE37-5E7ED9AF6A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70AF7-6226-46A8-AE42-43B0A4A17A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447F-DD11-4B3E-94C4-2338DE9269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4410-76F5-4FCD-B687-F66E028014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09D4-AA40-4BF3-951B-3CE1743AEB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A4A4-B2C5-40D4-9210-DB1B31D3B0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2470-671C-47A7-9EA5-E20D9061F7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17DE-A868-4DED-B592-C388391634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572A-3E9D-44C0-ACB2-6317CFF190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CFDB6D-7744-498F-898B-7DCEBC65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773373-A43E-4001-AE4A-9DA98925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19722A-FCC9-4023-B0D8-AFF02B6B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17AFA-DB2A-452A-A4B3-5EA0CF95A0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2B4389-BA36-4BD7-AE50-34DF5470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096BC1-A454-4DBE-B8E9-6DBEAFDF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78361B-22F7-4760-BCC3-578766DF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478D70-9557-449E-8788-52E25908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1D8996-C23D-4B7B-AE97-0CA780C0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08B995-A8AB-4A54-9823-2E8EE1DF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0E043E-F187-4813-8AF5-DFAB82EF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5DB466-D30E-4022-8A17-F7101396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D1906E-4894-4FA6-B9FC-77DF0116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530D99-00F7-48CC-AA89-7F348302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E7CF2-DB47-4F07-B210-1302FB23454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CF90D1-2323-411A-A62A-75B264BE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F562F7-441E-427E-BBF0-6C9010D6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6B40B7-5054-4BE5-89B0-9592F51B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C9BFD0-F916-4DDE-AAFC-1A462000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E299E7-AB6C-42EF-84FD-8A0182FB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A3078D-032B-4457-BB54-9D5B01D3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0EA469-5E3C-4C61-B321-89267611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2332A5-5F9C-48F4-9B7C-394309C0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7FD13B-1FBA-4AC4-A8F6-C23DDCBE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CAAE98-4C94-4AD4-8A4D-FB9353E5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62E0E-63DF-4D2C-9F65-9D94EA36D8D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B39076-6732-4A6C-808C-3D9FA387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53B85A-9EF9-428F-9BD7-F148AC8F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29D9DB-3212-4285-A7C4-65DD9496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ED0B28-0A53-4D95-A68F-09C5F550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2DFDB1-A02D-42D7-BBD9-91A0DD25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88A006-2ECB-4736-B6D7-2EC44827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BCEA2B-7D50-4910-A42A-9586B9BC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5CEC5A-E8B4-4F1A-91AA-ECE5B67D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68114C-6A73-431F-A71D-C6C27F23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EB111D-D505-4BD6-852F-260E6C5A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A288-1E2A-4564-9AAB-2A2BDD96402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022845-6378-4DAA-83E0-99F3CB4B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03967B-2F3C-4BEA-A78D-A157A075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22C94D-489C-4B29-9E3F-D2950971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68846E-2F0C-4818-8D48-4AE27BA0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5700F5-1CD8-41D0-A81B-4FF19FDB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B7C4E1-A44D-4B1B-AB02-AE5F9442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A866F5-7D33-4068-BC2E-69E6A5A9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67937D-28D2-4936-99DC-50DFC345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8037A8-FBD0-4074-AA12-59A33486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073B09-310A-4BAB-87C4-BFE6CE1E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BAED5-9FCF-4802-9968-66DB2629510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65EAC1-7FB1-4197-8620-808E2F4C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12E30F-F690-48A2-88C7-B1AB7DA1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29573D-8397-48A0-8D6F-2F8DE3DD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692999-7EA9-4D35-A8D4-6BE18DFF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4C165D-2E66-465D-80C5-416DFF07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515CE9-10C8-4979-AF7D-BEEC88FD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59DA01-2D08-4B7C-B201-38B45510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EF6CCA-D182-47F4-AA3E-528A854A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0CFDC3-8DA7-4C2C-9F11-2D96C55F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3E7229-B26D-4F1A-84A2-314405FA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FBC9C-441E-4E0C-B1F7-9C3DC148472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E19D2C-A407-4C93-882A-E9F0F373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3FE7A7-B5C8-4A4F-A1C4-0EF74F6F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9A4416-B1FE-4E20-B4A1-03A2EEC8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EB9995-06DC-44B4-8D9C-BCD729A2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11F690-6C6D-4955-B5F1-C23FFF7E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72834C-02DD-47D7-83BB-2EA0EB2F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5D2F63-E221-41A5-9F07-9C89AE61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03791A-AA99-45AE-868A-70126F37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2769F-1893-4AEE-B048-2FFCEDD1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D66099-F9D0-4BB5-866D-302FD522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7120" y="283680"/>
            <a:ext cx="785808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89898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98989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6760" y="1390680"/>
            <a:ext cx="786276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bca36a"/>
              </a:buClr>
              <a:buSzPct val="130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44492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751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165640" y="6427440"/>
            <a:ext cx="289584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6320" y="6424200"/>
            <a:ext cx="482760" cy="2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34880-4341-430E-A216-84035717BD3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45" descr="SANOFI_Logo_H_2011_Quadri copie"/>
          <p:cNvPicPr/>
          <p:nvPr/>
        </p:nvPicPr>
        <p:blipFill>
          <a:blip r:embed="rId3"/>
          <a:stretch/>
        </p:blipFill>
        <p:spPr>
          <a:xfrm>
            <a:off x="595440" y="6308640"/>
            <a:ext cx="1584360" cy="365040"/>
          </a:xfrm>
          <a:prstGeom prst="rect">
            <a:avLst/>
          </a:prstGeom>
          <a:ln w="0">
            <a:noFill/>
          </a:ln>
        </p:spPr>
      </p:pic>
      <p:pic>
        <p:nvPicPr>
          <p:cNvPr id="5" name="Object 1" descr=""/>
          <p:cNvPicPr/>
          <p:nvPr/>
        </p:nvPicPr>
        <p:blipFill>
          <a:blip r:embed="rId4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6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7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8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8DE2C7-C050-400A-9D62-E0531688F285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69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9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0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1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12B623-B379-457D-9BC2-053ECAF144FD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2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3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4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3D07C3-DABA-4D9C-AF44-9F6D347673CE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5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6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7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74CD01-0035-413A-A45F-B254C92B7C5C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13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8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9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0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95C732F-C9E2-46E0-AA36-D22606052095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6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41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42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43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93D0D28-BC24-44F7-A579-C402AD963B83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5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AC23F-36FB-4549-8BF9-AEA76539D702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9" descr="fond_150dpi_bleu"/>
          <p:cNvPicPr/>
          <p:nvPr/>
        </p:nvPicPr>
        <p:blipFill>
          <a:blip r:embed="rId2"/>
          <a:stretch/>
        </p:blipFill>
        <p:spPr>
          <a:xfrm>
            <a:off x="631800" y="625320"/>
            <a:ext cx="7935840" cy="5527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2" descr="SANOFI_Logo_H_2011_Quadri copie"/>
          <p:cNvPicPr/>
          <p:nvPr/>
        </p:nvPicPr>
        <p:blipFill>
          <a:blip r:embed="rId3"/>
          <a:stretch/>
        </p:blipFill>
        <p:spPr>
          <a:xfrm>
            <a:off x="595440" y="6308640"/>
            <a:ext cx="1584360" cy="365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7120" y="283680"/>
            <a:ext cx="785808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89898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98989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26760" y="1390680"/>
            <a:ext cx="786276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bca36a"/>
              </a:buClr>
              <a:buSzPct val="130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44492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751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6"/>
          </p:nvPr>
        </p:nvSpPr>
        <p:spPr>
          <a:xfrm>
            <a:off x="8086320" y="6424200"/>
            <a:ext cx="482760" cy="2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437D8-6AA1-44D8-B0DD-21FC16EFD5D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5165640" y="6427440"/>
            <a:ext cx="289584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E0CCA0-E57A-483B-8494-8B3FA63B4958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1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2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3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C5AED4-D818-4ECD-9223-C29659A055AD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4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5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6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1D20B2-7186-45AD-9683-4A8D164EC0C2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7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8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9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F9496CC-A1E2-417D-B9EA-CAF69AEA2164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0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1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2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F685E3-AE1A-4882-AC39-C383F53EA396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3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4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5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25B1E81-A3FB-4067-B29E-A744D4B441B3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90680" y="2211120"/>
            <a:ext cx="79675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ru-RU" sz="4800" spc="-1" strike="noStrike">
                <a:solidFill>
                  <a:srgbClr val="c00000"/>
                </a:solidFill>
                <a:latin typeface="Tahoma"/>
              </a:rPr>
              <a:t>Новая отчетная форма №13</a:t>
            </a:r>
            <a:br>
              <a:rPr sz="4800"/>
            </a:br>
            <a:r>
              <a:rPr b="0" i="1" lang="ru-RU" sz="4800" spc="-1" strike="noStrike">
                <a:solidFill>
                  <a:srgbClr val="c00000"/>
                </a:solidFill>
                <a:latin typeface="Tahoma"/>
              </a:rPr>
              <a:t>«Сведения о прерывании беременности»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2166840" y="44715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З.З. Токо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344160" y="1938240"/>
            <a:ext cx="84582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9400" indent="0" algn="just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Проблема абортов тесно связана с </a:t>
            </a:r>
            <a:r>
              <a:rPr b="1" i="1" lang="ru-RU" sz="2800" spc="-1" strike="noStrike">
                <a:solidFill>
                  <a:srgbClr val="ffc000"/>
                </a:solidFill>
                <a:latin typeface="Tahoma"/>
              </a:rPr>
              <a:t>контрацепцией.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Поэтому следует обратить внимание на операции по поводу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32640" indent="-332640" algn="just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стерилизация женщин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- таблиц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4 000 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страниц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56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строк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13.4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400" indent="-32940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стерилизация женщин с использованием     </a:t>
            </a: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эндоскопической аппаратуры 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- таблиц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4100</a:t>
            </a: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страниц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70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строк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6-7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400" indent="-329400" algn="just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стерилизация мужчин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– таблиц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4 000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страниц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56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строк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12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400" indent="0" algn="just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344160" y="2101680"/>
            <a:ext cx="8458200" cy="487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таблица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2 401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страниц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39: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b050"/>
                </a:solidFill>
                <a:latin typeface="Tahoma"/>
              </a:rPr>
              <a:t>строка 1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- состоит под наблюдением на конец года женщин, имеющих внутриматочные спирали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b050"/>
                </a:solidFill>
                <a:latin typeface="Tahoma"/>
              </a:rPr>
              <a:t>строка 2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- использующих гормональные контрацептивы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b050"/>
                </a:solidFill>
                <a:latin typeface="Tahoma"/>
              </a:rPr>
              <a:t>строка 3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- введено внутриматочных спиралей (в амбулаторных и стационарных условиях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Прямоугольник 1"/>
          <p:cNvSpPr/>
          <p:nvPr/>
        </p:nvSpPr>
        <p:spPr>
          <a:xfrm>
            <a:off x="1555920" y="239760"/>
            <a:ext cx="69897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  <a:ea typeface="MS PGothic"/>
              </a:rPr>
              <a:t>Форма № 30  </a:t>
            </a:r>
            <a:endParaRPr b="0" lang="en-US" sz="5400" spc="-1" strike="noStrike">
              <a:solidFill>
                <a:srgbClr val="444492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ahoma"/>
                <a:ea typeface="MS PGothic"/>
              </a:rPr>
              <a:t>«Сведения о медицинской организации»: </a:t>
            </a:r>
            <a:endParaRPr b="0" lang="en-US" sz="28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344160" y="3274560"/>
            <a:ext cx="84582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таблица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2210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строк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1-2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граф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3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регистрирует </a:t>
            </a:r>
            <a:r>
              <a:rPr b="1" i="1" lang="ru-RU" sz="2800" spc="-1" strike="noStrike">
                <a:solidFill>
                  <a:srgbClr val="00b050"/>
                </a:solidFill>
                <a:latin typeface="Tahoma"/>
              </a:rPr>
              <a:t>роды у девочек до 14 лет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и их называют «дети до 14 лет» (включает в себя возраст 14 лет 11 месяцев 29 дней) – из общего числа родов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00b050"/>
                </a:solidFill>
                <a:latin typeface="Tahoma"/>
              </a:rPr>
              <a:t>принято родов у детей до 14 ле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Прямоугольник 1"/>
          <p:cNvSpPr/>
          <p:nvPr/>
        </p:nvSpPr>
        <p:spPr>
          <a:xfrm>
            <a:off x="1555920" y="239760"/>
            <a:ext cx="724680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  <a:ea typeface="MS PGothic"/>
              </a:rPr>
              <a:t>Форма № 32</a:t>
            </a:r>
            <a:r>
              <a:rPr b="0" i="1" lang="ru-RU" sz="5400" spc="-1" strike="noStrike">
                <a:solidFill>
                  <a:srgbClr val="16165d"/>
                </a:solidFill>
                <a:latin typeface="Calibri"/>
                <a:ea typeface="MS PGothic"/>
              </a:rPr>
              <a:t> </a:t>
            </a:r>
            <a:endParaRPr b="0" lang="en-US" sz="5400" spc="-1" strike="noStrike">
              <a:solidFill>
                <a:srgbClr val="444492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ahoma"/>
                <a:ea typeface="MS PGothic"/>
              </a:rPr>
              <a:t>«Сведения о медицинской помощи беременным, роженицам и родильницам» </a:t>
            </a:r>
            <a:endParaRPr b="0" lang="en-US" sz="2800" spc="-1" strike="noStrike">
              <a:solidFill>
                <a:srgbClr val="444492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ahoma"/>
                <a:ea typeface="MS PGothic"/>
              </a:rPr>
              <a:t>раздел </a:t>
            </a:r>
            <a:r>
              <a:rPr b="1" i="1" lang="ru-RU" sz="2800" spc="-1" strike="noStrike">
                <a:solidFill>
                  <a:srgbClr val="c00000"/>
                </a:solidFill>
                <a:latin typeface="Tahoma"/>
                <a:ea typeface="MS PGothic"/>
              </a:rPr>
              <a:t>2.</a:t>
            </a:r>
            <a:r>
              <a:rPr b="0" i="1" lang="ru-RU" sz="2800" spc="-1" strike="noStrike">
                <a:solidFill>
                  <a:srgbClr val="c00000"/>
                </a:solidFill>
                <a:latin typeface="Tahoma"/>
                <a:ea typeface="MS PGothic"/>
              </a:rPr>
              <a:t> Родовспоможение в стационаре </a:t>
            </a:r>
            <a:r>
              <a:rPr b="1" i="1" lang="ru-RU" sz="4800" spc="-1" strike="noStrike">
                <a:solidFill>
                  <a:srgbClr val="c00000"/>
                </a:solidFill>
                <a:latin typeface="Calibri"/>
                <a:ea typeface="MS PGothic"/>
              </a:rPr>
              <a:t>  </a:t>
            </a:r>
            <a:endParaRPr b="0" lang="en-US" sz="48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344160" y="248400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таблица 5 000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«Диспансерное наблюдение за беременными, роженицами и родильницами, больными ВИЧ-инфекцией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ahoma"/>
              </a:rPr>
              <a:t>строка 1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– число беременных женщин¸ больных ВИЧ-инфекцией всего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ahoma"/>
              </a:rPr>
              <a:t>строка 2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– число женщин, больных ВИЧ-инфекцией, завершивших беременность родами в отчетном год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Прямоугольник 1"/>
          <p:cNvSpPr/>
          <p:nvPr/>
        </p:nvSpPr>
        <p:spPr>
          <a:xfrm>
            <a:off x="1255680" y="239760"/>
            <a:ext cx="754704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  <a:ea typeface="MS PGothic"/>
              </a:rPr>
              <a:t>Форма № 61</a:t>
            </a:r>
            <a:r>
              <a:rPr b="0" i="1" lang="ru-RU" sz="5400" spc="-1" strike="noStrike">
                <a:solidFill>
                  <a:srgbClr val="16165d"/>
                </a:solidFill>
                <a:latin typeface="Calibri"/>
                <a:ea typeface="MS PGothic"/>
              </a:rPr>
              <a:t> </a:t>
            </a:r>
            <a:endParaRPr b="0" lang="en-US" sz="5400" spc="-1" strike="noStrike">
              <a:solidFill>
                <a:srgbClr val="444492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ahoma"/>
                <a:ea typeface="MS PGothic"/>
              </a:rPr>
              <a:t>«Сведения о болезни, вызванной вирусом иммунодефицита человека»:</a:t>
            </a:r>
            <a:endParaRPr b="0" lang="en-US" sz="28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841320" y="750600"/>
            <a:ext cx="8128080" cy="59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- форма № 066/у-02  </a:t>
            </a:r>
            <a:r>
              <a:rPr b="0" i="1" lang="ru-RU" sz="1800" spc="-1" strike="noStrike">
                <a:solidFill>
                  <a:srgbClr val="7030a0"/>
                </a:solidFill>
                <a:latin typeface="Tahoma"/>
              </a:rPr>
              <a:t>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- форма № 003-1/у  </a:t>
            </a:r>
            <a:r>
              <a:rPr b="0" i="1" lang="ru-RU" sz="1800" spc="-1" strike="noStrike">
                <a:solidFill>
                  <a:srgbClr val="7030a0"/>
                </a:solidFill>
                <a:latin typeface="Tahoma"/>
              </a:rPr>
              <a:t>«медицинская карта  прерывания беременности» для всех случаев прерывания кроме аборта по медпоказаниям и при наличии  тяжелых сопутствующих заболеваний;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- форма № 003/у  </a:t>
            </a:r>
            <a:r>
              <a:rPr b="0" i="1" lang="ru-RU" sz="1800" spc="-1" strike="noStrike">
                <a:solidFill>
                  <a:srgbClr val="7030a0"/>
                </a:solidFill>
                <a:latin typeface="Tahoma"/>
              </a:rPr>
              <a:t>«медицинская карта стационарного больного» при   производстве аборта по медпоказаниям и при наличии тяжелых  сопутствующих заболеваний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- форма № 111/у  </a:t>
            </a:r>
            <a:r>
              <a:rPr b="0" i="1" lang="ru-RU" sz="1800" spc="-1" strike="noStrike">
                <a:solidFill>
                  <a:srgbClr val="7030a0"/>
                </a:solidFill>
                <a:latin typeface="Tahoma"/>
              </a:rPr>
              <a:t>«индивидуальная карта беременной и родильницы»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- форма № 002/у </a:t>
            </a:r>
            <a:r>
              <a:rPr b="0" i="1" lang="ru-RU" sz="1800" spc="-1" strike="noStrike">
                <a:solidFill>
                  <a:srgbClr val="7030a0"/>
                </a:solidFill>
                <a:latin typeface="Tahoma"/>
              </a:rPr>
              <a:t>«журнал учета приема беременных, рожениц и родильниц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Прямоугольник 1"/>
          <p:cNvSpPr/>
          <p:nvPr/>
        </p:nvSpPr>
        <p:spPr>
          <a:xfrm>
            <a:off x="841320" y="544680"/>
            <a:ext cx="798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  <a:ea typeface="MS PGothic"/>
              </a:rPr>
              <a:t>Источники информации</a:t>
            </a:r>
            <a:endParaRPr b="0" lang="en-US" sz="44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367920" y="2443320"/>
            <a:ext cx="838044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 algn="just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- другие анормальные продукты зачатия (строка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 algn="just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-  самопроизвольный аборт (строка 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 algn="just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-  медицинский аборт  (строка 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 algn="just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- другие виды аборта  (строка 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 algn="just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- аборт неуточненный (строка 6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Прямоугольник 1"/>
          <p:cNvSpPr/>
          <p:nvPr/>
        </p:nvSpPr>
        <p:spPr>
          <a:xfrm>
            <a:off x="0" y="544680"/>
            <a:ext cx="91440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MS PGothic"/>
              </a:rPr>
              <a:t>Настоящая форма № 13 состоит из 2-х таблиц и 2-х подтабличных строк.</a:t>
            </a:r>
            <a:endParaRPr b="0" lang="en-US" sz="3200" spc="-1" strike="noStrike">
              <a:solidFill>
                <a:srgbClr val="444492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44492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236919"/>
                </a:solidFill>
                <a:latin typeface="Calibri"/>
                <a:ea typeface="MS PGothic"/>
              </a:rPr>
              <a:t>Таблица 1000 «Прерывание беременности в срок до 12 недель» включает рубрики О02-О06:</a:t>
            </a:r>
            <a:endParaRPr b="0" lang="en-US" sz="3200" spc="-1" strike="noStrike">
              <a:solidFill>
                <a:srgbClr val="444492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4492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4492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44492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0" y="860040"/>
            <a:ext cx="9144000" cy="58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           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Кроме того, в эту таблицу добавлены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рубрики О00, О01, О07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  <a:ea typeface="Calibri"/>
              </a:rPr>
              <a:t>- внематочная беременность (строка 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  <a:ea typeface="Calibri"/>
              </a:rPr>
              <a:t>         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  <a:ea typeface="Calibri"/>
              </a:rPr>
              <a:t>- пузырный занос (строка 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3000" indent="-333000" algn="ctr">
              <a:lnSpc>
                <a:spcPct val="115000"/>
              </a:lnSpc>
              <a:buClr>
                <a:srgbClr val="333399"/>
              </a:buClr>
              <a:buFont typeface="Calibri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  <a:ea typeface="Calibri"/>
              </a:rPr>
              <a:t>неудачная попытка аборта (строка 9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36919"/>
                </a:solidFill>
                <a:latin typeface="Calibri"/>
                <a:ea typeface="Calibri"/>
              </a:rPr>
              <a:t>В графах 5-9 отражается распределение женщин по возрасту, в графах 10-11 – аборты у первобеременных, у ВИЧ-инфицированны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36919"/>
                </a:solidFill>
                <a:latin typeface="Calibri"/>
                <a:ea typeface="Calibri"/>
              </a:rPr>
              <a:t>В</a:t>
            </a:r>
            <a:r>
              <a:rPr b="1" lang="en-US" sz="2800" spc="-1" strike="noStrike">
                <a:solidFill>
                  <a:srgbClr val="236919"/>
                </a:solidFill>
                <a:latin typeface="Calibri"/>
                <a:ea typeface="Calibri"/>
              </a:rPr>
              <a:t> 1</a:t>
            </a:r>
            <a:r>
              <a:rPr b="1" lang="ru-RU" sz="2800" spc="-1" strike="noStrike">
                <a:solidFill>
                  <a:srgbClr val="236919"/>
                </a:solidFill>
                <a:latin typeface="Calibri"/>
                <a:ea typeface="Calibri"/>
              </a:rPr>
              <a:t>части т.1000 строка 1 равна сумме строк 2-6 по всем графа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15000"/>
              </a:lnSpc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00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510840" y="1255320"/>
            <a:ext cx="845820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7030a0"/>
                </a:solidFill>
                <a:latin typeface="Tahoma"/>
              </a:rPr>
              <a:t>Медицинский аборт легальный, медицинский аборт  по медицинским показаниям, из них проведено медикаментозным методо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664d"/>
                </a:solidFill>
                <a:latin typeface="Tahoma"/>
              </a:rPr>
              <a:t>Из числа легальных абортов, абортов по медицинским показаниям выполнено в возрастной группе до 14 лет, 15-17 лет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22228b"/>
                </a:solidFill>
                <a:latin typeface="Tahoma"/>
              </a:rPr>
              <a:t>Число первобеременных, ВИЧ-инфицированных в возрастной группе до 14 лет, 15-17 ле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ahoma"/>
              </a:rPr>
              <a:t>Из числа неудачных попыток аборта (О07) проведено медикаментозным методо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сложнения, вызванные абортом (О08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Прямоугольник 1"/>
          <p:cNvSpPr/>
          <p:nvPr/>
        </p:nvSpPr>
        <p:spPr>
          <a:xfrm>
            <a:off x="1228680" y="544680"/>
            <a:ext cx="75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  <a:ea typeface="MS PGothic"/>
              </a:rPr>
              <a:t>Подтабличные строки 1100-1105:</a:t>
            </a:r>
            <a:endParaRPr b="0" lang="en-US" sz="36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204840" y="3193920"/>
            <a:ext cx="850248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664d"/>
                </a:solidFill>
                <a:latin typeface="Arial"/>
                <a:ea typeface="Calibri"/>
              </a:rPr>
              <a:t>Расположение строк, граф аналогично предыдущей таблице. Строка 1 равна сумме строк 2-6 по всем графа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Прямоугольник 1"/>
          <p:cNvSpPr/>
          <p:nvPr/>
        </p:nvSpPr>
        <p:spPr>
          <a:xfrm>
            <a:off x="1555920" y="293760"/>
            <a:ext cx="6868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MS PGothic"/>
              </a:rPr>
              <a:t>Таблица 2000 «Прерывание беременности в срок с 12 до 22 недель» включает те же рубрики, что и таблица 1000</a:t>
            </a:r>
            <a:endParaRPr b="0" lang="en-US" sz="32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44160" y="2252160"/>
            <a:ext cx="8458200" cy="47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Медицинский аборт, проведенный по социальным показаниям, по медицинским показаниям – всего, из них медикаментозным методом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Из числа абортов по социальным показаниям, по медицинским показаниям выполнено в возрастной группе до 14 лет, 15-17 лет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Из числа абортов по медицинским показаниям проведено в связи с выявленными врожденными пороками развития плод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Число первобеременных, ВИЧ-инфицированных в возрастной группе до 14 лет, 15-17 ле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Из числа неудачных попыток аборта (О07) проведено медикаментозным методо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Осложнения, вызванные абортом (О08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Прямоугольник 1"/>
          <p:cNvSpPr/>
          <p:nvPr/>
        </p:nvSpPr>
        <p:spPr>
          <a:xfrm>
            <a:off x="1555920" y="544680"/>
            <a:ext cx="657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  <a:ea typeface="MS PGothic"/>
              </a:rPr>
              <a:t>Подтабличные строки 2100-2105 </a:t>
            </a:r>
            <a:endParaRPr b="0" lang="en-US" sz="40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344160" y="3301920"/>
            <a:ext cx="84582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191966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 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 издании документа в этой подтабличной строке допущена техническая ошибка – в скобке вместо рубрик О02-О06 напечатано О02-О07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Прямоугольник 1"/>
          <p:cNvSpPr/>
          <p:nvPr/>
        </p:nvSpPr>
        <p:spPr>
          <a:xfrm>
            <a:off x="1555920" y="544680"/>
            <a:ext cx="6573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Отдельной строкой  3000 выделено число  женщин, умерших от прерывания беременности (О02-О06). </a:t>
            </a:r>
            <a:endParaRPr b="0" lang="en-US" sz="32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344160" y="1828800"/>
            <a:ext cx="8458200" cy="51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just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ведения о деятельности подразделений медицинской организации, оказывающих медицинскую помощь в </a:t>
            </a:r>
            <a:r>
              <a:rPr b="1" i="1" lang="ru-RU" sz="2400" spc="-1" strike="noStrike">
                <a:solidFill>
                  <a:srgbClr val="236919"/>
                </a:solidFill>
                <a:latin typeface="Times New Roman"/>
                <a:ea typeface="Times New Roman"/>
              </a:rPr>
              <a:t>стационарных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условиях»  (в отличие от формы № 13, учитывающей и амбулаторные аборты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 algn="ctr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 algn="ctr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Calibri"/>
              </a:rPr>
              <a:t>	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Таблица 4 000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Раздел 3. «Хирургическая работа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организации»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страниц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56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строк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14.1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– внематочная беременность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страниц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56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строк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14.6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– аборты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страниц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60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строк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14.6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-  число абортов с осложнениями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страниц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64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строк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14.6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– умерло после абор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Прямоугольник 1"/>
          <p:cNvSpPr/>
          <p:nvPr/>
        </p:nvSpPr>
        <p:spPr>
          <a:xfrm>
            <a:off x="695160" y="239760"/>
            <a:ext cx="827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Calibri"/>
                <a:ea typeface="MS PGothic"/>
              </a:rPr>
              <a:t>Межформенный контроль </a:t>
            </a:r>
            <a:r>
              <a:rPr b="1" i="1" lang="ru-RU" sz="4800" spc="-1" strike="noStrike">
                <a:solidFill>
                  <a:srgbClr val="c00000"/>
                </a:solidFill>
                <a:latin typeface="Calibri"/>
                <a:ea typeface="MS PGothic"/>
              </a:rPr>
              <a:t>	</a:t>
            </a:r>
            <a:r>
              <a:rPr b="1" i="1" lang="ru-RU" sz="4800" spc="-1" strike="noStrike">
                <a:solidFill>
                  <a:srgbClr val="c00000"/>
                </a:solidFill>
                <a:latin typeface="Calibri"/>
                <a:ea typeface="MS PGothic"/>
              </a:rPr>
              <a:t>	</a:t>
            </a:r>
            <a:r>
              <a:rPr b="1" i="1" lang="ru-RU" sz="4800" spc="-1" strike="noStrike">
                <a:solidFill>
                  <a:srgbClr val="c00000"/>
                </a:solidFill>
                <a:latin typeface="Calibri"/>
                <a:ea typeface="MS PGothic"/>
              </a:rPr>
              <a:t>	</a:t>
            </a:r>
            <a:r>
              <a:rPr b="1" i="1" lang="ru-RU" sz="4800" spc="-1" strike="noStrike">
                <a:solidFill>
                  <a:srgbClr val="c00000"/>
                </a:solidFill>
                <a:latin typeface="Calibri"/>
                <a:ea typeface="MS PGothic"/>
              </a:rPr>
              <a:t>         Форма № 14  </a:t>
            </a:r>
            <a:endParaRPr b="0" lang="en-US" sz="48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13:24:50Z</dcterms:created>
  <dc:creator>Юля</dc:creator>
  <dc:description/>
  <dc:language>en-US</dc:language>
  <cp:lastModifiedBy>Valentin Fomin</cp:lastModifiedBy>
  <cp:lastPrinted>2016-06-21T09:02:45Z</cp:lastPrinted>
  <dcterms:modified xsi:type="dcterms:W3CDTF">2017-12-13T06:42:01Z</dcterms:modified>
  <cp:revision>313</cp:revision>
  <dc:subject/>
  <dc:title>Слайд 1</dc:title>
</cp:coreProperties>
</file>