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4CFC-4138-421C-9317-A1D40AB6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1103-F354-4609-A5B2-466C1EA4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7CA2-E8B9-4F56-ADAE-083E86A9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4D76-30DD-4270-9A99-D33B7546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0715-686F-43F1-9086-D74BB069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0CD8-B3E0-40B6-8205-50984592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E0AA-7F70-4F72-A932-58AEAFBB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2223-4D75-414E-B04F-4BC2D2AF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AF72-C805-4F79-A94E-74DA1F8F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650A-9FB5-466C-98A1-D96419BC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EED8-A554-411F-B085-42F1DEB9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EEC-F762-4C91-8EB4-CDD95D26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2F76-7C1C-4E35-8A4E-557F93EC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FF91-C52C-4B5B-8A61-1069BB5C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4D20-2DC0-48EC-A6DC-F3943C9F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071A-8FC6-45B0-A886-2004432F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7A4F-300F-4BE6-A169-86EB89C2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DC75-3098-4B1E-A784-F9026242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CB07-757B-4759-A21D-89C2CC3F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0D68-7383-4F60-8732-DF5262EC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5D3B-40C1-4237-89C1-685B37F8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A033-446C-438F-91C1-D5CD42E1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ED6B-EF82-451C-9AA2-BA7F0F19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E20-0A28-4B7E-B5DB-CC319872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CEBA-771E-466F-BC4F-06DD9EB12CF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AB24-69F3-48C7-8FF7-513BF38CE24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5640" y="357120"/>
            <a:ext cx="77929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</a:t>
            </a:r>
            <a:br>
              <a:rPr sz="3900"/>
            </a:b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№ 14 дс «Сведения о деятельности дневных стационаров медицинских организаций» за 2017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41 табл. 1010 стр. 1 гр. 1 = форма 30  табл. 1001 стр.16 гр. 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41 табл. 1010 стр. 1 гр. 2 = форма 30 табл. 1001 стр.17 гр. 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. Использование коек дневного стационара медицинской организации по профил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600200"/>
          <a:ext cx="8229600" cy="48531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. Использование коек дневного стационара медицинской организации по профил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229600" cy="46371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172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. Использование коек дневного стационара медицинской организации по профилям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9640" y="148428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. Использование коек дневного стационара медицинской организации по профилям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заполняются сведения о числе коек дл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. Использование коек дневного стационара медицинской организации по профил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1052640"/>
          <a:ext cx="8640720" cy="5684760"/>
        </p:xfrm>
        <a:graphic>
          <a:graphicData uri="http://schemas.openxmlformats.org/drawingml/2006/table">
            <a:tbl>
              <a:tblPr/>
              <a:tblGrid>
                <a:gridCol w="1295280"/>
                <a:gridCol w="433440"/>
                <a:gridCol w="647640"/>
                <a:gridCol w="647640"/>
                <a:gridCol w="576360"/>
                <a:gridCol w="720720"/>
                <a:gridCol w="718920"/>
                <a:gridCol w="720720"/>
                <a:gridCol w="719280"/>
                <a:gridCol w="720720"/>
                <a:gridCol w="720720"/>
                <a:gridCol w="719280"/>
              </a:tblGrid>
              <a:tr h="44136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-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-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 сомат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Box 8"/>
          <p:cNvSpPr/>
          <p:nvPr/>
        </p:nvSpPr>
        <p:spPr>
          <a:xfrm>
            <a:off x="3492360" y="4581360"/>
            <a:ext cx="115092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2195640" y="4941720"/>
            <a:ext cx="115236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2195640" y="5805360"/>
            <a:ext cx="115236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5364000" y="4941720"/>
            <a:ext cx="7146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7524720" y="494172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5364000" y="580536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7451640" y="580536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5"/>
          <p:cNvSpPr/>
          <p:nvPr/>
        </p:nvSpPr>
        <p:spPr>
          <a:xfrm>
            <a:off x="5364000" y="544500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7524720" y="544500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329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00040" y="1214280"/>
          <a:ext cx="8229600" cy="4316400"/>
        </p:xfrm>
        <a:graphic>
          <a:graphicData uri="http://schemas.openxmlformats.org/drawingml/2006/table">
            <a:tbl>
              <a:tblPr/>
              <a:tblGrid>
                <a:gridCol w="785880"/>
                <a:gridCol w="58572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64800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Заголовок 1"/>
          <p:cNvSpPr/>
          <p:nvPr/>
        </p:nvSpPr>
        <p:spPr>
          <a:xfrm>
            <a:off x="500040" y="5715000"/>
            <a:ext cx="8329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 формы 14дс и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Число коек для взрослых на конец года в дневных стационара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Число коек для детей на конец года в дневных стационара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Число выписанных взрослых из дневных стационар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Число выписанных лиц старше трудоспособного возраста из дневных стационар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 формы 14дс и 4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40" y="928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Число выписанных детей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Число проведенных пациенто-дней взрослыми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Число проведенных пациенто-дней лицами старше трудоспособного возраст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Число проведенных пациенто-дней детьми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 формы 14дс и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60.46.06. + 47.660.51.06. Число коек (мест) для взрослых на конец года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7. + 47.660.51.07. Число коек (мест) для детей на конец года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8. + 47.660.51.08. Число выписанных взрослых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8. = 47.660.46.09. + 47.660.51.09. Число выписанных лиц старше трудоспособного возраста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№ 438 от 9 декабря 1999 г.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 формы 14дс и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00040" y="928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10. + 47.660.51.10. Число выписанных детей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11. + 47.660.51.11. Число проведенных пациенто-дней взрослыми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2. + 47.660.51.12. Число проведенных пациенто-дней лицами старше трудоспособного возраст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3. + 47.660.51.13. Число проведенных пациенто-дней детьми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 формы 14дс и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ах медицинских организаций, оказывающих помощь на дому (стационары на дому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3. = 47.670.46.06. + 47.670.51.06. Число коек (мест) для взрослых на конец года в стационарах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5. = 47.670.46.07. + 47.670.51.07. Число коек (мест) для детей на конец года в стационарах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 формы 14дс и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на дому (стационары на дому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7. = 47.670.46.08. + 47.670.51.08. Число выписанных взрослых из стационаров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8. = 47.670.46.09. + 47.670.51.09. Число выписанных лиц старше трудоспособного возраста из стационаров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9. = 47.670.46.10. + 47.670.51.10. Число выписанных детей из стационаров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 формы 14дс и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928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на дому (стационары на дому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10. = 47.670.46.11. + 47.670.51.11. Число проведенных пациенто-дней взрослыми в стационарах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11. = 47.670.46.12. + 47.670.51.12. Число проведенных пациенто-дней лицами старше трудоспособного возраста в стационарах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12. = 47.670.46.13. + 47.670.51.13. Число проведенных пациенто-дней детьми в стационарах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5 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6 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9280" y="928440"/>
            <a:ext cx="878544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 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Число умерших (взрослых и детей) в дневном стационаре медицинских организаций, оказывающих помощь в амбулаторных услов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Число умерших детей в дневном стационаре медицинских организаций, оказывающих помощь в амбулаторных услов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5. = 141.3000.1.12.+141.3500.1.12. Число умерших (взрослых и детей) в стационаре на дом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6.=141.3500.1.12. Число умерших детей в стационаре на дом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2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3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13840" y="6018120"/>
            <a:ext cx="892980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0 графам 10, 11, 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28760" y="928800"/>
          <a:ext cx="8286480" cy="514332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460440"/>
                <a:gridCol w="552600"/>
                <a:gridCol w="552240"/>
                <a:gridCol w="552600"/>
                <a:gridCol w="554040"/>
                <a:gridCol w="552240"/>
                <a:gridCol w="552600"/>
                <a:gridCol w="552600"/>
                <a:gridCol w="552240"/>
                <a:gridCol w="461880"/>
              </a:tblGrid>
              <a:tr h="11268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28400" y="6214680"/>
            <a:ext cx="871524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1 графам 10, 11, 1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00040" y="714240"/>
          <a:ext cx="8001000" cy="5392800"/>
        </p:xfrm>
        <a:graphic>
          <a:graphicData uri="http://schemas.openxmlformats.org/drawingml/2006/table">
            <a:tbl>
              <a:tblPr/>
              <a:tblGrid>
                <a:gridCol w="2298600"/>
                <a:gridCol w="281160"/>
                <a:gridCol w="466560"/>
                <a:gridCol w="561960"/>
                <a:gridCol w="560520"/>
                <a:gridCol w="560520"/>
                <a:gridCol w="561960"/>
                <a:gridCol w="560160"/>
                <a:gridCol w="560520"/>
                <a:gridCol w="560520"/>
                <a:gridCol w="561960"/>
                <a:gridCol w="466560"/>
              </a:tblGrid>
              <a:tr h="1065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4360" y="1500120"/>
            <a:ext cx="795960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8360" y="1268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141.3000.1.04. + 141.3000.20.04. Число выписанных взрослых из дневных стационар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141.3500.1.04. + 141.3500.21.04. Число выписанных детей из дневных стационар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360" y="1268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141.3000.1.07. + 141.3000.20.07. Число выписанных взрослых из дневных стационар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141.3500.1.07. + 141.3500.21.07. Число выписанных детей из дневных стационар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360" y="1268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на дому (стационары на дому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7. = 141.3000.1.10. + 141.3000.20.10. Число выписанных взрослых из стационаров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9. = 141.3500.1.10. + 141.3500.21.10. Число выписанных детей из стационаров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1028"/>
          <p:cNvSpPr txBox="1"/>
          <p:nvPr/>
        </p:nvSpPr>
        <p:spPr>
          <a:xfrm rot="65400">
            <a:off x="1066680" y="1752480"/>
            <a:ext cx="7620120" cy="41148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Благодарю за внимание !</a:t>
            </a:r>
            <a:endParaRPr b="1" lang="en-US" sz="7200" spc="1" strike="noStrike">
              <a:ln w="0">
                <a:noFill/>
              </a:ln>
              <a:solidFill>
                <a:srgbClr val="ff3300">
                  <a:alpha val="50000"/>
                </a:srgbClr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ая отделением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95280" y="1628640"/>
          <a:ext cx="8229600" cy="4664160"/>
        </p:xfrm>
        <a:graphic>
          <a:graphicData uri="http://schemas.openxmlformats.org/drawingml/2006/table">
            <a:tbl>
              <a:tblPr/>
              <a:tblGrid>
                <a:gridCol w="1235160"/>
                <a:gridCol w="420480"/>
                <a:gridCol w="730440"/>
                <a:gridCol w="730080"/>
                <a:gridCol w="731880"/>
                <a:gridCol w="730440"/>
                <a:gridCol w="730080"/>
                <a:gridCol w="730440"/>
                <a:gridCol w="730080"/>
                <a:gridCol w="730440"/>
                <a:gridCol w="730080"/>
              </a:tblGrid>
              <a:tr h="6141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-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 и 11 «Число физических лиц» показывают только основных работников, имеющих трудовую книжку в данн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4 «Всего» не следует указывать прочий персонал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4 (всего) должна быть равна сумме строк 1, 2, 3 по графам 3, 4, 5, 6, 7, 8, 9, 10, 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штатных должностей в дневных стационарах медицинских организаций, оказывающих помощь в стационарных условиях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 = 141.1000.1.03 + 141.1000.2.03 +141.1000.3.03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157176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41 табл. 1010 стр. 1 гр. 1 = форма 47 табл.0650 стр.46 гр.4 + стр.51 гр.4 + табл. 0660 стр.46 гр. 4 + стр.51 гр.4 + табл. 0670 стр.46 гр. 4 + стр.51 гр. 4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41 табл. 1010 стр. 1 гр. 2 = форма 47 табл. 0650 стр.46 гр. 5 + стр.51 гр.5 + табл. 0660 стр.46 гр. 5 + стр.51 гр. 5 + табл. 0670 стр.46 гр. 5 + стр.51 гр. 5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dcterms:modified xsi:type="dcterms:W3CDTF">2017-12-11T22:04:32Z</dcterms:modified>
  <cp:revision>165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