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FD53-CBA4-457B-B0C9-0F4D6AB76C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96C-056B-4AF4-9BA7-0B6DCF4C5E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62-7156-4321-BDEA-1FB6F02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EA0-33B7-44B2-8B10-5B4D2780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5D0-3AA4-4637-B20E-F79BFF87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AC4-5CCF-4CBF-B338-1E50B51C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5BF7-E146-41E3-855E-F4EF7031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9FD2-1913-4342-A11D-5B61D31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659-3B18-4E84-9399-E79CDF4D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356-0511-4AE7-A215-C4E4989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03EF-110F-4A66-BEE4-9149721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511-1BBE-49AB-AA7F-BD6C7E4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102-B7D7-4388-8A98-6D8D33F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B21-DAA2-4E6B-811B-50FD737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1037-3210-4649-B89B-68E5269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79E1-9A09-49F9-A6D8-6C04FCD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2770-C80B-4A33-A0D3-F617F89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E97-AB6E-45A2-9F7A-DCA3CCA9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27B7-F9F1-4630-B731-0148391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02AA-86F9-4E21-82FF-CE3C2BA8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8377-8212-4120-A3D0-CB67726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6A35-9B5C-42AA-8502-ED19B78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4F38-40D8-4AA7-A1AD-C7EC725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8DA3-7A78-4415-9628-D53547E3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B12-D6EA-4788-B0B7-71D0E2B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6078-55E9-4689-9DE1-C92DDE50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2203-358B-4C3F-99D5-5F01821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A027-626A-45B7-962F-1749A1D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63F0-C7FB-4733-8087-DE2DE9B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7855-2E78-41CF-B6C0-26A5E14C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A7B4-D965-414B-9E94-63CA50EA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92EE-83EB-46C4-9B36-E291B151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D0DE-E59C-43AF-8B37-295019F9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0158-7C5C-4597-ABC9-737C7D5E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CA45-D2E2-4B33-816E-A4AA841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359-E2C1-4503-B67B-426FE6D9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7DD3-5665-4560-9BF3-223A4D3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4298-71F0-4A29-9BD6-0678076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48FE-6489-4D76-97B9-E43C06AE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E429-4952-46B4-8E1F-132F141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4209-A89D-4BAF-B076-0828C45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210D-EC73-4C68-A480-762A7EE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2AA1-354D-4F26-8793-D815335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873E-5030-422C-B257-126DA288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DF9C-A36C-48D3-9C4D-554E00F8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A92-EB21-4BAE-B980-D65781E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906-CC9A-4F10-97A2-B4EC6894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EC3-27A8-42B6-9B7E-651A27D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625-6528-445B-B1AE-C3F52F9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57F-5C94-49A3-8964-0731D6E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6E6-20DF-439C-9225-96109BE51B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AF5-4F0E-4B44-8FB3-D7483FB4A67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044-704F-46A0-8112-F233C07DBB5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D1D-2E74-43FA-806D-C9ACC33B94D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.начальника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3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3656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И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&gt;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74600" y="2475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3 (4/5) = таблица 4 000  стр. 1 гр. 3 (4/5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309600" y="42480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271440" y="55976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533520" y="3790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указываем число формирований задействованных в СМК (на конец отчетного года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5382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 указываем количество выездов  формирований СМК  на ликвидацию медико-санитарных последствий ЧС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576360" y="4210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количестве ЧС с медико-санитарными последствиями должны соответствовать, представленным донесениям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76360" y="5257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хногенных ЧС руководствоваться критериями, принятыми на совещании 5 апреля 2013г. под председательством заместителя Министра здравоохранения РФ Каграманяна Игоря Николаевич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1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290"/>
                            </p:stCondLst>
                            <p:childTnLst>
                              <p:par>
                                <p:cTn id="16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7-12-11T09:06:52Z</dcterms:modified>
  <cp:revision>5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