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AEF4C-3CD6-4FC5-A293-6DA04E4043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F62B3-0ACF-4F34-AD0A-362021F144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357-FA7C-401E-80F9-D8110D6D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867-148F-4145-A74A-D017F3A6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5B9-EEE8-40B2-9E3D-A05ECED4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61D-101A-42FE-B5DA-F520C5A2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3CA2-608B-4B34-952F-5BEE9E66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5C59-553B-4799-B717-82F53AB1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D834-EA77-4FB7-8A9E-B7FC7E8F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7059-4C71-49FA-82DE-EF313DD3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059A-3BDA-4C9D-8556-FE46CC3D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41D5-FB12-44E2-97CE-A5837CF0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ECF0-E0BF-4A5B-B64A-C7254D9B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1FE-E8EF-4238-AEDE-CC2B7838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C6B4-D69E-4149-B9CB-32180C6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7651-20C4-4809-A0C8-DFB34B81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12D4-A78F-44C2-AFE3-E49F475E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4A5E-3DE6-4089-B845-47C81F4E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0278-7E36-4C32-A990-A687BD93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F2BE1-0CEC-4C02-8335-F16C176A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D9B2-8F1A-413A-AC8F-DFF8B5B8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0FBA-43E2-4A87-A5D0-2180B823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C24F-FFCA-4B7B-89F7-8D327AB3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11771-04B3-4F81-B2C9-347BDD72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BE5-38E2-418F-8DD0-01FBF27C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62FF-6C1B-47A4-88F0-E50F0373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E08F-F220-4380-AF95-915DBC47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F655-BC68-4B42-9173-7B3A5143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28D1C-F403-458B-872F-9E35989F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CD3B4-84F9-48CF-AA51-ABC9FC9B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2D413-B346-40B0-83E8-B3E6EA1E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E2FAE-62D8-4E82-B2AF-6087741A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8A120-AB86-4964-98BB-17EB4D29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2B934-398C-48FF-8598-C5486B79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467A6-EBF9-4C59-BAE7-FB361349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D94-D30C-4AA2-9091-664711A5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CF3DB-EB87-4955-938B-FADF8259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AB39D-BC49-4969-B438-8BD7D03C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F1F6-60AF-4C87-842C-DCD7B1E5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87BB-535E-4650-81F9-16B3CBF6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16911-7676-4607-8D4C-08377266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1CE2-EE25-4626-9E07-FA7E451C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F7A88-F3E5-4C98-8AE0-3BA4435F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0D1B2-1FF4-4FC6-8AD6-99BD4930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C90F-0635-4F41-B95A-0C8D2F50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08EB3-F584-45E7-A86C-D047F479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CB5-0DFF-459E-A738-C016AB9C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965E5-E521-47BE-B2B5-BA95A41F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BD81F-E799-44FA-B97F-2086BE2E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B8581-6EBE-488F-AE82-8F42AD4F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AF06-7633-4865-84C6-2D0227F6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8BA3A-331D-48C0-8921-69B3F0C7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187B6-AFB6-467B-BB7B-8529A2E0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3E07E-603C-4CFA-AF03-AFF95BAB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A04D8-5D45-4C4D-8D14-78E1C141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678AA-E571-45DA-BC9F-D7F9D97E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01230-60C7-4A3F-B771-44E1E0FB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232-D944-4E6E-9297-35FDDF85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589FE-3622-49D2-85DA-C970A3F6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A84CA-1A85-46C2-B2B1-E562451A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9698-D78E-424D-AABD-21FC64BD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F203A-7A67-4E13-A861-2E1AE80D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F622B-D62A-43CC-9667-504D358D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ED1CE-8AC1-4EF2-8654-90916B5F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4323A-FD3D-4B0D-A44F-EF686FBC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B6FD0-AA8D-46DE-AA11-931672D6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DB5D1-FCD4-4479-A6DC-E0DE25ED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86D18-8926-45A6-9755-F66ACCED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865-0ACB-4725-9136-2541CCD5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264C9-8695-4BB6-B2FE-4B144C40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F251C-CACF-49F7-9E9F-63313487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08576-463C-4F46-A4A8-0888C9D9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FD076-36DE-4610-A1D2-A05CC7A6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039CF-831E-4F91-8C21-CAD33DD7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E6B9E-029F-42D0-9336-13976ADA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3340C-2A13-4CC8-ADF1-025DA75A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2B7D9-C6F2-456B-BE8E-C2FAA0A3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A6830-12E8-432F-8955-D5A2454B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1C727-DD8C-4167-B9BD-864E703C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2E3-59DE-4F27-8657-8EEDE11F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0F3A3-CB0E-4CAD-B49C-721E5F7D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2DF10-E279-43A0-8063-215D907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A23E1-5707-4AA4-A896-0F6A5EEA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7EA5C-5A4B-452D-A345-A554DA51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CB2CE-2A1A-40EA-BA7C-A8759AAB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338-B887-46F5-9244-619FE734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2D4FE-BDEF-4736-9EB0-60DD298D535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01908-21AE-4B87-B74B-CD9F02704DE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1417A-B09E-4FFE-9BB0-ED704F9E91D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1D40A-E7E0-49DF-93A7-0E0DF1D9A96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E2472-D569-47A8-80C6-D5EF1A223A8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787EC-CCED-4502-8FC8-CD9E39986B7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DA4F6-8FEF-4DC1-BA3B-EB08FA1E6E1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1081728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2800"/>
            </a:b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Форма №12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542600" y="2241720"/>
            <a:ext cx="10369800" cy="424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ВЕДЕНИЯ О ЧИСЛЕ ЗАБОЛЕВАНИЙ, ЗАРЕГИСТРИРОВАННЫХ У ПАЦИЕНТОВ, ПРОЖИВАЮЩИХ В РАЙОНЕ ОБСЛУЖИВАНИЯ МЕДИЦИНСКОЙ ОРГАНИЗАЦИИ </a:t>
            </a:r>
            <a:br>
              <a:rPr sz="2800"/>
            </a:br>
            <a:r>
              <a:rPr b="1" i="1" lang="ru-RU" sz="24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за  2016 год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Оськов Ю.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</a:t>
            </a:r>
            <a:r>
              <a:rPr b="1" lang="ru-RU" sz="1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ФГБУ «ЦНИИОИЗ» Минздрава России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г.Москва                                                                                                14 декабря 2016 г</a:t>
            </a:r>
            <a:r>
              <a:rPr b="1" lang="ru-RU" sz="1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484280" y="757080"/>
          <a:ext cx="10472760" cy="5905800"/>
        </p:xfrm>
        <a:graphic>
          <a:graphicData uri="http://schemas.openxmlformats.org/drawingml/2006/table">
            <a:tbl>
              <a:tblPr/>
              <a:tblGrid>
                <a:gridCol w="3060720"/>
                <a:gridCol w="581040"/>
                <a:gridCol w="779400"/>
                <a:gridCol w="677880"/>
                <a:gridCol w="677880"/>
                <a:gridCol w="754200"/>
                <a:gridCol w="920520"/>
                <a:gridCol w="922320"/>
                <a:gridCol w="719280"/>
                <a:gridCol w="619200"/>
                <a:gridCol w="760320"/>
              </a:tblGrid>
              <a:tr h="182880"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1 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агно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пансер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32400" rIns="3240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05-P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рубри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Прямоугольник 2"/>
          <p:cNvSpPr/>
          <p:nvPr/>
        </p:nvSpPr>
        <p:spPr>
          <a:xfrm>
            <a:off x="690480" y="217440"/>
            <a:ext cx="1097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50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378000"/>
            <a:ext cx="12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первого года жизн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, влияющие на состояние здоровья населения и обращения в 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6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432080" y="1467000"/>
          <a:ext cx="10523520" cy="4209840"/>
        </p:xfrm>
        <a:graphic>
          <a:graphicData uri="http://schemas.openxmlformats.org/drawingml/2006/table">
            <a:tbl>
              <a:tblPr/>
              <a:tblGrid>
                <a:gridCol w="5891040"/>
                <a:gridCol w="990720"/>
                <a:gridCol w="1380960"/>
                <a:gridCol w="1131840"/>
                <a:gridCol w="1128960"/>
              </a:tblGrid>
              <a:tr h="185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повто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для медицинского осмотра и об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00-Z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инфекционными болезн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20-Z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необходимостью проведения специфических процедур и получения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40-Z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, включающая исполь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абилитационных процед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51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социально-экономическими и психосоциальными обстоя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55-Z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 с личным или семейным анамнезом и определенными обстоятельствами, влияющими на здоров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80-Z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заболевания в семейном анамне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80-Z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глухота и потеря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7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Прямоугольник 6"/>
          <p:cNvSpPr/>
          <p:nvPr/>
        </p:nvSpPr>
        <p:spPr>
          <a:xfrm>
            <a:off x="1432080" y="5900760"/>
            <a:ext cx="105076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(16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 стр. 1.7.1.1. таблицы 1600: обследовано на выявление кондуктивной и нейросенсорной потери слуха   1 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4"/>
          <p:cNvSpPr/>
          <p:nvPr/>
        </p:nvSpPr>
        <p:spPr>
          <a:xfrm>
            <a:off x="1432080" y="1668600"/>
            <a:ext cx="10455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о новорожденных, поступивших под наблюдение данной организации   – всего  1  _________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432080" y="2536920"/>
          <a:ext cx="10540800" cy="1706400"/>
        </p:xfrm>
        <a:graphic>
          <a:graphicData uri="http://schemas.openxmlformats.org/drawingml/2006/table">
            <a:tbl>
              <a:tblPr/>
              <a:tblGrid>
                <a:gridCol w="5510160"/>
                <a:gridCol w="5030640"/>
              </a:tblGrid>
              <a:tr h="7318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8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смотрено новорожденных на 1 этапе аудиологического скрининга  1 _________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2 __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4 __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Rectangle 3"/>
          <p:cNvSpPr/>
          <p:nvPr/>
        </p:nvSpPr>
        <p:spPr>
          <a:xfrm>
            <a:off x="1432080" y="3816360"/>
            <a:ext cx="10523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9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_________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__________ ,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_____________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____________  ,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уковисцидоз   9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___________ .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0" y="-755640"/>
            <a:ext cx="12192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Таблица 2" descr=""/>
          <p:cNvPicPr/>
          <p:nvPr/>
        </p:nvPicPr>
        <p:blipFill>
          <a:blip r:embed="rId1"/>
          <a:stretch/>
        </p:blipFill>
        <p:spPr>
          <a:xfrm>
            <a:off x="1427040" y="1481040"/>
            <a:ext cx="1059984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0" y="-268920"/>
            <a:ext cx="12192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Таблица 2" descr=""/>
          <p:cNvPicPr/>
          <p:nvPr/>
        </p:nvPicPr>
        <p:blipFill>
          <a:blip r:embed="rId1"/>
          <a:stretch/>
        </p:blipFill>
        <p:spPr>
          <a:xfrm>
            <a:off x="1407960" y="890640"/>
            <a:ext cx="10638000" cy="43639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66640" y="5210280"/>
            <a:ext cx="105058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выявлено при диспансеризации определенных групп взрослого населения (гр. 12) – следует читать</a:t>
            </a:r>
            <a:r>
              <a:rPr b="0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выявлено при диспансеризации</a:t>
            </a:r>
            <a:br>
              <a:rPr sz="2200"/>
            </a:br>
            <a:r>
              <a:rPr b="0" lang="ru-RU" sz="1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из заболеваний с впервые в жизни установленным диагнозом (из гр. 10) юноши (гр. 13) –следует читать </a:t>
            </a:r>
            <a:r>
              <a:rPr b="0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заболеваний с впервые в жизни установленным диагнозом (из гр. 9) юноши </a:t>
            </a:r>
            <a:br>
              <a:rPr sz="2200"/>
            </a:br>
            <a:br>
              <a:rPr sz="1300"/>
            </a:br>
            <a:br>
              <a:rPr sz="13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1432080" y="2027160"/>
            <a:ext cx="10507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Число физических лиц зарегистрированных пациентов – всего  1 _______________, из них с диагнозом, установле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первые в жизни  2 _________________ ,   состоит под диспансерным наблюдением на конец отчет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года (из стр.1.0, гр. 15)  3 _____________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,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ередано под наблюдение во взрослую поликлинику  4 ______________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449280" y="-357480"/>
            <a:ext cx="11742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4. Взрослые 18 лет  и бо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3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467000" y="1467000"/>
          <a:ext cx="10507680" cy="4192560"/>
        </p:xfrm>
        <a:graphic>
          <a:graphicData uri="http://schemas.openxmlformats.org/drawingml/2006/table">
            <a:tbl>
              <a:tblPr/>
              <a:tblGrid>
                <a:gridCol w="3136680"/>
                <a:gridCol w="620640"/>
                <a:gridCol w="900360"/>
                <a:gridCol w="699840"/>
                <a:gridCol w="803520"/>
                <a:gridCol w="699840"/>
                <a:gridCol w="700200"/>
                <a:gridCol w="803160"/>
                <a:gridCol w="803520"/>
                <a:gridCol w="600120"/>
                <a:gridCol w="739800"/>
              </a:tblGrid>
              <a:tr h="23004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но  при  диспан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"/>
          <p:cNvSpPr/>
          <p:nvPr/>
        </p:nvSpPr>
        <p:spPr>
          <a:xfrm>
            <a:off x="708120" y="1158120"/>
            <a:ext cx="11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5. Взрослые старше трудоспособного возраста (с 55 лет у женщин и с 60 лет у мужч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4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432080" y="2001960"/>
          <a:ext cx="10523520" cy="3830400"/>
        </p:xfrm>
        <a:graphic>
          <a:graphicData uri="http://schemas.openxmlformats.org/drawingml/2006/table">
            <a:tbl>
              <a:tblPr/>
              <a:tblGrid>
                <a:gridCol w="3141360"/>
                <a:gridCol w="623880"/>
                <a:gridCol w="900360"/>
                <a:gridCol w="699840"/>
                <a:gridCol w="806760"/>
                <a:gridCol w="699840"/>
                <a:gridCol w="700200"/>
                <a:gridCol w="806400"/>
                <a:gridCol w="804960"/>
                <a:gridCol w="600120"/>
                <a:gridCol w="739800"/>
              </a:tblGrid>
              <a:tr h="21096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84280" y="1268280"/>
            <a:ext cx="1028232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5000)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исло студентов, подлежавших диспансеризации в отчетном году  1 _________,   число студентов, прошедших диспансеризацию в отчетном году  2 __________, выявлено у них заболеваний с диагнозом, установленным впервые в жизни – всего  3 _________, из них: взято под диспансерное наблюдение  4 ________ .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5100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филактические медицинские осмотры обучающихся в общеобразовательных организациях и профессиональных образовательных организациях, а также образовательных организациях высшего образования в целях раннего выявления незаконного потребления наркотических средств и психотропных веществ: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длежало осмотру  1 _____________,  осмотрено 2 ___________ .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879120" y="6445440"/>
            <a:ext cx="10209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320e04"/>
              </a:solidFill>
              <a:latin typeface="Corbel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0" y="4320"/>
            <a:ext cx="1219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6. Диспансеризация студентов выс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учеб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2215800"/>
            <a:ext cx="10351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афы в таблицах сопоставимы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909440" y="1544400"/>
            <a:ext cx="9875880" cy="29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Заболеваемость - важнейший показатель состояния обществен-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ного здоровья, характеризующий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</a:rPr>
              <a:t>распространенность, струк-</a:t>
            </a:r>
            <a:br>
              <a:rPr sz="2800"/>
            </a:br>
            <a:r>
              <a:rPr b="1" lang="ru-RU" sz="2800" spc="-1" strike="noStrike">
                <a:solidFill>
                  <a:srgbClr val="4b2203"/>
                </a:solidFill>
                <a:latin typeface="Times New Roman"/>
              </a:rPr>
              <a:t>туру и динамику зарегистрированных врачами болезней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 среди населения в целом или в отдельных его группах (возрас-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тных, половых, территориальных, профессиональных и др.) и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</a:rPr>
              <a:t>служащий одним из критериев оценки работы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 врача, меди-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цинской организации, органа здравоохранения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1720" y="691920"/>
            <a:ext cx="104727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тчет представляется в 2 разрезах: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00 – о заболеваниях всего населения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субъекта РФ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01 – о заболеваниях сельского  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населения субъекта РФ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28400" y="4508280"/>
            <a:ext cx="1050588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рещенные графоклетки не заполняютс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57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Городское население</a:t>
            </a:r>
            <a:br>
              <a:rPr sz="3600"/>
            </a:br>
            <a:r>
              <a:rPr b="0" lang="ru-RU" sz="3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Сельское населени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1720" y="274680"/>
            <a:ext cx="101502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оответствии с Указаниями по заполнению формы федерального статистического наблюдения №12</a:t>
            </a:r>
            <a:br>
              <a:rPr sz="4300"/>
            </a:br>
            <a:r>
              <a:rPr b="0" lang="ru-RU" sz="4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се таблицы формы заполняются по всем строкам и графам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480" y="6021000"/>
            <a:ext cx="1097280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97160" y="274320"/>
            <a:ext cx="1018512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rbel"/>
              </a:rPr>
              <a:t>ИСКЛЮЧЕНИЕ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480" y="5805000"/>
            <a:ext cx="1097280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97160" y="691920"/>
            <a:ext cx="10199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ключение:</a:t>
            </a:r>
            <a:br>
              <a:rPr sz="4300"/>
            </a:b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а 10.4.1.1 – </a:t>
            </a:r>
            <a:r>
              <a:rPr b="0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20.0 –</a:t>
            </a: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полняется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физическим лицам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афы 4 и 9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5877000"/>
            <a:ext cx="10972800" cy="2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346040" y="1052280"/>
            <a:ext cx="102362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203"/>
                </a:solidFill>
                <a:latin typeface="Corbel"/>
              </a:rPr>
              <a:t>ЗАПОЛНЕНИЕ ФОРМЫ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66640" y="360360"/>
            <a:ext cx="1031868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Форма федерального статистического наблюдения № 12 «Сведения о числе заболеваний, зарегистрированных у пациентов, проживающих в районе обслуживания медицинской организации», составляется всеми медицинскими организациями, входящие в номенклатуру медицинских организаций, оказывающие медицинскую помощь в амбулаторных условиях (приказ Минздрава России от 6 августа 2013 г. № 529н «Об утверждении номенклатуры медицинских организаций», зарегистрирован Министерством юстиции Российской Федерации 13.09.2013 № 29950), в соответствии с приказом от 21 июля 2016 года № 355 «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охраны здоровья» Федеральной службы государственной статистики. </a:t>
            </a:r>
            <a:br>
              <a:rPr sz="2200"/>
            </a:br>
            <a:br>
              <a:rPr sz="2200"/>
            </a:br>
            <a:br>
              <a:rPr sz="2500"/>
            </a:br>
            <a:r>
              <a:rPr b="0" lang="ru-RU" sz="25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</a:t>
            </a:r>
            <a:br>
              <a:rPr sz="1100"/>
            </a:b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96400" y="5552640"/>
            <a:ext cx="1036980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14080" y="274320"/>
            <a:ext cx="1054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ЕЕМСТВЕН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22520" y="274680"/>
            <a:ext cx="10247040" cy="58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сещение - это контакт пациента с врачом амбулаторно-поликлинического учреждения (подразделения) или стационара (без последующей госпитализации) по любому поводу с последующей записью в "Медицинской карте амбулаторного больного", включающей жалобы, анамнез, объективные данные, диагнозы с кодированием  их по МКБ-10, группу здоровья, данные обследования и динамического наблюдения, назначенное лечение, рекомендации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6948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и ведущая только консультативный прием (в основном областные учреждения), составляет форму 12 по соответствующим строкам лишь в том случае, если в данной организации у пациентов не только выявляются эти заболевания, но и осуществляется их лечение, а также и диспансерное наблюдение за пациентами.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В остальных случаях они обязаны всю информацию о больном передать в медицинскую организацию по месту жительства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 flipV="1">
            <a:off x="8504280" y="3610800"/>
            <a:ext cx="1309680" cy="320760"/>
          </a:xfrm>
          <a:prstGeom prst="rect">
            <a:avLst/>
          </a:prstGeom>
          <a:solidFill>
            <a:srgbClr val="f2f2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40160" y="258840"/>
          <a:ext cx="7111800" cy="198360"/>
        </p:xfrm>
        <a:graphic>
          <a:graphicData uri="http://schemas.openxmlformats.org/drawingml/2006/table">
            <a:tbl>
              <a:tblPr/>
              <a:tblGrid>
                <a:gridCol w="7111800"/>
              </a:tblGrid>
              <a:tr h="1983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540160" y="533520"/>
          <a:ext cx="7111800" cy="244440"/>
        </p:xfrm>
        <a:graphic>
          <a:graphicData uri="http://schemas.openxmlformats.org/drawingml/2006/table">
            <a:tbl>
              <a:tblPr/>
              <a:tblGrid>
                <a:gridCol w="7111800"/>
              </a:tblGrid>
              <a:tr h="24444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2381400" y="884160"/>
          <a:ext cx="7540560" cy="838440"/>
        </p:xfrm>
        <a:graphic>
          <a:graphicData uri="http://schemas.openxmlformats.org/drawingml/2006/table">
            <a:tbl>
              <a:tblPr/>
              <a:tblGrid>
                <a:gridCol w="7540560"/>
              </a:tblGrid>
              <a:tr h="8384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1992 № 2761-1 “Об ответственности за нарушение порядка представления государственной статистической отчетности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32" name="Rectangle 1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540160" y="1722600"/>
          <a:ext cx="7111800" cy="198360"/>
        </p:xfrm>
        <a:graphic>
          <a:graphicData uri="http://schemas.openxmlformats.org/drawingml/2006/table">
            <a:tbl>
              <a:tblPr/>
              <a:tblGrid>
                <a:gridCol w="7111800"/>
              </a:tblGrid>
              <a:tr h="1983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2031840" y="2027160"/>
          <a:ext cx="8128080" cy="487440"/>
        </p:xfrm>
        <a:graphic>
          <a:graphicData uri="http://schemas.openxmlformats.org/drawingml/2006/table">
            <a:tbl>
              <a:tblPr/>
              <a:tblGrid>
                <a:gridCol w="1528920"/>
                <a:gridCol w="5308560"/>
                <a:gridCol w="1290600"/>
              </a:tblGrid>
              <a:tr h="48744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ВЕДЕНИЯ О ЧИСЛЕ ЗАБОЛЕВАНИЙ, ЗАРЕГИСТРИРОВАННЫХ У ПАЦИЕНТОВ, ПРОЖИВАЮЩИХ В РАЙОНЕ ОБСЛУЖИВАНИЯ МЕДИЦИНСКОЙ ОРГАНИЗАЦИИ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2016000" y="2590920"/>
          <a:ext cx="8128080" cy="2193840"/>
        </p:xfrm>
        <a:graphic>
          <a:graphicData uri="http://schemas.openxmlformats.org/drawingml/2006/table">
            <a:tbl>
              <a:tblPr/>
              <a:tblGrid>
                <a:gridCol w="4339440"/>
                <a:gridCol w="1736280"/>
                <a:gridCol w="115200"/>
                <a:gridCol w="1937160"/>
              </a:tblGrid>
              <a:tr h="1411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Форма № 1</a:t>
                      </a:r>
                      <a:r>
                        <a:rPr b="1" lang="en-US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юридические лица - медицинские организации, оказывающие медицинскую помощь в амбулаторных условиях и медицинские организации, имеющие подразделения, оказывающие медицинскую помощь в амбулаторных условия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- органу местного самоуправления, осуществляющему полномочия  в сфере охраны здоровь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рганы местного самоуправления, осуществляющие полномочия  в сфере охраны здоровь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- органу исполнительной власти субъекта Российской Федерации, осуществляющему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лномочия  в сфере охраны здоровь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рганы исполнительной власти субъекта Российской Федерации, осуществляющие полномочия в сфере охраны здоровь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- Министерству здравоохранения Российской Федер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- территориальному органу Росстата в субъекте Российской Федерации по установленному им адрес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0 январ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о 20 февра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о 5 мар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5 мар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риказ Росстата: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б утверждении формы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 21.07.2016 № 3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986120" y="4846680"/>
          <a:ext cx="9039240" cy="1814400"/>
        </p:xfrm>
        <a:graphic>
          <a:graphicData uri="http://schemas.openxmlformats.org/drawingml/2006/table">
            <a:tbl>
              <a:tblPr/>
              <a:tblGrid>
                <a:gridCol w="974520"/>
                <a:gridCol w="2687760"/>
                <a:gridCol w="2687400"/>
                <a:gridCol w="2689560"/>
              </a:tblGrid>
              <a:tr h="216000">
                <a:tc gridSpan="4"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4"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060934</a:t>
                      </a:r>
                      <a:r>
                        <a:rPr b="0" lang="en-US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66640" y="414360"/>
            <a:ext cx="10420200" cy="60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ного эпикриза". При этом если пациент пришел на прием, то в Талоне производится отметка о регистрации всех заболеваний для включения этих сведений в форму федерального статистического наблюдения № 12 и вносится отметка о посещении. Если пациент на прием не пришел, то в Талоне регистрируются все заболевания без отметки о посещении.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В Талоне также должно быть зарегистрировано обращение по поводу заболевания, включающее в себя одно или несколько посещений, в результате которых цель обращения достигнута.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При заполнении Талона врач также делает отметки о дате впервые выявленного основного и сопутствующих заболеваний, взятии и снятии с диспансерного учета. Эта данные необходимы для заполнения формы федерального статистического наблюдения № 12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исьма Министерства здравоохранения Российской Федерации: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т 26 апреля 2011 г. № 14-9/10/2-4150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т 14 марта 2013 г. № 13-7/10/2-1691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казания по заполнению формы 12 за 1991 год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14480" y="914040"/>
            <a:ext cx="999648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о отдельным узким специальностям – включаются сведения о всех случаях зарегистрированных заболеваний у больных и обо всех больных, состоящих под диспансерным наблюдением, проживающих не только на территории, закрепленной для обслуживания за данной медицинской организацией в целом, но и на территории, закрепленной за отдельными специалистами, которая может быть шире и охватывать территорию обслуживания других поликлиник, если они не имеют в своих штатах соответствующих специалистов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84280" y="274320"/>
            <a:ext cx="1038528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форму не включают сведения о заболеваниях с кодами по МКБ-10, отмеченных  звездочкой (*)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 Форму включают один раз в год сведения об основном, фоновом, конкурирующем и сопутствующем заболеваниях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ведения об осложнениях основного и других заболеваний в Форму не включают</a:t>
            </a:r>
            <a:br>
              <a:rPr sz="2800"/>
            </a:br>
            <a:br>
              <a:rPr sz="40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ри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 хронические заболевания, а не их острые формы</a:t>
            </a:r>
            <a:br>
              <a:rPr sz="40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34680" y="1197000"/>
            <a:ext cx="10317240" cy="32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циенты, имеющие два и более заболевания, показываются по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соответствующим строкам по числу выявленных и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зарегистрированных заболеваний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828440" y="6065280"/>
            <a:ext cx="8534520" cy="2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orbel"/>
              </a:rPr>
              <a:t>     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Corbel"/>
              </a:rPr>
              <a:t>        </a:t>
            </a:r>
            <a:r>
              <a:rPr b="0" lang="ru-RU" sz="2800" spc="-1" strike="noStrike">
                <a:solidFill>
                  <a:srgbClr val="4b2203"/>
                </a:solidFill>
                <a:latin typeface="Corbel"/>
              </a:rPr>
              <a:t>Ф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орма 12 должна совпадать со специализированными формами по количеству зарегистрированных заболеваний. Движение диспансерных групп в данных формах совпадает с движением диспансерных групп в форме 12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1720" y="620640"/>
            <a:ext cx="10334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ы 1000, 2000, 3000, 4000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пациентов впервые в жизни и повторно один  раз в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году (+ и -)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5 – в возрасте 0-4 года, из графы 4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6 – в возрасте 5-9 лет, из графы 4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при этом графа 4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графам 5+6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в течение года, из графы 4 «всего» (+ и -)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пациентов впервые в жизни (+),  из графы 4 </a:t>
            </a:r>
            <a:br>
              <a:rPr sz="28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84280" y="274680"/>
            <a:ext cx="10098000" cy="59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0 - взято под диспансерное наблюдение 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в течение года (+) , из графы 9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1 – выявлено при профосмотре, из графы 9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2 – выявлено  при  диспансеризации определенных групп  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взрослого населения, из графы 9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аблице 2000 - выявлено  при  диспансеризации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4 – снято с диспансерного наблюдения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5 – состоит под диспансерным наблюдением на конец    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отчетного года 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ы 7,13,16 - в таблице 2000 – все данные о юношах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01920" y="845640"/>
            <a:ext cx="1045368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сс 9. «Болезни системы кровообращения» 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9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828440" y="6208920"/>
            <a:ext cx="85345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49000" y="810720"/>
            <a:ext cx="10455480" cy="60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сс 9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Продолжительность стенокардии в МКБ-10 не определена, поэтому стенокардия (таблицы 2000, 3000 и 4000, строка 10.4.1) регистрируется как самостоятельное заболевание, впервые выявленное – первый раз в жизни, а затем – один раз в год со знаком (–).  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br>
              <a:rPr sz="2800"/>
            </a:br>
            <a:br>
              <a:rPr sz="2800"/>
            </a:br>
            <a:br>
              <a:rPr sz="1800"/>
            </a:b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1600"/>
            </a:b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828440" y="6524280"/>
            <a:ext cx="8534520" cy="73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1720" y="441360"/>
            <a:ext cx="101502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зделы формы №12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. Дети (0-14 лет включительно) – таблица 1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. Дети первого года жизни – таблица 15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Дети  (15-17 лет включительно) – таблица 2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4. Взрослые 18 лет  и старше - таблица 3000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5. Взрослые старше трудоспособного возраста (с 55 лет у женщин и с 60 лет у мужчин) – таблица 4000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6. Диспансеризация студентов высших учебных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учреждений </a:t>
            </a:r>
            <a:br>
              <a:rPr sz="1600"/>
            </a:b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67000" y="836280"/>
            <a:ext cx="101152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203"/>
                </a:solidFill>
                <a:latin typeface="Corbe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203"/>
                </a:solidFill>
                <a:latin typeface="Corbel"/>
              </a:rPr>
              <a:t>  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ациенты с острыми, повторными инфарктами миокарда и острыми нарушениями мозгового кровообращения наблюдаются в течение 28-30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87240" y="549360"/>
            <a:ext cx="988524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сс 9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В строке 10.6.7 заполняются графы 4, 9 и они равны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828440" y="5298120"/>
            <a:ext cx="853452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200240" y="1052280"/>
            <a:ext cx="9983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10. «Болезни органов дыхания</a:t>
            </a:r>
            <a:r>
              <a:rPr b="1" lang="ru-RU" sz="3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 таблице 1500 показываются дети которые заболели пневмонией во второй половине  первого года жизн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17760" y="1501560"/>
            <a:ext cx="1031688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вторно возникающие в течение года острые пневмонии, острая ревматическая лихорадка, острые и повторные инфаркты миокарда, острые нарушения мозгового кровообращения регистрируются как острые (со знаком  +)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По этим строкам графы 4 и 9 таблиц 1000, 2000, 3000 и 4000 равны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828440" y="6208920"/>
            <a:ext cx="85345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52320" y="896400"/>
            <a:ext cx="104202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17. «Отдельные состояния, возникающие в перинатальном периоде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У детей, регистрируются как острые (таблица 1000, графа 4 должна быть равна графе 9), дети наблюдаются в течение 1 месяца, поэтому в графе 15 на конец отчетного периода показы-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ают только тех детей, у которых эти состояния развились в декабре месяце. </a:t>
            </a:r>
            <a:br>
              <a:rPr sz="2800"/>
            </a:br>
            <a:br>
              <a:rPr sz="2200"/>
            </a:br>
            <a:br>
              <a:rPr sz="21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569600" y="5865840"/>
            <a:ext cx="101617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320e04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72920" y="654120"/>
            <a:ext cx="10099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17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Строка 17.0 (таблиц 2000 и 3000) заполняется только в случаях перинатальной смертности и касается состояния здоровья матери. В этих случаях состояния матери кодируются кодами Р00-Р04, а не кодами </a:t>
            </a:r>
            <a:r>
              <a:rPr b="0" lang="en-US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XV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класса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-40680"/>
            <a:ext cx="109728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517400" y="1196640"/>
            <a:ext cx="10434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18. «Симптомы, признаки и отклонения от нормы, выявленные при клинических и лабораторных исследованиях, не классифицированные в других рубриках».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остояния из 18 класса (стр. 19.0), как правило, не должны регистрироваться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78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«Состояния, входящие в стр. 19.0 (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XVIII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класс МКБ-10), как правило, не должны регистрироваться (могут быть единичные случаи, когда не было возможности установить диагноз заболевания), и на учет не берутся».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Наблюдение по поводу бессимптомного инфекционного статуса, вызванного ВИЧ, кодируется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21, а не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75, и включается в таблицы 1100, 2100, 3100 и 4100, а не в строку 19.0!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Ребенок, рожденный от ВИЧ-инфицированной матери подлежит обследованию. Если тест положительный, ребенок обследован и заболевание установлено, код В20 – В24. Если ребенок обследован и требуется наблюдение и дальнейшее обследование (неоконченный тест на ВИЧ), показывается ребенок в таб.1100 по Z-классу.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Наблюдение при подозрениях на какое-либо заболевание кодируется рубрикой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03: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- на туберкулез –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03.0;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- на ВИЧ-инфекцию, сахарный диабет –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03.8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Эти состояния включаются в таблицы 1100, 2100, 3100 и 4100, а не в строку 19.0!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Результаты проведенных анализов, исследований, проб и т.д. (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73,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75 и т.д.)  кодируются в классе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XVIII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, в строку 19.0 не включаются и на учет не берутся!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83920" y="811080"/>
            <a:ext cx="104886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Графа 4 и 9 могут быть не равны, в случае наличия вибрационной болезни, терапевтически и хирургических последствий и травм лечение, которых превышает года.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следствия травм относятся к 19 классу и кодируются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дами Т90-Т98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828440" y="5298120"/>
            <a:ext cx="853452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66640" y="1017360"/>
            <a:ext cx="991044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       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   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екоторые острые заболевания и состояния (острый отит, острый миокардит, острые респираторные инфекции верхних и нижних дыхательных путей, грипп, а также травмы, за исключением последствий и др.) регистрируются столько раз, сколько они возникают в течение отчетного года. При этом графа 4 должна быть равна графе 9 по соответствующим строкам таблиц 1000, 2000, 3000 и 4000. Это не относится к тем заболеваниям, при которых острые формы могут переходить в хронические. При обострении хронических заболеваний регистрируют эти хронические заболевания, а не их острые формы.</a:t>
            </a:r>
            <a:br>
              <a:rPr sz="2200"/>
            </a:b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828440" y="6246000"/>
            <a:ext cx="85345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9440" y="360000"/>
            <a:ext cx="98758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ЗМЕНЕНИЯ В ФОРМ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564920" y="2069640"/>
            <a:ext cx="9448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-40680"/>
            <a:ext cx="109728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87160" y="1197000"/>
            <a:ext cx="85453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21 декабря 2012 г. № 1344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6 декабря 2012 г. № 1011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30 ноября 2009 г. № 93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12 июля 2013 г. № 45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11 апреля 2013 г. № 216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3 марта 2011 г. № 163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15 февраля 2013 г. № 72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31 января 2012 г. № 70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4 февраля 2010 г. № 55н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3 февраля 2015 г. № 36а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21 декабря 2012 г. № 1346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Дети первого года жизни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ы 1500, 1600, 1650 заполняются с 01 января 2015 года по 31 декабря 2016 года 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ети, которым исполнился год, начиная с 01 января 2016 года - они входят в отчет данный отчет, соответственно все заболевания, которые были зарегистрированы с 01 января 2015 года)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ы 1700, 1800, 1900 заполняются с 01 января по 31 декабря 2016 года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1535040" y="757080"/>
          <a:ext cx="10153800" cy="5916600"/>
        </p:xfrm>
        <a:graphic>
          <a:graphicData uri="http://schemas.openxmlformats.org/drawingml/2006/table">
            <a:tbl>
              <a:tblPr/>
              <a:tblGrid>
                <a:gridCol w="2968560"/>
                <a:gridCol w="561960"/>
                <a:gridCol w="755640"/>
                <a:gridCol w="657360"/>
                <a:gridCol w="657360"/>
                <a:gridCol w="731880"/>
                <a:gridCol w="892080"/>
                <a:gridCol w="893880"/>
                <a:gridCol w="698400"/>
                <a:gridCol w="598320"/>
                <a:gridCol w="738360"/>
              </a:tblGrid>
              <a:tr h="182880"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о 1 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иагно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испансер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32400" rIns="3240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P05-P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рубри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Прямоугольник 2"/>
          <p:cNvSpPr/>
          <p:nvPr/>
        </p:nvSpPr>
        <p:spPr>
          <a:xfrm>
            <a:off x="690480" y="217440"/>
            <a:ext cx="1097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150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17400" y="274680"/>
            <a:ext cx="1033452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а 1500 заполняется на детей, которым в 2016 году исполнился год. Соответственно данная таблица заполняется с 01 января 2015 года по 31 декабря 2016 года. Медицинская органи-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ция включает в таблицу 1500 информацию о заболеваниях заре-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истрированных  у детей, которым 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мент проживания на дан-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й территории исполнился год.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Графа 4 равна графе 9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84280" y="274680"/>
            <a:ext cx="1043784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графе 5 таблицы 1500 представляется информация о заболеваниях детей первого месяца жизни из графы 4 (заболевания детей первого года жизни - всего)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В графе 14 представляется информация о 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ыздоровевших и умерших.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ехавшие дети не учитываются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В графе 15 представляется информация о детях состоящих под диспансерном  наблюдением по заболеванию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170280"/>
            <a:ext cx="12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Дети первого года жизн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Факторы, влияющие на состояние здоровья населения и обращения в 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16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501920" y="1233360"/>
          <a:ext cx="10437840" cy="3942000"/>
        </p:xfrm>
        <a:graphic>
          <a:graphicData uri="http://schemas.openxmlformats.org/drawingml/2006/table">
            <a:tbl>
              <a:tblPr/>
              <a:tblGrid>
                <a:gridCol w="5843520"/>
                <a:gridCol w="982440"/>
                <a:gridCol w="1368720"/>
                <a:gridCol w="1122120"/>
                <a:gridCol w="112104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бра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повто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для медицинского осмотра и об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00-Z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инфекционными болезн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20-Z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необходимостью проведения специфических процедур и получения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40-Z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мощь, включающая исполь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реабилитационных процед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51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социально-экономическими и психосоциальными обстоя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55-Z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 с личным или семейным анамнезом и определенными обстоятельствами, влияющими на здоров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80-Z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заболевания в семейном анамне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80-Z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глухота и потеря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7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Прямоугольник 6"/>
          <p:cNvSpPr/>
          <p:nvPr/>
        </p:nvSpPr>
        <p:spPr>
          <a:xfrm>
            <a:off x="1484280" y="5472000"/>
            <a:ext cx="1043784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16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611617"/>
                </a:solidFill>
                <a:latin typeface="Arial"/>
              </a:rPr>
              <a:t>Из стр. 1.7.1.1. таблицы 1600: обследовано на выявление кондуктивной и нейросенсорной поте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611617"/>
                </a:solidFill>
                <a:latin typeface="Arial"/>
              </a:rPr>
              <a:t>слуха   1 ___________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4"/>
          <p:cNvSpPr/>
          <p:nvPr/>
        </p:nvSpPr>
        <p:spPr>
          <a:xfrm>
            <a:off x="1517760" y="1668600"/>
            <a:ext cx="101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Arial"/>
              </a:rPr>
              <a:t>(1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611617"/>
                </a:solidFill>
                <a:latin typeface="Arial"/>
              </a:rPr>
              <a:t>Число новорожденных, поступивших под наблюдение данной организации   – всего  1  _________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501920" y="2536920"/>
          <a:ext cx="10690200" cy="1706400"/>
        </p:xfrm>
        <a:graphic>
          <a:graphicData uri="http://schemas.openxmlformats.org/drawingml/2006/table">
            <a:tbl>
              <a:tblPr/>
              <a:tblGrid>
                <a:gridCol w="5141880"/>
                <a:gridCol w="5548320"/>
              </a:tblGrid>
              <a:tr h="7318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(18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смотрено новорожденных на 1 этапе аудиологического скрининга  1 _________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2 __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4 __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Rectangle 3"/>
          <p:cNvSpPr/>
          <p:nvPr/>
        </p:nvSpPr>
        <p:spPr>
          <a:xfrm>
            <a:off x="1517760" y="4070880"/>
            <a:ext cx="10231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19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_________ 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__________ ,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_____________ </a:t>
            </a: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____________  ,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муковисцидоз   9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___________ .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4680" y="1052280"/>
            <a:ext cx="103698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Ы 1100,  1600, 2100, 3100,4100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Источником информации для заполнения таблиц 1100,  1600, 2100, 3100 и 4100 служит «Талон пациента, получающего медици-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скую помощь в амбулаторных условиях»(учетная форма 025-1/у)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828440" y="5225400"/>
            <a:ext cx="85345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10"/>
          <p:cNvSpPr/>
          <p:nvPr/>
        </p:nvSpPr>
        <p:spPr>
          <a:xfrm>
            <a:off x="1517760" y="907920"/>
            <a:ext cx="1042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ТАЛОН ПАЦИЕНТА, ПОЛУЧАЮЩЕГО МЕДИЦИНСКУЮ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 АМБУЛАТОРНЫХ УСЛОВИЯХ, № 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1. Посещения: по заболеваниям (коды А00-Т98) - 1, из них: в неотложной форме - 1.1;  активное посещение - 1.2; диспансерное наблюдение-1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 профилактической целью (коды </a:t>
            </a:r>
            <a:r>
              <a:rPr b="0" lang="en-US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00-</a:t>
            </a:r>
            <a:r>
              <a:rPr b="0" lang="en-US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99) – 2: медицинский осмотр - 2.1;  диспансеризация - 2.2; комплексный медицинский осмотр - 2.3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аллиативная медицинская помощь - 2.4;  патронаж - 2.5; другие обстоятельства - 2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2. Обращение (цель): по заболеванию (коды А00-Т98) – 1, с профилактической целью (коды </a:t>
            </a:r>
            <a:r>
              <a:rPr b="0" lang="en-US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00-</a:t>
            </a:r>
            <a:r>
              <a:rPr b="0" lang="en-US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99)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3. Обращение (законченный случай лечения): да – 1; нет – 2   24. Обращение: первичное – 1, повторное –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5. Результат обращения: выздоровление – 1, без изменения – 2, улучшение – 3, ухудшение – 4, летальный исход – 5, дано напра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на госпитализацию – 6, из них: по  экстренным показаниям – 7, в дневной стационар – 8, на обследование – 9, на консультацию – 1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на санаторно-курортное лечение – 1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432080" y="1447920"/>
          <a:ext cx="10540800" cy="4389480"/>
        </p:xfrm>
        <a:graphic>
          <a:graphicData uri="http://schemas.openxmlformats.org/drawingml/2006/table">
            <a:tbl>
              <a:tblPr/>
              <a:tblGrid>
                <a:gridCol w="2844720"/>
                <a:gridCol w="695160"/>
                <a:gridCol w="895320"/>
                <a:gridCol w="595440"/>
                <a:gridCol w="598320"/>
                <a:gridCol w="695520"/>
                <a:gridCol w="696960"/>
                <a:gridCol w="696960"/>
                <a:gridCol w="695160"/>
                <a:gridCol w="684360"/>
                <a:gridCol w="645840"/>
                <a:gridCol w="797040"/>
              </a:tblGrid>
              <a:tr h="25056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ctangle 1"/>
          <p:cNvSpPr/>
          <p:nvPr/>
        </p:nvSpPr>
        <p:spPr>
          <a:xfrm flipV="1" rot="10800000">
            <a:off x="-360" y="567000"/>
            <a:ext cx="1219212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4b2203"/>
              </a:buClr>
              <a:buFont typeface="Times New Roman"/>
              <a:buAutoNum type="arabicPeriod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Дети (0-14 лет включи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4b2203"/>
              </a:buClr>
              <a:buFont typeface="Times New Roman"/>
              <a:buAutoNum type="arabicPeriod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1000) </a:t>
            </a:r>
            <a:r>
              <a:rPr b="1" lang="ru-RU" sz="1200" spc="-1" strike="noStrike">
                <a:solidFill>
                  <a:srgbClr val="4b2203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b2203"/>
                </a:solidFill>
                <a:latin typeface="Arial"/>
                <a:ea typeface="Times New Roman"/>
              </a:rPr>
              <a:t>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17400" y="475920"/>
            <a:ext cx="10007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рядок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полнения учетной формы 025-1/у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Талон пациента, получающего медицинскую помощь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амбулаторных условиях»</a:t>
            </a:r>
            <a:br>
              <a:rPr sz="18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552320" y="1915920"/>
            <a:ext cx="10402920" cy="4321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ункт 23</a:t>
            </a: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. Обращение как законченный случай представляет собой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- при первичной врачебной медико-санитарной помощи и первичной специализированной медико-санитарной помощи - это одно обращение и одно или несколько посещений пациента(ки), в результате которых цель обращения достигнута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- при паллиативной медицинской помощи - это одно обращение пациента(ки) и одно (разовое) посещение, при котором цель обращения достигнут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Если цель обращения достигнута не была, случай отмечают как не законченный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ункте 24</a:t>
            </a: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отмечают первичное или повторное в текущем календарном году обращение пациента(ки) с одной и той же целью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22160" y="1915920"/>
            <a:ext cx="102121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бязательно проводить внутриформенный, межформенный и межгодовой контроли. </a:t>
            </a:r>
            <a:br>
              <a:rPr sz="2900"/>
            </a:b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828440" y="5262480"/>
            <a:ext cx="85345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14120" y="274680"/>
            <a:ext cx="9293400" cy="62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ля проверки формы 12 по разрезам 00 и 01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окне  КОНТРОЛИ есть новое кнопка КОНТРОЛЬ ДЛЯ ФОРМ С РАЗРЕЗОМ 00-01, межформенный контроль по ф12 проводите через данное окно. Перед началом контро-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я в окне РАЗРЕЗ ФОРМЫ необходимо поставить разрез 00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нутриформенный контроль таблицы 2000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«с впервые в жизни …» (гр.9) – «из заболеваний … юноши» (гр.13) = «девушки впервые»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Итого: «всего девушки» - «девушки впервые» - не должно быть отрицательных значений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87600" y="378000"/>
            <a:ext cx="10368000" cy="58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жгодовой контроль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вижение диспансерной группы: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графа 13 таблиц 1000,2000,3000,4000 за 2015 год + графа 8 таблиц 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1000,2000,3000,4000 за 2016 год – графа 14 таблиц 1000,2000,3000,4000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за 2016 год = графе 15 таблиц 1000,2000,3000,4000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Таблица 1500  - диспансерная группа на начало года всегда имеет 0.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914480" y="2277720"/>
            <a:ext cx="87472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17200" y="274680"/>
            <a:ext cx="10193400" cy="60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острым заболеваниям по которым динамическое наблюдение не устанавливается (ОРВИ и др.) графа взятия на Д-учет не заполняется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Постинфарктный кардиосклероз» - диагноз устанавливается через четыре недели после острого инфаркта миокарда, на основании жалоб пациента, осмотра и дополнительного обследования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31600" y="274320"/>
            <a:ext cx="101790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кусы клеща  - Т14.0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1069524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РОКИ 10.6.1 - 10.6.4 </a:t>
            </a:r>
            <a:br>
              <a:rPr sz="28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трые нарушения мозгового кровообращения – всегда первичные (+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афа 4 равна графе 9. С данным диагнозом больные подлежат диспансерному наблюдению на протяжении 30 дней от момента начальных проявлений или более в пределах одного случая лечения. В дальнейшем диспансерное наблюдение осуществляется по последствиям инсульта — парезы, параличи, энцефалопатия, речевые нарушения и т.д.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1379520" y="822240"/>
          <a:ext cx="10490040" cy="5499360"/>
        </p:xfrm>
        <a:graphic>
          <a:graphicData uri="http://schemas.openxmlformats.org/drawingml/2006/table">
            <a:tbl>
              <a:tblPr/>
              <a:tblGrid>
                <a:gridCol w="2830680"/>
                <a:gridCol w="693720"/>
                <a:gridCol w="888840"/>
                <a:gridCol w="593640"/>
                <a:gridCol w="594000"/>
                <a:gridCol w="691920"/>
                <a:gridCol w="693720"/>
                <a:gridCol w="693720"/>
                <a:gridCol w="690840"/>
                <a:gridCol w="682560"/>
                <a:gridCol w="644400"/>
                <a:gridCol w="792000"/>
              </a:tblGrid>
              <a:tr h="21024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дреногенитальные расстр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х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5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жир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E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фенилкетону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7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рушения обмена галакт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(галактозем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7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болезнь Го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E7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рушения обмена гликозаминогликанов (мукополисахаридоз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муковисц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E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35120" y="274680"/>
            <a:ext cx="10275840" cy="60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ребральный паралич (G80-G83) – используется, как основное заболевание и кодируется кодом последствий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дирование заболевания, если пациент умер, будет зависеть даты смерти от начала заболеван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д 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69 используется только в случае смерти больного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735280" y="720720"/>
            <a:ext cx="6721560" cy="907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КОДИРОВАНИЕ ОСТ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ЦЕРЕБРОВАСКУЛЯРНЫХ БОЛЕЗ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И И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"/>
          <p:cNvSpPr/>
          <p:nvPr/>
        </p:nvSpPr>
        <p:spPr>
          <a:xfrm>
            <a:off x="2973240" y="1685880"/>
            <a:ext cx="481320" cy="303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4"/>
          <p:cNvSpPr/>
          <p:nvPr/>
        </p:nvSpPr>
        <p:spPr>
          <a:xfrm>
            <a:off x="1776240" y="2030400"/>
            <a:ext cx="2880000" cy="139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"/>
          <p:cNvSpPr/>
          <p:nvPr/>
        </p:nvSpPr>
        <p:spPr>
          <a:xfrm>
            <a:off x="6095880" y="1857240"/>
            <a:ext cx="480960" cy="1211400"/>
          </a:xfrm>
          <a:prstGeom prst="downArrow">
            <a:avLst>
              <a:gd name="adj1" fmla="val 50000"/>
              <a:gd name="adj2" fmla="val 99781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8977320" y="1685880"/>
            <a:ext cx="479520" cy="303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7"/>
          <p:cNvSpPr/>
          <p:nvPr/>
        </p:nvSpPr>
        <p:spPr>
          <a:xfrm>
            <a:off x="8015400" y="2216160"/>
            <a:ext cx="2400120" cy="987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1776240" y="2349360"/>
            <a:ext cx="28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ЦИЕНТЫ, НАХОДЯЩИЕСЯ ПОД НАБЛЮДЕНИЕМ И СЛУЧАИ ЛЕТАЛЬНОГО ИСХОДА В СРОКИ ДО 30 СУ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8015400" y="2478240"/>
            <a:ext cx="2400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ЛУЧАИ ЛЕТАЛЬНОГО ИСХОДА В СРОКИ 30 СУТО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0"/>
          <p:cNvSpPr/>
          <p:nvPr/>
        </p:nvSpPr>
        <p:spPr>
          <a:xfrm>
            <a:off x="1776240" y="3189240"/>
            <a:ext cx="479520" cy="477720"/>
          </a:xfrm>
          <a:prstGeom prst="downArrow">
            <a:avLst>
              <a:gd name="adj1" fmla="val 50000"/>
              <a:gd name="adj2" fmla="val 3314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1"/>
          <p:cNvSpPr/>
          <p:nvPr/>
        </p:nvSpPr>
        <p:spPr>
          <a:xfrm>
            <a:off x="9936000" y="3125880"/>
            <a:ext cx="479520" cy="303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2"/>
          <p:cNvSpPr/>
          <p:nvPr/>
        </p:nvSpPr>
        <p:spPr>
          <a:xfrm>
            <a:off x="814320" y="3666960"/>
            <a:ext cx="2400480" cy="12020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3"/>
          <p:cNvSpPr/>
          <p:nvPr/>
        </p:nvSpPr>
        <p:spPr>
          <a:xfrm>
            <a:off x="8977320" y="3429000"/>
            <a:ext cx="2400120" cy="107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4"/>
          <p:cNvSpPr/>
          <p:nvPr/>
        </p:nvSpPr>
        <p:spPr>
          <a:xfrm>
            <a:off x="9456840" y="3789360"/>
            <a:ext cx="143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5"/>
          <p:cNvSpPr/>
          <p:nvPr/>
        </p:nvSpPr>
        <p:spPr>
          <a:xfrm>
            <a:off x="8977320" y="3643200"/>
            <a:ext cx="24001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6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соответствующими четвертыми зна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6"/>
          <p:cNvSpPr/>
          <p:nvPr/>
        </p:nvSpPr>
        <p:spPr>
          <a:xfrm>
            <a:off x="814320" y="3789360"/>
            <a:ext cx="24004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Д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60-I6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соответствующими четвертыми зна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ilecab2"/>
          <p:cNvSpPr/>
          <p:nvPr/>
        </p:nvSpPr>
        <p:spPr>
          <a:xfrm>
            <a:off x="4656240" y="3233880"/>
            <a:ext cx="3359160" cy="879480"/>
          </a:xfrm>
          <a:custGeom>
            <a:avLst/>
            <a:gdLst>
              <a:gd name="textAreaLeft" fmla="*/ 155880 w 3359160"/>
              <a:gd name="textAreaRight" fmla="*/ 3194640 w 3359160"/>
              <a:gd name="textAreaTop" fmla="*/ 20520 h 879480"/>
              <a:gd name="textAreaBottom" fmla="*/ 804960 h 879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0"/>
                </a:lnTo>
                <a:lnTo>
                  <a:pt x="0" y="10800"/>
                </a:lnTo>
                <a:lnTo>
                  <a:pt x="0" y="20367"/>
                </a:lnTo>
                <a:lnTo>
                  <a:pt x="5807" y="20367"/>
                </a:lnTo>
                <a:lnTo>
                  <a:pt x="5807" y="20637"/>
                </a:lnTo>
                <a:lnTo>
                  <a:pt x="5970" y="20818"/>
                </a:lnTo>
                <a:lnTo>
                  <a:pt x="6133" y="20968"/>
                </a:lnTo>
                <a:lnTo>
                  <a:pt x="6404" y="21239"/>
                </a:lnTo>
                <a:lnTo>
                  <a:pt x="6567" y="21419"/>
                </a:lnTo>
                <a:lnTo>
                  <a:pt x="7055" y="21510"/>
                </a:lnTo>
                <a:lnTo>
                  <a:pt x="7544" y="21600"/>
                </a:lnTo>
                <a:lnTo>
                  <a:pt x="8141" y="21600"/>
                </a:lnTo>
                <a:lnTo>
                  <a:pt x="10800" y="21600"/>
                </a:lnTo>
                <a:lnTo>
                  <a:pt x="13188" y="21600"/>
                </a:lnTo>
                <a:lnTo>
                  <a:pt x="13948" y="21600"/>
                </a:lnTo>
                <a:lnTo>
                  <a:pt x="14436" y="21510"/>
                </a:lnTo>
                <a:lnTo>
                  <a:pt x="14708" y="21419"/>
                </a:lnTo>
                <a:lnTo>
                  <a:pt x="15033" y="21239"/>
                </a:lnTo>
                <a:lnTo>
                  <a:pt x="15359" y="20968"/>
                </a:lnTo>
                <a:lnTo>
                  <a:pt x="15522" y="20818"/>
                </a:lnTo>
                <a:lnTo>
                  <a:pt x="15684" y="20637"/>
                </a:lnTo>
                <a:lnTo>
                  <a:pt x="15684" y="20367"/>
                </a:lnTo>
                <a:lnTo>
                  <a:pt x="21600" y="20367"/>
                </a:lnTo>
                <a:lnTo>
                  <a:pt x="21600" y="10800"/>
                </a:lnTo>
                <a:lnTo>
                  <a:pt x="21600" y="0"/>
                </a:lnTo>
                <a:lnTo>
                  <a:pt x="10800" y="0"/>
                </a:lnTo>
                <a:close/>
                <a:moveTo>
                  <a:pt x="7055" y="20367"/>
                </a:moveTo>
                <a:lnTo>
                  <a:pt x="7055" y="20547"/>
                </a:lnTo>
                <a:lnTo>
                  <a:pt x="7055" y="20637"/>
                </a:lnTo>
                <a:lnTo>
                  <a:pt x="7218" y="20728"/>
                </a:lnTo>
                <a:lnTo>
                  <a:pt x="7381" y="20818"/>
                </a:lnTo>
                <a:lnTo>
                  <a:pt x="7544" y="20908"/>
                </a:lnTo>
                <a:lnTo>
                  <a:pt x="7707" y="20968"/>
                </a:lnTo>
                <a:lnTo>
                  <a:pt x="7815" y="20968"/>
                </a:lnTo>
                <a:lnTo>
                  <a:pt x="8141" y="20968"/>
                </a:lnTo>
                <a:lnTo>
                  <a:pt x="13188" y="20968"/>
                </a:lnTo>
                <a:lnTo>
                  <a:pt x="13459" y="20968"/>
                </a:lnTo>
                <a:lnTo>
                  <a:pt x="13785" y="20968"/>
                </a:lnTo>
                <a:lnTo>
                  <a:pt x="13948" y="20908"/>
                </a:lnTo>
                <a:lnTo>
                  <a:pt x="14111" y="20818"/>
                </a:lnTo>
                <a:lnTo>
                  <a:pt x="14273" y="20728"/>
                </a:lnTo>
                <a:lnTo>
                  <a:pt x="14273" y="20637"/>
                </a:lnTo>
                <a:lnTo>
                  <a:pt x="14436" y="20547"/>
                </a:lnTo>
                <a:lnTo>
                  <a:pt x="14436" y="20367"/>
                </a:lnTo>
                <a:lnTo>
                  <a:pt x="7055" y="20367"/>
                </a:lnTo>
                <a:close/>
              </a:path>
              <a:path w="21600" h="21600">
                <a:moveTo>
                  <a:pt x="7055" y="20367"/>
                </a:moveTo>
                <a:lnTo>
                  <a:pt x="5807" y="20367"/>
                </a:lnTo>
                <a:lnTo>
                  <a:pt x="21600" y="20367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4656240" y="3276720"/>
            <a:ext cx="335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 ПАЦИЕНТОВ, НАХОДЯЩИХСЯ ПОД НАБЛЮДЕНИЕМ С ПОСЛЕДСТВИЯМИ ОСТРЫХ ЦВБ В СРОКИ 30 СУТОК И БОЛ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9"/>
          <p:cNvSpPr/>
          <p:nvPr/>
        </p:nvSpPr>
        <p:spPr>
          <a:xfrm>
            <a:off x="6095880" y="4175280"/>
            <a:ext cx="480960" cy="333360"/>
          </a:xfrm>
          <a:prstGeom prst="downArrow">
            <a:avLst>
              <a:gd name="adj1" fmla="val 50000"/>
              <a:gd name="adj2" fmla="val 27421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0"/>
          <p:cNvSpPr/>
          <p:nvPr/>
        </p:nvSpPr>
        <p:spPr>
          <a:xfrm>
            <a:off x="4176720" y="4794120"/>
            <a:ext cx="4319640" cy="15145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4656240" y="4906800"/>
            <a:ext cx="3359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2"/>
          <p:cNvSpPr/>
          <p:nvPr/>
        </p:nvSpPr>
        <p:spPr>
          <a:xfrm>
            <a:off x="4176720" y="4951440"/>
            <a:ext cx="43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ДИРУЮТСЯ ОСТАТОЧНЫЕ СОМАТИЧЕСКИЕ СОСТОЯНИЯ  ОСТРЫХ ЦЕРЕБРОВАСКУЛЯРНЫХ БОЛЕЗ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татистика заболеваемости в амбулаторно-поликлинических учреждениях базируется на регистрации и кодировании всех болезней и других причин обращения за медицинской помощью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Учет статистической информации о заболеваемости в амбулаторно-поликлинических</a:t>
            </a:r>
            <a:r>
              <a:rPr b="0" lang="en-US" sz="1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учреждениях осуществляется для формирования государственной статистической отчетности учреждений здравоохранения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914120" y="1869840"/>
            <a:ext cx="4876920" cy="61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СОСТОЯНИЯ ПОДЛЕЖАЩИЕ КОДИРОВАНИЮ ПОСЛЕ ОКОНЧАНИЯ ОСТРОГО ПЕРИОД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(через 30 дней)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1. Параличи и парезы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2. Изменения тонуса мышц      паретичных конечносте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3. Постинсультные трофические нарушени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4. Нарушение чувствительност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5. Центральный болевой синдром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6. Речевые нарушени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7. Нарушения высших психических функци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8. Зрительные нарушени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033680" y="2050920"/>
            <a:ext cx="48769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447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ВОЗМОЖНЫЕ ВТОРИЧНЫЕ ОСЛОЖНЕНИ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Контрактуры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Пневмони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Пролежн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Деменция (слабоумие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Эпилепсия (судороги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Нарушение функции тазовых органов (задержка или недержание мочи, кала) и др.</a:t>
            </a:r>
            <a:r>
              <a:rPr b="0" lang="ru-RU" sz="2000" spc="-1" strike="noStrike">
                <a:solidFill>
                  <a:srgbClr val="6633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14480" y="415440"/>
            <a:ext cx="9996480" cy="62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Corbel"/>
              </a:rPr>
              <a:t>ПОСЛЕДСТВИЯ ИНФАРКТА МОЗГА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Двигательные нарушения, слабость или паралич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– это может привести к трудностям при движении, ходьбе и координации. Нарушения движения на одной стороне тела называются гемипарез или гемиплегия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Нарушение глотан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Нарушение акта глотания может привести к попаданию пищи и жидкости не в пищевод, а в дыхательное горло и легкие, становясь тем самым причиной тяжелого воспаления легких. Нарушение глотания может привести так же к запорам и обезвоживанию организма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Нарушение речи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Нарушение воспроизведения и понимания речи, в том числе трудности в чтении, письме, счете происходят в результате повреждения левого полушария головного мозга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Проблемы восприят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При нормальном зрении человек не в состоянии понять, что он видит. Нарушения восприятия затрудняют использование человеком предметов обыденного обихода. Например, человек не может взять стакан и налить в него воду и затем выпить её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Когнитивные нарушен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Нарушается способность к умственному восприятию и переработке внешней информации. Нарушается ясное и логическое мышление, ухудшается память, утрачивается способность к обучению, принятию решений и перспективному планированию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Нарушения поведен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Может появиться агрессия, замедленная реакция, пугливость, эмоциональная нестабильность, дезорганизация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Нарушение мочеиспускания и дефекации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Трудности с кишечником или мочевым пузырем (недержание или задержка мочи, недержания кала) может быть вызвано целым рядом различных проблем после инсульта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Психологические нарушен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Резкие колебания настроения, депрессия, раздражительность, беспричинный смех или плач. Депрессия очень частая проблема у людей перенесших инсульт и часто сопровождается потерей аппетита, беспричинным смехом или плачем, бессонницей, низкой самооценкой и повышенным чувством тревоги…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Эпилепсия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развивается у 7-20 % людей, перенесших инсульт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Болевой синдром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После инсульта у небольшого количества людей, развиваются болевые приступы в виде горения, стреляющих, пульсирующих болей, которые не снимаются обезболивающими препаратами. 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550880" y="1125360"/>
          <a:ext cx="10404720" cy="5202360"/>
        </p:xfrm>
        <a:graphic>
          <a:graphicData uri="http://schemas.openxmlformats.org/drawingml/2006/table">
            <a:tbl>
              <a:tblPr/>
              <a:tblGrid>
                <a:gridCol w="10404720"/>
              </a:tblGrid>
              <a:tr h="7333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1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е координации движений, общая слабость или даже паралич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Причем двигательная активность может быть нарушена, как полностью, так и частично (в зависимости от того, какие именно отделы головного мозга были поражены вследствие кровоизлиян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я речи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Это 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также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достаточно распространенная проблема, с которой сталкиваются многие люди, перенесшие геморрагический инсульт. Причем, помимо речи, у пациента могут возникать также сложности с чтением и письм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Поведенческие и психологические нарушения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Если человек перенес рассматриваемое заболевание, то у него могут наблюдаться неадекватные реакции на изменения условий окружающей среды. Кроме того, родственники такого больного могут столкнуться с немотивированными вспышками агрессии, излишней пугливостью, разнообразными ман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4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я глотания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Это распространенное и достаточно опасное последствие болезни, поскольку пища или напитки, потребляемые пациентом, могут попадать в его дыхательное горл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5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я восприятия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Больной, даже обладая идеальным зрением, может не понимать, что именно он видит. А также у таких пациентов нередко возникают проблемы с использованием самых обыкновенных бытовых предме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6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Эпилепсия или сильные боли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Эти последствия инфаркта мозга наблюдаются у пациентов достаточно редко, но все-таки они заслуживают внимания. Причем болевые ощущения, вызванные рассматриваемым заболеванием, как правило, невозможно ликвидировать с помощью медикаментозных средств (даже самых сильных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7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е функций мочевого пузыря и кишечника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Они могут быть самыми разнообразными, но чаще всего у больных наблюдается именно недержание мочи или ка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7920" y="274680"/>
            <a:ext cx="103633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b2203"/>
                </a:solidFill>
                <a:latin typeface="Corbel"/>
              </a:rPr>
              <a:t>САМЫЕ РАСПРОСТРАНЕННЫЕ ПОСЛЕДСТВИЯ ВНУТРИМОЗГОВОГО КРОВОИЗЛИЯНИЯ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олезни органов дыхан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трый, подострый бронхит – 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J20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ронхит, не уточненный как острый или хронический :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у детей до 15 лет - 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J20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у лиц старше 15 лет - 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J40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J21-J22 -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спользуются для кодирования включенных в них состояний независимо от возраста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0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томатолог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каз от 30 мая 1986 г. № 770 "О порядке проведения всеобщей диспансеризации населения«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роки развития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олезни ротовой полости, включая гнойные заболевания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лоский лишай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ножественный кариес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асный плоский лишай и др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еретинопатии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рока 5.9 – Рахит – строка проходит по таблицам 1000 и 1500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яжелые заболевания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дкие заболевания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регистры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крепленный участок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цент взятия на диспансерный учет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449360" y="966960"/>
          <a:ext cx="10523520" cy="5010120"/>
        </p:xfrm>
        <a:graphic>
          <a:graphicData uri="http://schemas.openxmlformats.org/drawingml/2006/table">
            <a:tbl>
              <a:tblPr/>
              <a:tblGrid>
                <a:gridCol w="2840040"/>
                <a:gridCol w="693720"/>
                <a:gridCol w="895320"/>
                <a:gridCol w="593640"/>
                <a:gridCol w="595440"/>
                <a:gridCol w="696960"/>
                <a:gridCol w="695160"/>
                <a:gridCol w="695520"/>
                <a:gridCol w="693720"/>
                <a:gridCol w="684360"/>
                <a:gridCol w="645840"/>
                <a:gridCol w="793800"/>
              </a:tblGrid>
              <a:tr h="21024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F01, F03-F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, связанные с употреблением психоактивных веще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F10-F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ский аутизм, атипичный аутизм, синдром Ретта, дезинтегративное расстройство детского возра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84.0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лагодарность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14480" y="0"/>
            <a:ext cx="9996480" cy="62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нтральный федеральный округ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елгород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рян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ладимир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ронеж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ванов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луж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стром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ур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ипец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сков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рловская область 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Рязанская область 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Смолен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мбов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вер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уль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Ярослав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сква </a:t>
            </a:r>
            <a:br>
              <a:rPr sz="28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еверо-Западный федеральный округ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Карел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Коми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рхангель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лого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линингра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енингра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урма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овгоро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ск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анкт-Петербур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енецкий автономный округ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2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Южны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Адыге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Калмыкия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Крым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аснодар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страха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лгогра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остовская область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евастополь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еверо-Кавказски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Дагестан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Ингушетия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бардино-Балкар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рачаево-Черкес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Северная Осетия - Алан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ечен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авропольский край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волжски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Башкортостан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Марий Эл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Мордов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Татарстан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дмурт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уваш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м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ир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ижегородская область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Оренбург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нзенская область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Самарская область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Сарат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льяновская область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ральски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урга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вердл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юме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еляби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Ханты-Мансийский автономный округ — Югр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Ямало-Ненецкий автономный округ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ибирски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Алт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Бурят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Тыв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Хакас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лтай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байкаль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аснояр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ркут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емер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овосибир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м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омская область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61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альневосточны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Саха (Якутия)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мчат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мор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Хабаров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мур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агада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ахали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Еврейская автономн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укотский автономный округ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17760" y="690120"/>
            <a:ext cx="10369440" cy="65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Юрий Иванович</a:t>
            </a:r>
            <a:br>
              <a:rPr sz="4800"/>
            </a:b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ьков</a:t>
            </a:r>
            <a:br>
              <a:rPr sz="3900"/>
            </a:br>
            <a:br>
              <a:rPr sz="39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 05 февраля 2017 года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8-495-618-31-83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 06 февраля 2017 года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8-495-611-51-47</a:t>
            </a:r>
            <a:br>
              <a:rPr sz="3900"/>
            </a:b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OskovYI@mail.ru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828440" y="5262480"/>
            <a:ext cx="85345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1449360" y="2530440"/>
          <a:ext cx="10490400" cy="1020960"/>
        </p:xfrm>
        <a:graphic>
          <a:graphicData uri="http://schemas.openxmlformats.org/drawingml/2006/table">
            <a:tbl>
              <a:tblPr/>
              <a:tblGrid>
                <a:gridCol w="5675400"/>
                <a:gridCol w="4815000"/>
              </a:tblGrid>
              <a:tr h="10209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 (из стр. 1.0 гр. 15) детей  в возраст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-4 года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__________,       5-9 лет    2  _________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802880" y="731520"/>
            <a:ext cx="99982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203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4b2203"/>
                </a:solidFill>
                <a:latin typeface="Times New Roman"/>
              </a:rPr>
              <a:t>Благодарю за внимание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9T08:18:36Z</dcterms:created>
  <dc:creator>Елена Д. Дмитриева</dc:creator>
  <dc:description/>
  <dc:language>en-US</dc:language>
  <cp:lastModifiedBy>u.oskov</cp:lastModifiedBy>
  <dcterms:modified xsi:type="dcterms:W3CDTF">2016-12-14T11:23:29Z</dcterms:modified>
  <cp:revision>140</cp:revision>
  <dc:subject/>
  <dc:title>Презентация PowerPoint</dc:title>
</cp:coreProperties>
</file>