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D2DB-A684-49DB-B243-2143845A54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D258-B786-4758-957D-09396E8300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BBDD-B93D-4FF3-BD70-EBF7FC3F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4394-905C-4D5E-9545-DB3658BF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018B-3639-46A9-B968-CC9833C2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1973E-2099-43C6-A016-50B7BA61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9B55-4278-4513-99DC-7C1C8D08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850E-06F1-4227-A744-CAAB178F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18AF-EFC9-4A39-B13F-B6FE3F17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0DEE-FA0D-4171-8EF8-CA9368C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227C-78D3-4230-9CDD-2B505E7D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092A-883C-48FF-8F8B-E053EC79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657-CAE9-4634-B025-8C5C33F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55BE-7AD4-4F7F-815E-CB985590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EFBA-A601-4EEB-A853-52B89ED9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B53B-18BA-41CC-8ECE-2B24A1F7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3542-FF75-4607-9C88-AE250AF9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AD69-CB89-4742-9C47-D344CAF3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AAE0-7A20-450D-8F3A-AA91B2ED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000D-2A00-4A3D-89CA-4F972D5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4B9E-D43B-4589-8533-7BC85B66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2347-F45F-4B9E-85DF-1E1E2EAC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C602-28C4-4393-A129-E644D2F9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49DA-3F97-42B6-9F12-26703526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BD3F-7F06-4BB7-B37B-1E267645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B911-47C7-4F3F-BC46-7E41A220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7C20-F18F-4F0A-991A-15F4C6F556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16A3-BE3D-4A64-A2BA-31A35E78F9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ocs.cntd.ru/document/925211098" TargetMode="External"/><Relationship Id="rId2" Type="http://schemas.openxmlformats.org/officeDocument/2006/relationships/hyperlink" Target="http://docs.cntd.ru/document/493592134" TargetMode="External"/><Relationship Id="rId3" Type="http://schemas.openxmlformats.org/officeDocument/2006/relationships/hyperlink" Target="http://docs.cntd.ru/document/493549233" TargetMode="External"/><Relationship Id="rId4" Type="http://schemas.openxmlformats.org/officeDocument/2006/relationships/hyperlink" Target="http://docs.cntd.ru/document/677081899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ocs.cntd.ru/document/493536804" TargetMode="External"/><Relationship Id="rId2" Type="http://schemas.openxmlformats.org/officeDocument/2006/relationships/hyperlink" Target="http://docs.cntd.ru/document/493536805" TargetMode="External"/><Relationship Id="rId3" Type="http://schemas.openxmlformats.org/officeDocument/2006/relationships/hyperlink" Target="http://docs.cntd.ru/document/493536806" TargetMode="External"/><Relationship Id="rId4" Type="http://schemas.openxmlformats.org/officeDocument/2006/relationships/hyperlink" Target="http://docs.cntd.ru/document/473976015" TargetMode="External"/><Relationship Id="rId5" Type="http://schemas.openxmlformats.org/officeDocument/2006/relationships/hyperlink" Target="http://docs.cntd.ru/document/493536807" TargetMode="External"/><Relationship Id="rId6" Type="http://schemas.openxmlformats.org/officeDocument/2006/relationships/hyperlink" Target="http://docs.cntd.ru/document/493536808" TargetMode="External"/><Relationship Id="rId7" Type="http://schemas.openxmlformats.org/officeDocument/2006/relationships/hyperlink" Target="http://docs.cntd.ru/document/493536809" TargetMode="External"/><Relationship Id="rId8" Type="http://schemas.openxmlformats.org/officeDocument/2006/relationships/hyperlink" Target="http://docs.cntd.ru/document/493536810" TargetMode="External"/><Relationship Id="rId9" Type="http://schemas.openxmlformats.org/officeDocument/2006/relationships/hyperlink" Target="http://docs.cntd.ru/document/493536810" TargetMode="External"/><Relationship Id="rId10" Type="http://schemas.openxmlformats.org/officeDocument/2006/relationships/hyperlink" Target="http://docs.cntd.ru/document/493536811" TargetMode="External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1. Должности руков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главный врач (начальник) медицинской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директор больницы (дома) сестринского ухода, хоспи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заместитель руководителя (начальника) медицинской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заведующий (начальник) структурного подразделения (отд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тделения, лаборатории, кабинета, отряда и другое) медици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рганизации - врач-специали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(главный врач, начальник) структурного подразд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уществляющего медицинскую деятельность, иной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главная медицинская сестра (главная акушерка, главный фельдшер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876920"/>
            <a:ext cx="8991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льному подбору и расстановке кадров, а также обеспечению единства подходов при определении должностных обязанностей этих категорий работников и предъявляемых к ним квалификационных требований способствует Единый квалификационный справочник должностей руководителей, специалистов и служащих, утвержденный приказом Министерства здравоохранения и социального развития Российской Федерации от 23.07.2010 года №541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Примеч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Наименование должности врача формируется с учетом специальности, по которой работник имеет соответствующую подготовку и работа по которой вменяется в круг его обязанностей. Например, "врач-терапевт"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. Наименования должностей заведующих (начальников) структурных подразделений (отделов, отделений, лабораторий, кабинетов, отрядов и другое) дополняются наименованием должности врача, соответствующей профилю структурного подразделения. Например, "заведующий хирургическим отделением - врач-хирург"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В медицинской организации, оказывающей специализированную медицинскую помощь, или при наличии в медицинской организации структурного подразделения, оказывающего специализированную медицинскую помощь, наименование должности "врач приемного отделения" дополняется наименованием должности врача соответствующей специальности. Например, "врач приемного отделения - врач скорой медицинской помощи"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таблицу включаются сведения о должностях, физических лицах отделений (кабинетов) </a:t>
            </a:r>
            <a:r>
              <a:rPr b="1" lang="ru-RU" sz="1800" spc="-1" strike="noStrike">
                <a:solidFill>
                  <a:srgbClr val="cc0066"/>
                </a:solidFill>
                <a:latin typeface="Times New Roman"/>
              </a:rPr>
              <a:t>платных услу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 о должностях и физических лицах специалистов, в том числе, станции (отделения скорой медицинской помощ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графы 9, 10 и 11 «Число физических лиц основных работников на занятых должностях» включаются только основные работники (т.е. те, кто имеет трудовые книжки в данной организаци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, находящиеся в декретном отпуске или длительной командировке, указываются по тем должностям, с которых состоялся декретный отпуск, команди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ие совместители в графы с 9 по 11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число физических лиц специалистов с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высшим немедицинским  образованием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основных работников, занимающих должности врачей клинической лабораторной диагностики, врачей-статистиков и врачей по лечебной физкультуре указывается в строках 223-225 в графе 9. Штатные и занятые должности, занимаемые ими показываются по соответствующим строкам врачебных дол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вакантные должности в поликлинике или в стационаре (разность между штатными и занятыми должностями) не может быть больше, чем в целом по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57200" y="60948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1100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, имеющих в своем составе подразделения (для оказания медицинской помощи в амбулаторных, стационарных условиях), в графах 3 и 4 показывают общую штатную численность персонала юридического лица в целом по организации в соответствии со штатным распис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графах 5 и 6 (из граф 3 и 4 соответственно) - штатную численность подразделений,  оказывающих медицинскую помощь в амбулаторных условиях, включая вспомогательные отделения и кабин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графах 7 и 8 (из граф 3 и 4) – штатную численность подразделений, оказывающих медицинскую помощь в стационарных  условиях, включая вспомогательные отделения и каби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8600" y="320040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се должности врачей в туберкулезных больницах,  противотуберкулезных диспансерах, фтизиопульмонологических центрах (кроме должностей вспомогательных отделений  - рентгеновского, физиотерапевтического, лабораторий и т.д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Times New Roman"/>
              </a:rPr>
              <a:t>и специалистов-консультантов не фтизиатров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, туберкулезных отделениях (кабинетах) больниц и поликлиник относятся к должностям фтизиат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должности врачей в онкологических диспансерах и онкологических больницах (кроме должностей радиологов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 других должностей консультантов-специалист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, онкологических отделениях и кабинетах других больниц и поликлиник относятся к должностям врачей-онколо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ей - заведующих отделениями (кабинетами) показывают как специалистов в соответствующих строках (терапевтическими отделениями – как терапевтов и т.д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685800"/>
          <a:ext cx="8686800" cy="3032280"/>
        </p:xfrm>
        <a:graphic>
          <a:graphicData uri="http://schemas.openxmlformats.org/drawingml/2006/table">
            <a:tbl>
              <a:tblPr/>
              <a:tblGrid>
                <a:gridCol w="3619440"/>
                <a:gridCol w="706320"/>
                <a:gridCol w="990720"/>
                <a:gridCol w="959040"/>
                <a:gridCol w="1057320"/>
                <a:gridCol w="135396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538"/>
          <p:cNvSpPr/>
          <p:nvPr/>
        </p:nvSpPr>
        <p:spPr>
          <a:xfrm>
            <a:off x="228600" y="4038480"/>
            <a:ext cx="8763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ы 12-14 заполняются на основании удостоверений о присвоении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ие и фармацевтические работники, имеющие категории по нескольким специальностям, показываются в отчете 1 раз – по основной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а 15 заполняется на основании сертификатов специали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76320" y="533520"/>
          <a:ext cx="8915400" cy="30780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609480"/>
                <a:gridCol w="685800"/>
                <a:gridCol w="685800"/>
                <a:gridCol w="609840"/>
                <a:gridCol w="685800"/>
                <a:gridCol w="609480"/>
                <a:gridCol w="106668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08"/>
          <p:cNvSpPr/>
          <p:nvPr/>
        </p:nvSpPr>
        <p:spPr>
          <a:xfrm>
            <a:off x="228600" y="396252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зываем все должности врачей приемного поко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ратить внимание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казываем должности «врач приемного отделения», независимо от клинической специальности, которую  он име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76320" y="533520"/>
          <a:ext cx="8915400" cy="508932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609480"/>
                <a:gridCol w="685800"/>
                <a:gridCol w="685800"/>
                <a:gridCol w="609840"/>
                <a:gridCol w="685800"/>
                <a:gridCol w="609480"/>
                <a:gridCol w="106668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здравпун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общей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райо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</a:tbl>
          </a:graphicData>
        </a:graphic>
      </p:graphicFrame>
      <p:sp>
        <p:nvSpPr>
          <p:cNvPr id="161" name="TextBox 3"/>
          <p:cNvSpPr/>
          <p:nvPr/>
        </p:nvSpPr>
        <p:spPr>
          <a:xfrm>
            <a:off x="228600" y="571500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И так далее по строкам – 70,72,74,97,98,99,100,110,147,171,186,1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76320" y="533520"/>
          <a:ext cx="8915400" cy="5029200"/>
        </p:xfrm>
        <a:graphic>
          <a:graphicData uri="http://schemas.openxmlformats.org/drawingml/2006/table">
            <a:tbl>
              <a:tblPr/>
              <a:tblGrid>
                <a:gridCol w="1633320"/>
                <a:gridCol w="500040"/>
                <a:gridCol w="617760"/>
                <a:gridCol w="657000"/>
                <a:gridCol w="706680"/>
                <a:gridCol w="639720"/>
                <a:gridCol w="691920"/>
                <a:gridCol w="623880"/>
                <a:gridCol w="86364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терапевты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участковые цеховых врачебных участ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подро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1534"/>
          <p:cNvSpPr/>
          <p:nvPr/>
        </p:nvSpPr>
        <p:spPr>
          <a:xfrm>
            <a:off x="152280" y="57150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ковые терапевты, работающих в амбулаториях, показываются по строке 97 и в 99 строку не вход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строка 99 заполняется если в амбулатории есть должности терапев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38"/>
          <p:cNvSpPr/>
          <p:nvPr/>
        </p:nvSpPr>
        <p:spPr>
          <a:xfrm>
            <a:off x="2743200" y="3581280"/>
            <a:ext cx="5486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96 может быть больше суммы строк с 97 по 100 за счет заведующих терапевтическим отделением и врачей-терапев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52280" y="533520"/>
          <a:ext cx="8763120" cy="584352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866520"/>
                <a:gridCol w="879480"/>
                <a:gridCol w="1025640"/>
              </a:tblGrid>
              <a:tr h="885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</a:t>
                      </a:r>
                      <a:r>
                        <a:rPr b="1" lang="ru-RU" sz="13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рачи клинических  специаль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</a:t>
                      </a:r>
                      <a:r>
                        <a:rPr b="1" lang="ru-RU" sz="13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AutoShape 627"/>
          <p:cNvSpPr/>
          <p:nvPr/>
        </p:nvSpPr>
        <p:spPr>
          <a:xfrm>
            <a:off x="2286000" y="4800600"/>
            <a:ext cx="6553080" cy="685800"/>
          </a:xfrm>
          <a:prstGeom prst="wedgeRoundRectCallout">
            <a:avLst>
              <a:gd name="adj1" fmla="val 15648"/>
              <a:gd name="adj2" fmla="val 9583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28"/>
          <p:cNvSpPr/>
          <p:nvPr/>
        </p:nvSpPr>
        <p:spPr>
          <a:xfrm>
            <a:off x="2590920" y="3962520"/>
            <a:ext cx="518148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 :  Сумма строк 124 и 125 равна строк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29"/>
          <p:cNvSpPr/>
          <p:nvPr/>
        </p:nvSpPr>
        <p:spPr>
          <a:xfrm>
            <a:off x="2286000" y="3124080"/>
            <a:ext cx="57150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123 не могут превышать значения, указанные в строк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к врачам клинических специальнос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сятся: 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 и ортопеды, урологи, урологи-андрологи детские, колопроктологи, челюстно-лицевые хирурги, акушеры-гинекологи, педиатры, неонатологи, офтальмологи, отоларингологи, фтизиатры, неврологи, психиатры, гериатры, психиатры-наркологи, дерматовенерологи, врачи скорой медицинской помощи, инфекционисты, врачи общей практики (семейные), врачи по рентгеноваскулярной диагностики и л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подчиненности (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Федеральное, подчин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бъекта Российской Федерации) медицинские организации распределяются по состоянию на конец отчетного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ФФСН №30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а федерального статистического наблюдения № 30 составляется всеми медицинскими организациями, входящими в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оменклатуру медицинских организа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риказ Минздрава России от 06.08.2013 № 529н, зарегистрирован в Министерстве юстиции Российской Федерации 13.09.2013 № 2995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ФФСН №30 заполняется всеми юридическими лицами в целом по организации, включая структурные подразделения (районные больницы, участковые больницы, амбулатории, филиалы, обособленные подразделения); каждым структурным подразделением юридического лица и отдельно по юридическому лицу без учета структурных подразд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4038480"/>
          <a:ext cx="4267080" cy="21542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д по юридическому лицу (районная боль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ентральная)), включая структурные подраздел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больница (центральна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боль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ая боль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обленное подраз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24280" y="4114800"/>
          <a:ext cx="4038840" cy="10666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зиопульмонологически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зиопульмонологически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2280" y="16761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3. Должности специалистов с высшим профессиональным (немедицинским) образование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би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зо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инструктор-методист по лечебной физкульту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медицинский псих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медицинский физи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удебный эксперт (эксперт-биохимик, эксперт-генетик, эксперт-химик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химик-эксперт медицинской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эксперт-физик по контролю за источниками ионизирующих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неионизирующих излучен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эмбри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нтом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76320" y="457200"/>
          <a:ext cx="8839080" cy="5802480"/>
        </p:xfrm>
        <a:graphic>
          <a:graphicData uri="http://schemas.openxmlformats.org/drawingml/2006/table">
            <a:tbl>
              <a:tblPr/>
              <a:tblGrid>
                <a:gridCol w="2057400"/>
                <a:gridCol w="457200"/>
                <a:gridCol w="609480"/>
                <a:gridCol w="609480"/>
                <a:gridCol w="685800"/>
                <a:gridCol w="533520"/>
                <a:gridCol w="685800"/>
                <a:gridCol w="609480"/>
                <a:gridCol w="838440"/>
                <a:gridCol w="838080"/>
                <a:gridCol w="9144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915"/>
          <p:cNvSpPr/>
          <p:nvPr/>
        </p:nvSpPr>
        <p:spPr>
          <a:xfrm>
            <a:off x="2666880" y="2666880"/>
            <a:ext cx="62485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у 127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не включаю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ведения о специалистах с высшим немедицинским образованием, занимающих врачебные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17"/>
          <p:cNvSpPr/>
          <p:nvPr/>
        </p:nvSpPr>
        <p:spPr>
          <a:xfrm>
            <a:off x="2743200" y="4038480"/>
            <a:ext cx="6095880" cy="175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трока 127 может быть больше суммы строк со 128 по 134 за счет: биолог, зоолог, эксперт-физик, эмбриолог, энтомоло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Если строка 127 больше суммы строк, то разницу  расшифро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52280" y="762120"/>
          <a:ext cx="8763120" cy="5546520"/>
        </p:xfrm>
        <a:graphic>
          <a:graphicData uri="http://schemas.openxmlformats.org/drawingml/2006/table">
            <a:tbl>
              <a:tblPr/>
              <a:tblGrid>
                <a:gridCol w="1681200"/>
                <a:gridCol w="528840"/>
                <a:gridCol w="685800"/>
                <a:gridCol w="761760"/>
                <a:gridCol w="609840"/>
                <a:gridCol w="685800"/>
                <a:gridCol w="609480"/>
                <a:gridCol w="685800"/>
                <a:gridCol w="838080"/>
                <a:gridCol w="838440"/>
                <a:gridCol w="83808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 по специальностя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 экономика фа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химия и фармакогноз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710"/>
          <p:cNvSpPr/>
          <p:nvPr/>
        </p:nvSpPr>
        <p:spPr>
          <a:xfrm>
            <a:off x="2362320" y="4114800"/>
            <a:ext cx="647676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троку 135 заполнить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13"/>
          <p:cNvSpPr/>
          <p:nvPr/>
        </p:nvSpPr>
        <p:spPr>
          <a:xfrm>
            <a:off x="2819520" y="5638680"/>
            <a:ext cx="60958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135 равна сумме строк со 136 по 138 по графе 9. Остальные графы по строкам с 136 по 138 не заполня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4. Должности специалистов со средним профессиональным (медицинским) образованием (средний медицинский персона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уш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гиенист стоматологическ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молочной кухн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здравпунктом - фельдшер (медицинская сест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фельдшерско-акушерским пунктом - фельдшер (акуш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ицинская сест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кабинетом медицинской профилактики – фельдш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едицинская сест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производством учреждений (отделов, отдел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ий) зубопротез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52280" y="685800"/>
          <a:ext cx="8839440" cy="601992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09480"/>
                <a:gridCol w="762120"/>
                <a:gridCol w="609480"/>
                <a:gridCol w="533520"/>
                <a:gridCol w="762120"/>
                <a:gridCol w="685800"/>
                <a:gridCol w="761760"/>
                <a:gridCol w="914400"/>
                <a:gridCol w="8384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39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719"/>
          <p:cNvSpPr/>
          <p:nvPr/>
        </p:nvSpPr>
        <p:spPr>
          <a:xfrm>
            <a:off x="2743200" y="5715000"/>
            <a:ext cx="617220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персона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720"/>
          <p:cNvSpPr/>
          <p:nvPr/>
        </p:nvSpPr>
        <p:spPr>
          <a:xfrm>
            <a:off x="2133720" y="6095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21"/>
          <p:cNvSpPr/>
          <p:nvPr/>
        </p:nvSpPr>
        <p:spPr>
          <a:xfrm>
            <a:off x="2666880" y="3200400"/>
            <a:ext cx="61722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Медицинские сестры с высшим образованием, занимающие должности врачей в строку 13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не включ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28"/>
          <p:cNvSpPr/>
          <p:nvPr/>
        </p:nvSpPr>
        <p:spPr>
          <a:xfrm>
            <a:off x="2743200" y="4419720"/>
            <a:ext cx="594360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Сумма строк 141 и 142 равна строке 1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6320" y="609480"/>
          <a:ext cx="8915400" cy="5715000"/>
        </p:xfrm>
        <a:graphic>
          <a:graphicData uri="http://schemas.openxmlformats.org/drawingml/2006/table">
            <a:tbl>
              <a:tblPr/>
              <a:tblGrid>
                <a:gridCol w="1676160"/>
                <a:gridCol w="500040"/>
                <a:gridCol w="795600"/>
                <a:gridCol w="761760"/>
                <a:gridCol w="609840"/>
                <a:gridCol w="685800"/>
                <a:gridCol w="609480"/>
                <a:gridCol w="685800"/>
                <a:gridCol w="914400"/>
                <a:gridCol w="83808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стр. 139):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 фельдшерско-акушерским пунк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щники 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719"/>
          <p:cNvSpPr/>
          <p:nvPr/>
        </p:nvSpPr>
        <p:spPr>
          <a:xfrm>
            <a:off x="2362320" y="2590920"/>
            <a:ext cx="65530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4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следующие должности: заведующий молоч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ухней; заведующий здравпунктом –фельдшер (медицинская сестра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ведующий ФАП – фельдшер (акушер, медицинская сестра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ведующий кабинетом медпрофилактики – фельдшер (медицин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стра); заведующий отделом, отделением, лабораторией, кабинет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убопротез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04"/>
          <p:cNvSpPr/>
          <p:nvPr/>
        </p:nvSpPr>
        <p:spPr>
          <a:xfrm>
            <a:off x="2362320" y="4495680"/>
            <a:ext cx="647676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9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должности помощников: врача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пидемиолога, врача-паразитолога, врача по гигиене детей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ростков, врача по гигиене питания, врача по гигиене тру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рача по гигиеническому воспитанию, врача по коммуналь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игиене, врача по общей гигиене, врача по радиационной гигие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ощник энтомолога, и т.д. в соответствии с действующ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менклатурой должност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76320" y="457200"/>
          <a:ext cx="8915400" cy="6469200"/>
        </p:xfrm>
        <a:graphic>
          <a:graphicData uri="http://schemas.openxmlformats.org/drawingml/2006/table">
            <a:tbl>
              <a:tblPr/>
              <a:tblGrid>
                <a:gridCol w="1819080"/>
                <a:gridCol w="432000"/>
                <a:gridCol w="657000"/>
                <a:gridCol w="638280"/>
                <a:gridCol w="836640"/>
                <a:gridCol w="755640"/>
                <a:gridCol w="679320"/>
                <a:gridCol w="604800"/>
                <a:gridCol w="830520"/>
                <a:gridCol w="831600"/>
                <a:gridCol w="830520"/>
              </a:tblGrid>
              <a:tr h="10065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 ким образовани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859"/>
          <p:cNvSpPr/>
          <p:nvPr/>
        </p:nvSpPr>
        <p:spPr>
          <a:xfrm>
            <a:off x="2362320" y="4724280"/>
            <a:ext cx="647676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4 по 166. То есть специалисты с высш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62"/>
          <p:cNvSpPr/>
          <p:nvPr/>
        </p:nvSpPr>
        <p:spPr>
          <a:xfrm>
            <a:off x="2362320" y="2743200"/>
            <a:ext cx="6629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ах 164-169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63"/>
          <p:cNvSpPr/>
          <p:nvPr/>
        </p:nvSpPr>
        <p:spPr>
          <a:xfrm>
            <a:off x="2362320" y="5486400"/>
            <a:ext cx="64767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7 по 169. То есть специалисты со средн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80"/>
          <p:cNvSpPr/>
          <p:nvPr/>
        </p:nvSpPr>
        <p:spPr>
          <a:xfrm>
            <a:off x="2362320" y="3962520"/>
            <a:ext cx="65530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Строка 163 может быть больше или равна сумме строк со 164 по 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52280" y="457200"/>
          <a:ext cx="8763120" cy="6218280"/>
        </p:xfrm>
        <a:graphic>
          <a:graphicData uri="http://schemas.openxmlformats.org/drawingml/2006/table">
            <a:tbl>
              <a:tblPr/>
              <a:tblGrid>
                <a:gridCol w="1667160"/>
                <a:gridCol w="542880"/>
                <a:gridCol w="546120"/>
                <a:gridCol w="641160"/>
                <a:gridCol w="687600"/>
                <a:gridCol w="625320"/>
                <a:gridCol w="671400"/>
                <a:gridCol w="609840"/>
                <a:gridCol w="736560"/>
                <a:gridCol w="1008000"/>
                <a:gridCol w="102708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3: анестез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885"/>
          <p:cNvSpPr/>
          <p:nvPr/>
        </p:nvSpPr>
        <p:spPr>
          <a:xfrm>
            <a:off x="2362320" y="3200400"/>
            <a:ext cx="65530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63 может быть больше суммы строк со 170 по 1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85"/>
          <p:cNvSpPr/>
          <p:nvPr/>
        </p:nvSpPr>
        <p:spPr>
          <a:xfrm>
            <a:off x="2895480" y="5257800"/>
            <a:ext cx="57150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авные медсестра включаются только в строку 1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6320" y="581040"/>
          <a:ext cx="8915400" cy="6161040"/>
        </p:xfrm>
        <a:graphic>
          <a:graphicData uri="http://schemas.openxmlformats.org/drawingml/2006/table">
            <a:tbl>
              <a:tblPr/>
              <a:tblGrid>
                <a:gridCol w="1844640"/>
                <a:gridCol w="538200"/>
                <a:gridCol w="614160"/>
                <a:gridCol w="692280"/>
                <a:gridCol w="614160"/>
                <a:gridCol w="692280"/>
                <a:gridCol w="614520"/>
                <a:gridCol w="615960"/>
                <a:gridCol w="920520"/>
                <a:gridCol w="846360"/>
                <a:gridCol w="9223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лечебной физкультуре (без среднего медицинского образ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252"/>
          <p:cNvSpPr/>
          <p:nvPr/>
        </p:nvSpPr>
        <p:spPr>
          <a:xfrm>
            <a:off x="3124080" y="5334120"/>
            <a:ext cx="47246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трока 213 показывается из строки 15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28"/>
          <p:cNvSpPr/>
          <p:nvPr/>
        </p:nvSpPr>
        <p:spPr>
          <a:xfrm>
            <a:off x="3124080" y="3200400"/>
            <a:ext cx="434340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Сумма строк 210 и 211 равна строке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28"/>
          <p:cNvSpPr/>
          <p:nvPr/>
        </p:nvSpPr>
        <p:spPr>
          <a:xfrm>
            <a:off x="3048120" y="4191120"/>
            <a:ext cx="51814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Кресты в строках с 210 по 212 убрать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040" y="20570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5. Иные должности медицинских рабо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ладший медицинский персонал)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адшая медицинская сестра по уходу за боль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нит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нитар-води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стра-хозяй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04920" y="1371600"/>
            <a:ext cx="1523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ГБУ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48320" y="914400"/>
            <a:ext cx="3962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линика №1: адрес, численность прикрепленн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48320" y="1752480"/>
            <a:ext cx="3962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линика №2: адрес, численность прикрепленн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48320" y="2514600"/>
            <a:ext cx="3962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линика 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адрес, численность прикрепленн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905120" y="914400"/>
            <a:ext cx="2209680" cy="22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особле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уктур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раз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191120" y="83808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3733920" y="3048120"/>
            <a:ext cx="609480" cy="761760"/>
          </a:xfrm>
          <a:prstGeom prst="downArrow">
            <a:avLst>
              <a:gd name="adj1" fmla="val 50000"/>
              <a:gd name="adj2" fmla="val 31246"/>
            </a:avLst>
          </a:prstGeom>
          <a:solidFill>
            <a:srgbClr val="779f92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295280" y="3886200"/>
            <a:ext cx="6553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Юридическое лицо – 1 (ОГБУЗ Детская больница №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обособленных структурных подразделения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заведующих поликлин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1295280" y="5029200"/>
            <a:ext cx="6705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ФФСН №30 предоставляется по юридическому лицу без учета структурных подразделений и по каждому обособленному подразд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0880" y="2895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л-ие отделени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ционар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52280" y="457200"/>
          <a:ext cx="8839440" cy="374976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58800"/>
                <a:gridCol w="648000"/>
                <a:gridCol w="695160"/>
                <a:gridCol w="628560"/>
                <a:gridCol w="677880"/>
                <a:gridCol w="614520"/>
                <a:gridCol w="74448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ладшие медсестры по уходу за бо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Rectangle 550"/>
          <p:cNvSpPr/>
          <p:nvPr/>
        </p:nvSpPr>
        <p:spPr>
          <a:xfrm>
            <a:off x="2362320" y="2743200"/>
            <a:ext cx="65530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214 может быть больше суммы строк 215+216 (санитар-водитель, сестра-хозяйка, младший фармацевтический персонал - фасовщик, санитар (мойщик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52"/>
          <p:cNvSpPr/>
          <p:nvPr/>
        </p:nvSpPr>
        <p:spPr>
          <a:xfrm>
            <a:off x="152280" y="4267080"/>
            <a:ext cx="883944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должность младшей медицинской сестры по  уходу  за  больными назначается лицо, имеющее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е (полное) общее образование и дополнительную подготовку на курсах младш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дицинских  сестер по уходу за больными без предъявления требований к стажу работы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е (полное) общее образование, дополнительную подготовку на курсах младших медицинских сестер по уходу за больными и стаж  работы  по профилю не менее 2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53"/>
          <p:cNvSpPr/>
          <p:nvPr/>
        </p:nvSpPr>
        <p:spPr>
          <a:xfrm>
            <a:off x="152280" y="5715000"/>
            <a:ext cx="87631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итар — младший медицинский работник, выполняющий вспомогательные функции в медицинской практике. Работа санитаром не требует медицинского образования, но в зависимости от выполняемой работы может потребоваться предварительная подготовка в виде курсов, обучения по специальным программам (санитар судмедэкспертизы, отдела лучевой диагностики и т.д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52280" y="685800"/>
          <a:ext cx="8763120" cy="455292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социальны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-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601"/>
          <p:cNvSpPr/>
          <p:nvPr/>
        </p:nvSpPr>
        <p:spPr>
          <a:xfrm>
            <a:off x="2286000" y="3124080"/>
            <a:ext cx="65530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у 217 включаются: экономисты, программисты, инженеры, юристы, операторы, бухгалтеры, завхозы, работники кухонь, истопники, шоферы и другие категории работников, не относящиеся к медицинскому персонал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602"/>
          <p:cNvSpPr/>
          <p:nvPr/>
        </p:nvSpPr>
        <p:spPr>
          <a:xfrm>
            <a:off x="457200" y="5486400"/>
            <a:ext cx="6858000" cy="762120"/>
          </a:xfrm>
          <a:prstGeom prst="wedgeRoundRectCallout">
            <a:avLst>
              <a:gd name="adj1" fmla="val -32245"/>
              <a:gd name="adj2" fmla="val -92916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у 220 включаются: программисты, операторы ЭВМ, администраторы компьютерных сетей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52280" y="609480"/>
          <a:ext cx="8839440" cy="545652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60600"/>
                <a:gridCol w="646200"/>
                <a:gridCol w="695160"/>
                <a:gridCol w="630360"/>
                <a:gridCol w="676080"/>
                <a:gridCol w="615960"/>
                <a:gridCol w="74304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немедицинским образованием, занимающих должности враче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            лаборан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694"/>
          <p:cNvSpPr/>
          <p:nvPr/>
        </p:nvSpPr>
        <p:spPr>
          <a:xfrm>
            <a:off x="2362320" y="2895480"/>
            <a:ext cx="56386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и с 222 по 225 заполняются по графам 9, 10, 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и с 222 по 225 по графам с 3 по 8 не заполня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99"/>
          <p:cNvSpPr/>
          <p:nvPr/>
        </p:nvSpPr>
        <p:spPr>
          <a:xfrm>
            <a:off x="2362320" y="3733920"/>
            <a:ext cx="6553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221 равна сумме строк 1+127+135+139+209+213+ +214+2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0"/>
          <p:cNvSpPr/>
          <p:nvPr/>
        </p:nvSpPr>
        <p:spPr>
          <a:xfrm>
            <a:off x="533520" y="62485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сего физических лиц равно сумме строк 221+2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280" y="762120"/>
          <a:ext cx="8763120" cy="2987640"/>
        </p:xfrm>
        <a:graphic>
          <a:graphicData uri="http://schemas.openxmlformats.org/drawingml/2006/table">
            <a:tbl>
              <a:tblPr/>
              <a:tblGrid>
                <a:gridCol w="5715000"/>
                <a:gridCol w="990720"/>
                <a:gridCol w="205740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Участки медицинских организаций, оказывающих медицинскую помощь в амбулаторных услов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х терапевтических участк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омплекс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рача общей практик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228"/>
          <p:cNvSpPr/>
          <p:nvPr/>
        </p:nvSpPr>
        <p:spPr>
          <a:xfrm>
            <a:off x="4572000" y="1752480"/>
            <a:ext cx="441972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роверка доступности первичной медико-санитарной помощ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численность населения) : (нормати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енности населения на участке)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енность штатных должностей участков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ри этом могут быть откло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29"/>
          <p:cNvSpPr/>
          <p:nvPr/>
        </p:nvSpPr>
        <p:spPr>
          <a:xfrm>
            <a:off x="4114800" y="617220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28"/>
          <p:cNvSpPr/>
          <p:nvPr/>
        </p:nvSpPr>
        <p:spPr>
          <a:xfrm>
            <a:off x="380880" y="3886200"/>
            <a:ext cx="82296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Количество терапевтических, педиатрических участков и участков вр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общей практики указанное в данной таблице, должно быть сопоставимо с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штатной численностью соответствующих должностей, указанных в таблиц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2895480"/>
            <a:ext cx="8915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от 15.05.2012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№ 543н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“Об утверждении Положения об организации оказания первичной медико-санитарной помощи взрослому населению” могут быть организованы следующие участк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рапевтический, с численностью прикрепленного взрослого населения (18 лет и старше) в количестве 1700 чел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а общей практики, с численностью прикрепленного взрослого на- селения (18 лет и старше) в количестве 1200 чел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мейного врача, с численностью прикрепленного взрослого и детского населения в количестве 1500 чел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мплексный терапевтический, с численностью прикрепленного населения (взрослого и детского) в количестве 2000 че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 от 16.04.2012 №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366н "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 утверждении Порядка оказания педиатрической помощи" рекомендовано на 1 врача-педиатра участкового 800 прикрепленного детского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3962520" y="0"/>
            <a:ext cx="838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5335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Комплексный терапевтический участ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обслуживается врачом терапевтом участковым, медсестрой и фельдшером (акушеркой), ФАП, Ф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Комплексный терапевтический участ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рмируется из населения врачебного участка с недостаточной численностью прикрепленного населения (малокомплектный участок) или населения, обслуживаемого врачом-терапевтом амбулатории и населения, обслуживаемого фельдшерско-акушерскими пунктами (фельдшерскими пунктам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малокомплектным участкам относят участки,  численность прикрепленного населения на которых на 200 человек ниже установленных норматив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80880" y="457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33520" y="320040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аблице отражаются сведения и числе физических лиц медицинских работников на комплексных врачебных участках из числа указанных в таблице 1107, строке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о физических лицах не должны превышать соответствующие данные таблицы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990720"/>
          <a:ext cx="8610480" cy="173664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медицинских работников на </a:t>
                      </a: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омплексных врачебны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а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ов  1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ок 2.___________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сестер 3.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7"/>
          <p:cNvSpPr/>
          <p:nvPr/>
        </p:nvSpPr>
        <p:spPr>
          <a:xfrm>
            <a:off x="4572000" y="1905120"/>
            <a:ext cx="37339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заполняется, 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полнена строка 2 таблицы 11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914400"/>
          <a:ext cx="8763120" cy="5273640"/>
        </p:xfrm>
        <a:graphic>
          <a:graphicData uri="http://schemas.openxmlformats.org/drawingml/2006/table">
            <a:tbl>
              <a:tblPr/>
              <a:tblGrid>
                <a:gridCol w="2262240"/>
                <a:gridCol w="519120"/>
                <a:gridCol w="352440"/>
                <a:gridCol w="803160"/>
                <a:gridCol w="804960"/>
                <a:gridCol w="820800"/>
                <a:gridCol w="789120"/>
                <a:gridCol w="801720"/>
                <a:gridCol w="804600"/>
                <a:gridCol w="804960"/>
              </a:tblGrid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и фармацевтиче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лных лет по состоянию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и бол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организации здравоохранения (на должностях руководителей и их заместителе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038"/>
          <p:cNvSpPr/>
          <p:nvPr/>
        </p:nvSpPr>
        <p:spPr>
          <a:xfrm>
            <a:off x="3429000" y="2286000"/>
            <a:ext cx="54100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а строк по полу по должностям в таблице должны быть равны  соответствующим данным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имер, сумма строк 1+2 по графе 4 должна быть равна строке 1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раст работников берется по состоянию на конец отчетного (полных ле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40"/>
          <p:cNvSpPr/>
          <p:nvPr/>
        </p:nvSpPr>
        <p:spPr>
          <a:xfrm>
            <a:off x="3352680" y="5486400"/>
            <a:ext cx="55627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а строк 11 и 12 по графе 4 должна быть равна строке 127 +222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42"/>
          <p:cNvSpPr/>
          <p:nvPr/>
        </p:nvSpPr>
        <p:spPr>
          <a:xfrm>
            <a:off x="3429000" y="4648320"/>
            <a:ext cx="54100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а строк 3 и 4 по графе 4 должна быть равна строке 4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457200" y="19810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ы раздела включают сведения о работе врачей осуществляющих прием пациентов в амбулаторных условиях и на дому, а также консультативный пр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ем врачей (среднего медицинского персонала на самостоятельном приеме) отделений (кабинетов) платных услуг включаются во все таблицы раздела соответственно занимаемым долж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врачи-интерны ведут прием под руководством врача-специалиста и в его присутствии, то сведения о посещениях учитывают толь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троке,  соответствующей занимаемой должности врача-специал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учаях, когда интерны ведут самостоятельный прием пациентов, сведения показывают в строке 122 «прочие» независимо от специальности, по которой врач проходит интерна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т деятельности специалистов  вспомогательных отделений (кабинетов), лабораторий и других вышеуказанных подразделений соответствует требованиям  Общероссийскому классификатору единиц измерения (ОКЕИ), показывается один раз в соответствующих таблицах и учитывается в «единицах», «человеках», «исследованиях», «процедурах» и т.д. Двойной учет одного вида деятельности в разных таблицах не допус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у единиц измерения (ОКЕИ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 Постановлением Госстандарта России от 26.12.1994 N 366 (ред. от 28.03.201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осещ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ращ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это повод визита пациента в поликлинику. Цель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щение может состоять из одного или нескольких посещений пациента, в результате которых цель обращения достиг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ими жителя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ет понимать контингенты населения, постоянно проживающие в сельских населенных пунктах или сельских поселениях, расположенных в сельских муниципальных образованиях, а также в сельских населенных пунктах, входящих в состав городских поселений или городских о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ой местностью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имаются сельские поселения, а также сельские населенные пункты, входящие в состав городских поселений или городских окру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чень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(Реестр административно-территориальных единиц субъекта Российской Федерации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их сельских населенных пунктов на территории субъекта Российской Федерации определяется и утверждается исполнительным органом государственной власти субъекта Российской Федерации. Указанный Реестр можно найти на официальных сайтах органов исполнительной власти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0948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ме того, при заполнении ФФСН №30, следует иметь в ви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у подлежат следующие посе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 любых  специальностей,  ведущих прием в амбулаторных условиях,  в том числе  консультативный  прием  (терапевтов,  педиатров,  хирургов, акушеров-гинекологов, урологов и т.д., включая заведующих отделениями) в медицинских организациях и вне медицинских организаций  с ведением медицинской карты пациента, получающего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пунктов (отделений) неотложной медицинской помощи 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здравпунктов, цеховых терапевтов, акушеров-гинекологов и других, ведущих прием в амбулаторных условиях на  здравпунктах в часы, специально выделенные для амбулаторного при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  в   специально выделенные  дни для  приема 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при выездах в другие медицинские организации (районные больницы, участковые больницы, амбулатории, фельдшерско-акушерские пунк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психотерапевтов  при  проведении  групповых  занятий  (число посещений учитывается по числу пациентов, занимающихся в групп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стоматологов ,осуществляющих прием в стоматологических кабинетах в больничных организациях (госпитали, диспансеры, психиатрические и психоневрологические больницы, фтизиопульмонологические центры), а также санат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ачей-инфекционистов, проводящих подворные обходы  во  время вспышки  инфекционных  заболеваний,  осмотры  контактных  в  очаге (семье) инфекционного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илактические осмотры детей в детских дошкольных учреждениях, школах, профилактические осмотры  населения, включая периодические осмотры рабочих промышленных предприятий, работников других предприятий (учреждений), независимо от того, проведены ли они в стенах подразделения, оказывающего медицинскую помощь в амбулаторных условиях или непосредственно на предприятия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 учреждения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щения учитываются только при наличии соответствующей записи в медицинской карте пациента, получающего медицинскую помощь в амбулаторных условиях и заполненного талона пациента, получающего медицинскую помощь в амбулаторных услов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врачей медицинской организации в амбулато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6320" y="1066680"/>
          <a:ext cx="8839080" cy="5608800"/>
        </p:xfrm>
        <a:graphic>
          <a:graphicData uri="http://schemas.openxmlformats.org/drawingml/2006/table">
            <a:tbl>
              <a:tblPr/>
              <a:tblGrid>
                <a:gridCol w="1166760"/>
                <a:gridCol w="385560"/>
                <a:gridCol w="712800"/>
                <a:gridCol w="782640"/>
                <a:gridCol w="609840"/>
                <a:gridCol w="533160"/>
                <a:gridCol w="574920"/>
                <a:gridCol w="519120"/>
                <a:gridCol w="658800"/>
                <a:gridCol w="685800"/>
                <a:gridCol w="761760"/>
                <a:gridCol w="685800"/>
                <a:gridCol w="76212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зрослыми 18 лет и старш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 дет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ортопе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96"/>
          <p:cNvSpPr/>
          <p:nvPr/>
        </p:nvSpPr>
        <p:spPr>
          <a:xfrm>
            <a:off x="1828800" y="380988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у врачей-стоматологов, включая деятельность врачей-стоматологов передвижных установок и кабинетов в образовательных учреждениях,  показывают в таблице 2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ах с 86 по 90 соответственно занятым должностям. Деятельность стоматологов заполняется по всем граф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7"/>
          <p:cNvSpPr/>
          <p:nvPr/>
        </p:nvSpPr>
        <p:spPr>
          <a:xfrm>
            <a:off x="184680" y="735120"/>
            <a:ext cx="14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10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280" y="838080"/>
          <a:ext cx="8763120" cy="3946680"/>
        </p:xfrm>
        <a:graphic>
          <a:graphicData uri="http://schemas.openxmlformats.org/drawingml/2006/table">
            <a:tbl>
              <a:tblPr/>
              <a:tblGrid>
                <a:gridCol w="6248520"/>
                <a:gridCol w="878040"/>
                <a:gridCol w="163656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неотложной медицинской помощи на дому 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отделениях, кабине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ельскому населе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Rectangle 54"/>
          <p:cNvSpPr/>
          <p:nvPr/>
        </p:nvSpPr>
        <p:spPr>
          <a:xfrm>
            <a:off x="152280" y="4800600"/>
            <a:ext cx="8763120" cy="1752480"/>
          </a:xfrm>
          <a:prstGeom prst="rect">
            <a:avLst/>
          </a:prstGeom>
          <a:solidFill>
            <a:srgbClr val="cc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неотложной медицинской помощи на дому,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а также в отделениях и кабинетах неотложной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строки 4 выделяется число посещений, выполненных сельскими жител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строки 4 указываются посещения выполненные к взрослому населению, детскому нас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7315200" y="1981080"/>
            <a:ext cx="1523880" cy="1676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ск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е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население 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расте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 месяцев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280" y="838080"/>
          <a:ext cx="8686800" cy="16462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врачами пунктов неотложной медицинской помощи на дому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кабинетов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9 таблицы 2100):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(18 лет и старше) 1___, детьми (0-17 лет) 2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Включить посещения, выполненные к врачам отделений и кабинетов неотложной пом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Rectangle 12"/>
          <p:cNvSpPr/>
          <p:nvPr/>
        </p:nvSpPr>
        <p:spPr>
          <a:xfrm>
            <a:off x="152280" y="25146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 врачами пунктов неотложной медицинской помощи на дому, в том случае, если пункт неотложной помощи на дому организован в медицинской организации в соответствии с требованиями нормати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нкт  неотложной помощи  на дому является структурным подразделением поликлиники и организован для оказания медицинской помощи при внезапных острых заболеваниях, обострении хронических заболеваний, неопасных для жизни и не требующих экстренной медицинской 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атная численность персонала и режим работы пункта неотложной помощи на дому устанавливается руководителем медицинской организации в соответствии с положением о работе пунк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тложная помощь на дому осуществляется в течение не более 2 часов после поступления обращения больного или иного лица об оказании неотложной медицинской помощи на дому либо от работника станции скор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066680"/>
          <a:ext cx="8458200" cy="207324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914400"/>
                <a:gridCol w="1218960"/>
                <a:gridCol w="990720"/>
                <a:gridCol w="1143000"/>
              </a:tblGrid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ещения к врачам центров здоровья и комплексные об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гр.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гр.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(из табл. 2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мплексных обслед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41"/>
          <p:cNvSpPr/>
          <p:nvPr/>
        </p:nvSpPr>
        <p:spPr>
          <a:xfrm>
            <a:off x="380880" y="3581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строке 1 таблицы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, должны соответствовать отчету по форме №68 «Сведения о деятельности центров здоровья» за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1143000"/>
          <a:ext cx="8229600" cy="2332080"/>
        </p:xfrm>
        <a:graphic>
          <a:graphicData uri="http://schemas.openxmlformats.org/drawingml/2006/table">
            <a:tbl>
              <a:tblPr/>
              <a:tblGrid>
                <a:gridCol w="5751360"/>
                <a:gridCol w="1062000"/>
                <a:gridCol w="141624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сделано лицами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из табл. 2100, стр.1, гр. 3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поводу заболеван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2100, стр.1, гр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й врачами на дому всего (из табл. 2100, стр.1, гр. 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воду заболеван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2100, стр.1, гр. 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Rectangle 34"/>
          <p:cNvSpPr/>
          <p:nvPr/>
        </p:nvSpPr>
        <p:spPr>
          <a:xfrm>
            <a:off x="380880" y="38862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ываются посещения лиц старше трудоспособного возраста, то есть посещения женщин  возрасте 55 лет и старше и мужчин в возрасте 60 лет и старш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10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280" y="762120"/>
          <a:ext cx="8763120" cy="530532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 иными целями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127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1 должна </a:t>
            </a:r>
            <a:r>
              <a:rPr b="1" lang="ru-RU" sz="1400" spc="-1" strike="noStrike" u="sng">
                <a:solidFill>
                  <a:srgbClr val="990033"/>
                </a:solidFill>
                <a:uFillTx/>
                <a:latin typeface="Times New Roman"/>
              </a:rPr>
              <a:t>быть больш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ммы строк 2+3+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5 должна быть равна сумме строк с 6 по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28"/>
          <p:cNvSpPr/>
          <p:nvPr/>
        </p:nvSpPr>
        <p:spPr>
          <a:xfrm>
            <a:off x="4495680" y="1905120"/>
            <a:ext cx="449604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 посещениями сельских жителей следует понимать посещения контингентов, постоянно проживающих в сельских поселениях сельских муниципальных образований, а также сельских населенных пунктов, входящие в состав городских поселений или городских округов, обратившихся к врачам данной организации для получения помощи в амбулаторных услов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29"/>
          <p:cNvSpPr/>
          <p:nvPr/>
        </p:nvSpPr>
        <p:spPr>
          <a:xfrm>
            <a:off x="4495680" y="4876920"/>
            <a:ext cx="4419720" cy="990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30"/>
          <p:cNvSpPr/>
          <p:nvPr/>
        </p:nvSpPr>
        <p:spPr>
          <a:xfrm>
            <a:off x="152280" y="6095880"/>
            <a:ext cx="876312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графе 3 строка 1 должна быть равна сумме граф 7+8+11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графе 3 сумма строк 1+5 должна быть равна сумме граф 3+9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«в неотложной форм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дицинской помощи лицам, обратившимся с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знаками неотложных состоян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 внезапных острых заболеваниях, состояниях, обострении хронических заболеваний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опасных для жизни и не требующих экстренной медицинской помощ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ициативе врач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правило, активно наблюдаются пациенты с высокой температурой, гипертоническим кризом,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больного; динамика и сезонность заболеваний; возможность госпитализац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инамическое наблюд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едупреждения ослож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бострений заболева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33520" y="1066680"/>
          <a:ext cx="8381880" cy="140184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12"/>
          <p:cNvSpPr/>
          <p:nvPr/>
        </p:nvSpPr>
        <p:spPr>
          <a:xfrm>
            <a:off x="228600" y="274320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висимости от цели обращения подразделяются 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бращения по поводу заболеваний, травм, отравлений и некоторых друг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ствий воздействия внешних причин (коды A00 - T98 МКБ-1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бращения с профилактической целью (коды Z00 - Z99 МКБ-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1676520" y="1981080"/>
            <a:ext cx="6324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II.  ШТАТ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МЕДИЦИНСКОЙ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5715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стоматологического каби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2280" y="914400"/>
          <a:ext cx="8763120" cy="40924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16028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ectangle 70"/>
          <p:cNvSpPr/>
          <p:nvPr/>
        </p:nvSpPr>
        <p:spPr>
          <a:xfrm>
            <a:off x="152280" y="58672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1"/>
          <p:cNvSpPr/>
          <p:nvPr/>
        </p:nvSpPr>
        <p:spPr>
          <a:xfrm>
            <a:off x="4343400" y="2438280"/>
            <a:ext cx="45720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2"/>
          <p:cNvSpPr/>
          <p:nvPr/>
        </p:nvSpPr>
        <p:spPr>
          <a:xfrm>
            <a:off x="4343400" y="4419720"/>
            <a:ext cx="44956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73"/>
          <p:cNvSpPr/>
          <p:nvPr/>
        </p:nvSpPr>
        <p:spPr>
          <a:xfrm>
            <a:off x="152280" y="5029200"/>
            <a:ext cx="87631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больше суммы строк 4+5 по всем графам во всех медицинских организациях, оказывающих стоматологические услуги населению, за исключением детских стоматологических поликлиник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(разница на взрослы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74"/>
          <p:cNvSpPr/>
          <p:nvPr/>
        </p:nvSpPr>
        <p:spPr>
          <a:xfrm>
            <a:off x="228600" y="609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7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700 (продолжение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52280" y="990720"/>
          <a:ext cx="8763120" cy="3738600"/>
        </p:xfrm>
        <a:graphic>
          <a:graphicData uri="http://schemas.openxmlformats.org/drawingml/2006/table">
            <a:tbl>
              <a:tblPr/>
              <a:tblGrid>
                <a:gridCol w="1067040"/>
                <a:gridCol w="457200"/>
                <a:gridCol w="838080"/>
                <a:gridCol w="685800"/>
                <a:gridCol w="685800"/>
                <a:gridCol w="457200"/>
                <a:gridCol w="533520"/>
                <a:gridCol w="691920"/>
                <a:gridCol w="809640"/>
                <a:gridCol w="569880"/>
                <a:gridCol w="525600"/>
                <a:gridCol w="720720"/>
                <a:gridCol w="72072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80"/>
          <p:cNvSpPr/>
          <p:nvPr/>
        </p:nvSpPr>
        <p:spPr>
          <a:xfrm>
            <a:off x="1752480" y="3962520"/>
            <a:ext cx="70866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1"/>
          <p:cNvSpPr/>
          <p:nvPr/>
        </p:nvSpPr>
        <p:spPr>
          <a:xfrm>
            <a:off x="1752480" y="571500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5530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врачей - стоматологов 27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8"/>
          <p:cNvSpPr/>
          <p:nvPr/>
        </p:nvSpPr>
        <p:spPr>
          <a:xfrm>
            <a:off x="152280" y="56386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9"/>
          <p:cNvSpPr/>
          <p:nvPr/>
        </p:nvSpPr>
        <p:spPr>
          <a:xfrm>
            <a:off x="152280" y="4495680"/>
            <a:ext cx="876312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больше суммы строк 4+5 по всем графам во всех медицинских организациях, оказывающих стоматологические услуги населению, за исключением детских стоматологических поликлиник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(разница на взрослы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04920" y="990720"/>
          <a:ext cx="8381880" cy="3217680"/>
        </p:xfrm>
        <a:graphic>
          <a:graphicData uri="http://schemas.openxmlformats.org/drawingml/2006/table">
            <a:tbl>
              <a:tblPr/>
              <a:tblGrid>
                <a:gridCol w="4343400"/>
                <a:gridCol w="685800"/>
                <a:gridCol w="1971720"/>
                <a:gridCol w="138096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(из таблицы 2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ы из данного раздела включают сведения о должностях врачей, специалистов с высшим немедицинским образованием и среднего медицинского персонала, провизоров, фармацевтов, а также младшего (в соответствии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иказом Минздрава России от 20.12.2012 г. № 1183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и прочего персонала, а также о физических лицах всех работников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ие лица основных работников показываю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дин раз по основн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физические лица внешних совместителей не п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енних совместителей показывают как физические лица только один раз по основной занимаемой должности (занятые должности без указания физического 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аботник работает на неполную ставку и его трудовая книжка находится в медицинской организации, то его показывают как основного раб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если работник, помимо основной должности, занимает по совместительству часть штатной должности в одном из структурных подразделений организации, то занятая им должность по совместительству показывается по соответствующей строке, без указания физическ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04920" y="380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таты медицинской организации»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533520" y="45720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таты медицинской организации»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85800" y="1371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се 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медицинские организации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заполняют таблицы раздела в соответствии со штатным расписанием, утвержденным руководителем медицинской организации в установленном поряд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14400" y="304812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р.15 включить специалистов, имеющих свидетельство об аккредитации  (стоматологи, провизоры)  и указать их количество в пояснительной записк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ности и физические лица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1143000"/>
          <a:ext cx="8763120" cy="4741920"/>
        </p:xfrm>
        <a:graphic>
          <a:graphicData uri="http://schemas.openxmlformats.org/drawingml/2006/table">
            <a:tbl>
              <a:tblPr/>
              <a:tblGrid>
                <a:gridCol w="1371600"/>
                <a:gridCol w="304920"/>
                <a:gridCol w="838080"/>
                <a:gridCol w="762120"/>
                <a:gridCol w="766800"/>
                <a:gridCol w="631800"/>
                <a:gridCol w="677880"/>
                <a:gridCol w="614160"/>
                <a:gridCol w="966960"/>
                <a:gridCol w="914400"/>
                <a:gridCol w="914400"/>
              </a:tblGrid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96"/>
          <p:cNvSpPr/>
          <p:nvPr/>
        </p:nvSpPr>
        <p:spPr>
          <a:xfrm>
            <a:off x="2743200" y="3733920"/>
            <a:ext cx="624852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ой 3 и суммой граф 5 и 7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составля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штатные должности организаций особого типа, при э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такая организация имеет поликлинику , 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татны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и поликлиники показываются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е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штатные должности центров, станций и отделений скор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ой помощи, переливания крови, санаторно-курорт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ации,  молочные кухни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Аналогично для граф по занятым должностям и физическ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лиц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9"/>
          <p:cNvSpPr/>
          <p:nvPr/>
        </p:nvSpPr>
        <p:spPr>
          <a:xfrm>
            <a:off x="268200" y="8380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 и физические лица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таблица 1100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990720"/>
          <a:ext cx="8839440" cy="5303880"/>
        </p:xfrm>
        <a:graphic>
          <a:graphicData uri="http://schemas.openxmlformats.org/drawingml/2006/table">
            <a:tbl>
              <a:tblPr/>
              <a:tblGrid>
                <a:gridCol w="1503360"/>
                <a:gridCol w="406440"/>
                <a:gridCol w="833400"/>
                <a:gridCol w="752760"/>
                <a:gridCol w="752400"/>
                <a:gridCol w="750960"/>
                <a:gridCol w="771480"/>
                <a:gridCol w="750600"/>
                <a:gridCol w="793800"/>
                <a:gridCol w="68580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611"/>
          <p:cNvSpPr/>
          <p:nvPr/>
        </p:nvSpPr>
        <p:spPr>
          <a:xfrm>
            <a:off x="2133720" y="4114800"/>
            <a:ext cx="67816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13"/>
          <p:cNvSpPr/>
          <p:nvPr/>
        </p:nvSpPr>
        <p:spPr>
          <a:xfrm>
            <a:off x="2133720" y="5486400"/>
            <a:ext cx="678168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лавный врач, заместитель главного врача больничной организации и общебольничный персонал показываются из граф 3, 4, 9 по графам 7, 8,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d.nesvetaylo</cp:lastModifiedBy>
  <dcterms:modified xsi:type="dcterms:W3CDTF">2016-12-14T06:17:08Z</dcterms:modified>
  <cp:revision>6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